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C5F5B-5E00-4C55-A91A-D24D8130A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36333-1A0A-4E84-B9A5-C10862CD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ACD3B-DB1C-4AB8-BD72-DC44F071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5ABE3-0EBC-43CC-9321-25D90E2E3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7F73-E314-4D09-90B5-A65D58FE7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331A-C990-4C51-ABE8-85DC8F8B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1286-6A70-4DA0-AE1B-84C2C8FD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0E2C-2AF5-4D8C-B8CE-974521BC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9940-3812-4D2B-B548-096F164F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96FA-EF75-4F8E-B4E5-BB6868BA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872A-C282-46CD-8DB0-A2B53BB5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87A05-546C-40E7-B492-90B7B72A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636C-E713-4785-900E-B050010F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225D-F3B2-4758-8DB2-572FCA39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0611-C5E3-44E5-BDEB-A1B3E80E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DEEB-B106-4059-A2EF-DC8BDB018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2BE8-2994-4294-B4A1-222E6290D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C0139-85F4-4F4B-ABE0-D725F65A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7F6E0-86C3-4FD0-8F4B-1DA2750C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099D0-2AD4-4CEB-846A-41477214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1CE4E-8AF1-4EC9-9567-70CFDDA3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E2ABF-BE63-486D-B85A-A924885A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40D6F-28EF-429C-93F5-5361DA69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B50CD-2C36-4189-9FE7-030D1373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0682-DF7C-4C3B-A945-682B88BF32B1}" type="slidenum">
              <a:rPr b="0" lang="es-MX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9106-0976-443A-9D0F-46568B4CEEC2}" type="slidenum">
              <a:rPr b="0" lang="es-MX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med.unne.edu.ar/catedras/bioquimica/receptor/image027.jpg&amp;imgrefurl=http://med.unne.edu.ar/catedras/bioquimica/receptor/receptor5.htm&amp;usg=__IOwJvUytgk8XTaCJuuMVx2vB8UE=&amp;h=339&amp;w=378&amp;sz=25&amp;hl=es&amp;start=1&amp;tbnid=ihWxkWV-LB9z5M:&amp;tbnh=109&amp;tbnw=122&amp;prev=/images%3Fq%3DReceptores%2Bde%2Binsulina%26gbv%3D2%26hl%3Des%26sa%3D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Paradigmas de Investigación científica; ¿Cuantitativa v/s Cualitativa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Gonzalo Rojas Alcayag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Que distingue a la metodología cualitativ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finir un constructo, saber bajo que condiciones opera. Ej: Salud Bu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lo metodológico: “Diseño emergent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observador es  parte de lo observado dado su condicionamiento histórico y sociocultu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udiar la variación, la heterogeneidad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ase Epistemológ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seres humanos no se relacionan con la realidad en forma directa, sino a través de interpretaciones de 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as interpretaciones son construidas social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personas “deciden lo que hacen” considerando esas interpret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; las barras bravas, conductas sexuales de riesgo, el miedo al dent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tapas de una investigación cualita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flexión y preparación del proyec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trada y realización del ca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alida, análisis final y presentación del infor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uestreo en Metodología Cualita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 contextos relevantes al problema de investig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vers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cce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tencion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écnicas; casos típicos,bola de nie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Principio de saturación o redunda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uestreo teórico; secuencial conceptualmente constru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strateg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vestigación docu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udio de caso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tnograf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sos biográ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riangu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écnicas de recogida de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ectura de docu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bservación Particip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nversa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trevista en profund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trevista biográf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trevista en gru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bservación Particip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rategia de campo que combina simultáneamente el análisis de documentos, la entrevista a sujetos e informantes, la participación y observación directa, y la introspec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investigador se “implica” en el fenómeno estudiado. Ej: el investigador participa como paciente para estudiar la relación dentista pac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inuo del proceso de 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42920" y="2133720"/>
            <a:ext cx="1944720" cy="1008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2205000"/>
            <a:ext cx="1944720" cy="1008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35280" y="2565360"/>
            <a:ext cx="1656000" cy="360360"/>
          </a:xfrm>
          <a:prstGeom prst="leftRightArrow">
            <a:avLst>
              <a:gd name="adj1" fmla="val 50000"/>
              <a:gd name="adj2" fmla="val 9148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16000" y="2276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leto particip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234936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leto observ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3860640"/>
            <a:ext cx="1873440" cy="194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16000" y="4005360"/>
            <a:ext cx="1584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cultación de la actividad de observa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to grado de impl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3860640"/>
            <a:ext cx="1873440" cy="194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96000" y="3860640"/>
            <a:ext cx="18730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velación de la actividad de observa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to grado de distanci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plicación de la 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sabe poco sobre los fenóme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randes diferencias entre puntos de vistas entre el miembro y el aje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enómenos ocultados a la luz públ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ntrevista en profund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usca la riqueza del fenómeno estudi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versación ordinaria o inf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versación prolong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tiene pregu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versación regida por reg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796000" y="4581360"/>
            <a:ext cx="28573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Qué define a la investigación científ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tód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sim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trol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mpí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damento teórico (Relaciona ide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usca leyes univers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diciones de la entrev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pectativas explícitas; “hablar” y “escuchar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entrevistador estimula el hablar del entrevis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entrevistador no contradice, mas bien precisa y aclara concep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entrevistador organiza y mantiene la entrev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ipos de entrev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trevista no estructu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trevista semiestructu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trevista estructu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Usos de la entrevista en profund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quiero obtener gran riqueza informat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información a entregar es íntima, muy confiden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ando tengo “casos extremo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ando tengo poca información del problema a estudi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Grupos de Discu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rupo focaliza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pósito explor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cenarios for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oderación dirig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focus-group-on-students-mobility22"/>
          <p:cNvPicPr/>
          <p:nvPr/>
        </p:nvPicPr>
        <p:blipFill>
          <a:blip r:embed="rId1"/>
          <a:stretch/>
        </p:blipFill>
        <p:spPr>
          <a:xfrm>
            <a:off x="4572000" y="3836880"/>
            <a:ext cx="361008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Grupos de Discu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luvia de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ntido explor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usca la creativ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cenarios formales o nat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oderador pas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Grupos de Discu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rupos Delp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rupo sin interacción directa de sus integr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trevistas individuales en las que posteriormente se comparten las opiniones vertidas por los otros integrantes del gru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cenario o contexto f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oderador dire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til para generar pronósticos de tendencias en base a opinión de exper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nálisis de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variado y poco estandariz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o cuantifi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uscan conceptos, signific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sentación de resultados; Investigación en percepción de enfermedad en pacientes con 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tacan la actitud del médico como un determinante importante en el desarrollo de adherencia a tratamiento, ya que actúa en calidad de informante y procurador de seguridad a las pacientes.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 11 años nadie me había examinado como el doctor (médico actual), huesito por huesito. Me miraban las manos deformadas y me decían tómese esto y esto otro. ¡Ahora si me dan ganas de seguir lo que me dicen!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i los médicos pasaran a dar siquiera una palabra a sus enfermos… yo estaba hospitalizada y me subía y me bajaba la presión. ¡Los nervios! Si nadie me decía nada ¿Qué me pasaba?” (paciente que relató dificultades para aceptar la enfermedad y el tratamien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ÁLISIS CUALITATIVO DE CALIDAD DE VIDA EN MUJERES CON XEROSTO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Una de las mayores añoranzas es tener una adecuada cantidad de sali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mi sueño es volver a escupir o a llorar y con hartas lágrima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…(2-1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daría el oro del mundo con tal de tener un poquito más de humedad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(en la boca)… (23-2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 I 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l fondo cartesiano de la investigación científ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vestigar es med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investigación cuantitativa trata en definitiva de asignar un número a un fenóme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realidad como un hecho independiente y 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48320" y="198072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435640" y="2565360"/>
            <a:ext cx="24382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uando hacer investigación científica cuantitativa o cualitativ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depende del objeto de e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pende de la dimensión del problema que queramos abord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jemplo; La adherencia a tratamiento en enfermedad periodo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788000" y="5805360"/>
            <a:ext cx="295272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5805360"/>
            <a:ext cx="295272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xplicar y Compre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úmero de veces que se cepilla los d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o o no uso de colutorios antisép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recuencia y dosis de antimicrobianos indi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sistencia a controles clí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arreras y facilitadores para asistir a control d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pectativas del trat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cepción de beneficios y riesgos de la terap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lidad de vida en relación a enfermedad periodo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5805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firmar Hipó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03640" y="5805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enerar Hipó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Cuantitativa v/s Cualitativ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mbas corresponden a procesos de investigación científ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mbas tienen un proceso de desarrollo con las mismas f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finición del probl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seño del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gida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nálisis de los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alidaciónde los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716360" y="2349360"/>
            <a:ext cx="38401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Historia de la Investigación Cualitativa en la Facult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640" y="2491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003;  100% Cuantit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008;   99,9% Cuantit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009:   95 %  Cuantitav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or qué emerge la cualitativa en la investigación en salud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mbio de paradigma en la comprensión de la salu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58920" y="5084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omé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5229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opsico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3573360"/>
            <a:ext cx="1511280" cy="1351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508720" y="3645000"/>
            <a:ext cx="2085840" cy="13809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132000" y="4221000"/>
            <a:ext cx="1656000" cy="360360"/>
          </a:xfrm>
          <a:custGeom>
            <a:avLst/>
            <a:gdLst>
              <a:gd name="textAreaLeft" fmla="*/ 258480 w 1656000"/>
              <a:gd name="textAreaRight" fmla="*/ 1449000 w 16560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etodología Cualitativa; ¿Es una metodología nuev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63640" y="2565360"/>
            <a:ext cx="49802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5T22:04:47Z</dcterms:created>
  <dc:creator>Gonzalo Rojas</dc:creator>
  <dc:description/>
  <dc:language>en-US</dc:language>
  <cp:lastModifiedBy>Facultad de Odontologia</cp:lastModifiedBy>
  <dcterms:modified xsi:type="dcterms:W3CDTF">2010-08-04T16:30:08Z</dcterms:modified>
  <cp:revision>35</cp:revision>
  <dc:subject/>
  <dc:title>Diapositiva 1</dc:title>
</cp:coreProperties>
</file>