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8D79-6D0A-48FA-9E63-9E048BC8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A730-D228-4B21-9206-D5E03268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3791-963A-4B03-A38E-F2F10732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2EE9-0C01-4F30-884C-C298E6D3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7253-3536-4AAB-AEAC-41F714FD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EA92-A949-4162-B891-977A07AE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377E-BFB4-4A99-A37D-EDE7EBE7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A127-4FF0-4028-A5CD-EE46ADA3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9F89-7087-4FB8-AB8B-E8F2EA2A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D67D-AFF2-4E4A-865B-9115F1F1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8757-45DD-4202-BE84-612F9442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5536-9B89-46BC-8794-B958B282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8B2E-3240-45D4-ABF7-FE88235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D319-F38D-4E95-B61E-64B3FE19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5569-4A1C-4FEE-8AEB-A1DA5ECA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A2B9-1BC9-4E36-9CFA-27929D47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B135-58D2-463E-A348-89DD7C52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FD4D-7347-4B28-BA42-F633D26E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E283-CABF-42F7-AC1A-838B0213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81CA-05DC-455A-8421-AC8508D8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9F35-88E8-4098-8CA8-EE2AB7CD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AC8F-CFEA-470F-9E21-52239CE2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72C4-CEB4-4763-B44E-931CF319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EA80-E4C8-483B-98C8-A929A052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3614-0546-4149-8623-4FB7A661753C}" type="slidenum">
              <a:rPr b="0" lang="es-MX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B81-4163-4E40-BD2A-FFA4D2908A42}" type="slidenum">
              <a:rPr b="0" lang="es-MX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med.unne.edu.ar/catedras/bioquimica/receptor/image027.jpg&amp;imgrefurl=http://med.unne.edu.ar/catedras/bioquimica/receptor/receptor5.htm&amp;usg=__IOwJvUytgk8XTaCJuuMVx2vB8UE=&amp;h=339&amp;w=378&amp;sz=25&amp;hl=es&amp;start=1&amp;tbnid=ihWxkWV-LB9z5M:&amp;tbnh=109&amp;tbnw=122&amp;prev=/images%3Fq%3DReceptores%2Bde%2Binsulina%26gbv%3D2%26hl%3Des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Paradigmas de Investigación científica; ¿Cuantitativa v/s Cualitativ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Gonzalo Rojas Alcayag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Que distingue a la metodología cualitati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r un constructo, saber bajo que condiciones opera. Ej: Salud Bu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o metodológico: “Diseño emerg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observador es  parte de lo observado dado su condicionamiento histórico y sociocul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r la variación, la heterogeneidad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ase Epistemo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seres humanos no se relacionan con la realidad en forma directa, sino a través de interpretaciones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s interpretaciones son construidas soci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personas “deciden lo que hacen” considerando esas interpret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; las barras bravas, conductas sexuales de riesgo, el miedo al dent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tapas de una investigación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flexión y preparación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ada y realización del ca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ida, análisis final y presentación del in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estreo en Metodología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 contextos relevantes al problema de investig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n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écnicas; casos típicos,bola de n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rincipio de saturación o redund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estreo teórico; secuencial conceptualmente constru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ocu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udio de caso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tn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os bio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ian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s de recogida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ctura de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bservación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vers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vista en profund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vista biográ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vista en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ón Particip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de campo que combina simultáneamente el análisis de documentos, la entrevista a sujetos e informantes, la participación y observación directa, y la introsp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nvestigador se “implica” en el fenómeno estudiado. Ej: el investigador participa como paciente para estudiar la relación dentista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inuo del proceso de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133720"/>
            <a:ext cx="19447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205000"/>
            <a:ext cx="19447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565360"/>
            <a:ext cx="1656000" cy="360360"/>
          </a:xfrm>
          <a:prstGeom prst="leftRightArrow">
            <a:avLst>
              <a:gd name="adj1" fmla="val 50000"/>
              <a:gd name="adj2" fmla="val 914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27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to partici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349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to obser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860640"/>
            <a:ext cx="1873440" cy="19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005360"/>
            <a:ext cx="158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cultación de la actividad de observ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 grado de im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860640"/>
            <a:ext cx="1873440" cy="19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3860640"/>
            <a:ext cx="187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elación de la actividad de observ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 grado de dist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de la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abe poco sobre los fenóm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ndes diferencias entre puntos de vistas entre el miembro y el aj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enómenos ocultados a la luz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en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sca la riqueza del fenómeno estud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rsación ordinaria o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rsación prolon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iene 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rsación regida por reg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96000" y="4581360"/>
            <a:ext cx="2857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é define a la investigación científ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tó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si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ol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í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damento teórico (Relaciona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sca leyes univer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diciones de la ent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ectativas explícitas; “hablar” y “escuch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ntrevistador estimula el hablar del entrevi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ntrevistador no contradice, mas bien precisa y aclara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ntrevistador organiza y mantiene la entre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ent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vista no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vista semi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vista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Usos de la entrevista en profund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quiero obtener gran riqueza inform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información a entregar es íntima, muy confid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tengo “casos extrem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tengo poca información del problema a estud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de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upo focaliz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pósito expl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enarios for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ración dirig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focus-group-on-students-mobility22"/>
          <p:cNvPicPr/>
          <p:nvPr/>
        </p:nvPicPr>
        <p:blipFill>
          <a:blip r:embed="rId1"/>
          <a:stretch/>
        </p:blipFill>
        <p:spPr>
          <a:xfrm>
            <a:off x="4572000" y="3836880"/>
            <a:ext cx="36100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de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luvia d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ntido expl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sca la crea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enarios formales o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rador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de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lp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sin interacción directa de sus integr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s individuales en las que posteriormente se comparten las opiniones vertidas por los otros integrantes del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enario o contexto 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derador dir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 para generar pronósticos de tendencias en base a opinión de expe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variado y poco estandariz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cuantif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uscan conceptos, signific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ción de resultados; Investigación en percepción de enfermedad en pacientes con 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tacan la actitud del médico como un determinante importante en el desarrollo de adherencia a tratamiento, ya que actúa en calidad de informante y procurador de seguridad a las pacientes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11 años nadie me había examinado como el doctor (médico actual), huesito por huesito. Me miraban las manos deformadas y me decían tómese esto y esto otro. ¡Ahora si me dan ganas de seguir lo que me dicen!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los médicos pasaran a dar siquiera una palabra a sus enfermos… yo estaba hospitalizada y me subía y me bajaba la presión. ¡Los nervios! Si nadie me decía nada ¿Qué me pasaba?” (paciente que relató dificultades para aceptar la enfermedad y el tratami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CUALITATIVO DE CALIDAD DE VIDA EN MUJERES CON XEROST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a de las mayores añoranzas es tener una adecuada cantidad de sal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i sueño es volver a escupir o a llorar y con hartas lágrim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(2-1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daría el oro del mundo con tal de tener un poquito más de hume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en la boca)… (23-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 I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fondo cartesiano de la investigación cient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stigar es m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investigación cuantitativa trata en definitiva de asignar un número a un fenóm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realidad como un hecho independiente y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24382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uando hacer investigación científica cuantitativa o cualitati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depende del objeto de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pende de la dimensión del problema que queramos abord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; La adherencia a tratamiento en enfermedad periodo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788000" y="5805360"/>
            <a:ext cx="2952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805360"/>
            <a:ext cx="2952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xplicar y Com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veces que se cepilla los d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o no uso de colutorios antisép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ecuencia y dosis de antimicrobianos ind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stencia a controles clí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rreras y facilitadores para asistir a control 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pectativas del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cepción de beneficios y riesgos de la tera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idad de vida en relación a enfermedad periodo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580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firmar Hipó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580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nerar Hipó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Cuantitativa v/s Cualit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mbas corresponden a procesos de investigación cientí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mbas tienen un proceso de desarrollo con las mismas f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gid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álisis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alidación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istoria de la Investigación Cualitativa en la Facu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03;  100% Cuanti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08;   99,9% Cuanti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09:   95 %  Cuantita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r qué emerge la cualitativa en la investigación en salu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 de paradigma en la comprensión de la sal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508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mé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22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psico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573360"/>
            <a:ext cx="1511280" cy="135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08720" y="3645000"/>
            <a:ext cx="2085840" cy="138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32000" y="4221000"/>
            <a:ext cx="1656000" cy="360360"/>
          </a:xfrm>
          <a:custGeom>
            <a:avLst/>
            <a:gdLst>
              <a:gd name="textAreaLeft" fmla="*/ 258480 w 1656000"/>
              <a:gd name="textAreaRight" fmla="*/ 1449000 w 1656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todología Cualitativa; ¿Es una metodología nue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49802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22:04:47Z</dcterms:created>
  <dc:creator>Gonzalo Rojas</dc:creator>
  <dc:description/>
  <dc:language>en-US</dc:language>
  <cp:lastModifiedBy>Facultad de Odontologia</cp:lastModifiedBy>
  <dcterms:modified xsi:type="dcterms:W3CDTF">2010-08-04T16:30:08Z</dcterms:modified>
  <cp:revision>35</cp:revision>
  <dc:subject/>
  <dc:title>Diapositiva 1</dc:title>
</cp:coreProperties>
</file>