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FB0-BF41-473D-9330-0814BE81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4B5-E356-4556-BA1E-9BE74845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D75-FAB3-4243-AFBB-484A09A3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B61-F0D3-45C5-B99C-D0111FEC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2AB6-3D6E-47C9-B43D-730F74D1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5A57-A9C1-4BF3-A4EE-A0220EE7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2CD6-30EA-4A2C-A21B-00EAB941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EFC5-A0F5-4410-86D3-81BEFC2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FA19-B332-46BC-8FE2-58BD09F2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1770-B1E4-452F-A55E-9E0DD180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74ED-270A-4871-A314-236492E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158-9B28-4AD5-B77E-2FE4FB98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BDA8-51AC-4DE3-8DB8-047FDD5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9512-DC19-401D-9FC4-2AC51FB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CE74-16FD-4D0B-B8D8-A2135BF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8281-2A93-41C3-A1B5-EA9F3445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E2D5-B934-4519-9226-69BF1BAE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EBE-DAB5-45D1-B044-941CF7A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61B-48A7-46D0-B361-564CDCC4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60D-186F-4211-9807-F4001E0D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904-EBE0-4A14-AEB0-5A9AD79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212-3870-4DC1-B762-359707E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A22-6755-45CD-B03C-279EF2B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986-FCA0-4FF0-B5F1-F6F23E1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30E1-E434-4067-AC4C-00AD7F9FFC13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282-22F9-45B7-A634-7CCFAA3E946E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66"/>
                </a:solidFill>
                <a:latin typeface="Arial"/>
              </a:rPr>
              <a:t>Bases epistemológicas de la investigación científ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. Dr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Confirmación (criterio de  Nicod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“p” es “q”, (Px    Qx), “todos los cuervos son negros”, “el tabaco produce cáncer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confirmadora; Pa*Qa, encuentro un cuervo negro, demuestro un caso de cáncer pulmonar en un paciente fum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desconfirmadora; Pa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, encuentro un cuervo blanco, encuentro un caso de fumador sin cancer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06064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s paradoj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ógicamente hablando, Pa*Qa es equivalente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 *~Pa, por lo cual el descubrimiento de un canario amarillo es una instancia confirmadora de que todos los cuervos son negros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o que el descubrimiento de una persona sin cáncer y que no fuma es una instancia confirmadora de que el tabaco produce cá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nstancias confirmador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uales serían instancias confirmadoras de las hipóte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tabaco produce cá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S.mutans producen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experiencia puede confirmar las proposiciones científicas en el sentido de mostrar que so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probabl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 (Popp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queda de criterios para distinguir Ciencia de Pseudo-ciencia (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Demarca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ne una lógica deductiva (contraria al empir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científica sólo si puede ser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falsead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por la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basta una sola instancia falsadora para rechazar un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 una hipótesis para ser científica debe generar por deducción una instancia que la desconfi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instancia podría demostrar que la hipótesis “El S.Mutans produce caries” es fal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, ¿Cuándo confirmamos la hipótesis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structiv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existen hechos puros que nos permitan inducir una teoría, por el contrario es el conocimiento y las creencias las que determinan que hechos son observ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observación científica está “teóricamente cargada” (Hans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330066"/>
                </a:solidFill>
                <a:latin typeface="Arial"/>
              </a:rPr>
              <a:t>Cual es el problema en investigación en ciencias médica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nca podemos estar seguro si la relación de hechos es real o es una disto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los hechos son “diagnósticos” y “tratamient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; un tratamiento es efectivo para el 68% de los enfermos de “X” enfermedad y uno alternativo (más económico) es efectiv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l 52% de los enfer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el 64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el 39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eoría y Percep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ercepción es significativa cuando el objeto es identificado y por lo tanto la percepción está conceptualmente car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 no veo objeto alguno identificable, no veo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observación para que se constituya en conocimiento debe estar relacionada a un cuerpo de infor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lo tanto el que tiene información podrá “ver” que ha acontecido un fenómeno extra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33960" cy="45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naturaleza del descubrimiento científico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información que disponga determina lo que obser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ambio del marco teórico es la verdadera actividad cientí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ento a las irregular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r qué tener que estudiar est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ienci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s una forma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o nos permit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flexiona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obre nuestro modo de conocer la realidad y por lo tanto darle a esta u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arácter relativ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rle un carácter absoluto es perder la posibilidad de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actividad creativa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de 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 autonomía del pensamient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44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138320"/>
            <a:ext cx="414324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2728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 re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ntología: Rama de la filosofía que estudia las características más generales de la realidad (existencia real, el cambio, el tiempo, la vid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pistemología: Estudio de la cognición y el conocimiento. Cómo se cono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ocimiento común y cientí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ómo se organiza: Las pro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tendencia humana a regulariza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iencia pretende establecer regularidades entre los hechos, para así explicar, predecir y modificar fenómenos. Generar l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son especulaciones respecto al mundo real. ¿Dónde está la ley de grave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gunas ciencias más exactas que otr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y teorí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Dos preguntas fundamentales para el desarrollo del cono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significati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verdadera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scuelas Epistemológ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 lóg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sacion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ruc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Clásico (Hum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conocimiento se funda en la experiencia, en las sensaciones o impres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mpresiones e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deas y hech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gnificatividad y veracidad de una pro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significativa si los términos corresponden a una id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estiones de hecho; se verifica si la idea ocurre en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: El fuego qu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sitivismo Lógico </a:t>
            </a:r>
            <a:br>
              <a:rPr sz="3500"/>
            </a:b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(círculo de Viena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oría verificacionista del signif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y solo si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uede ser verificada empíric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verdadera cuando corresponde a un he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valor de verdad es determinado de una vez y para siempre (ley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Lógico (Carna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es susceptible de ser contrastada por referencia a la observ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onfirmación de una proposición científica es gradualmente cre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a central es la relación de confirmación que se da entre una ley científica y los enunciados de observación que la confirman o desconfir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42:52Z</dcterms:created>
  <dc:creator>Gonzalo Rojas</dc:creator>
  <dc:description/>
  <dc:language>en-US</dc:language>
  <cp:lastModifiedBy>Facultad de Odontologia</cp:lastModifiedBy>
  <dcterms:modified xsi:type="dcterms:W3CDTF">2010-08-04T16:25:53Z</dcterms:modified>
  <cp:revision>33</cp:revision>
  <dc:subject/>
  <dc:title>Bases epistemológicas de la investigación científica</dc:title>
</cp:coreProperties>
</file>