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673-2A92-4ECB-BF66-C929B984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F19-635A-42F8-AAEA-03BFC915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E88-7AE3-4DC0-9FC0-EA03D838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5CB-8FDB-49DA-999A-8968686E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6AE8-96A4-4282-85FB-7C779F53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5051-0C0E-4296-A991-3ED50567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D1D0-8D3F-42FC-A5A4-2D7E8DED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BB3A-94E9-4882-A386-A30292DC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7D43-E1F8-41F5-8226-145DE89A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9451-B2D5-4DCC-8FC9-7E88CE11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F843-61F6-4B1B-AD0A-F04F8D22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E80-3569-4678-82B7-5F0AA935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6FBE-B743-4672-BCF7-9BB95BB6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9A03-9EAA-4D61-B337-BB0B8E32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BABC-F27D-44C7-AD23-239939D7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E18E-B4A6-4F25-9544-C4574E91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2457-BC6C-453B-98E1-44F4B596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F00-0101-44DC-A586-80EE32BE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238-3CAD-431C-94BD-0CC7AFA0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B61-2C2C-4A24-A9F2-1562348D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A9A-10AD-46F9-A27E-10F667B0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4F14-F1D9-460A-8844-609419C9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8A7-4F16-4FA5-8BBB-C6D22C11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A65-88E2-4FFA-B281-4D886BAD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82D3-643C-4138-A040-79A347918471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C4EE-FBFD-4B1B-8F23-27EAB7962A89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0066"/>
                </a:solidFill>
                <a:latin typeface="Arial"/>
              </a:rPr>
              <a:t>Bases epistemológicas de la investigación científ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f. Dr Gonzalo Rojas Alcay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Confirmación (criterio de  Nicod)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do “p” es “q”, (Px    Qx), “todos los cuervos son negros”, “el tabaco produce cáncer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stancia confirmadora; Pa*Qa, encuentro un cuervo negro, demuestro un caso de cáncer pulmonar en un paciente fum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stancia desconfirmadora; Pa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~Qa, encuentro un cuervo blanco, encuentro un caso de fumador sin cancer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2060640"/>
            <a:ext cx="287280" cy="144360"/>
          </a:xfrm>
          <a:custGeom>
            <a:avLst/>
            <a:gdLst>
              <a:gd name="textAreaLeft" fmla="*/ 0 w 287280"/>
              <a:gd name="textAreaRight" fmla="*/ 287640 w 2872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Las paradoj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ógicamente hablando, Pa*Qa es equivalente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~Qa *~Pa, por lo cual el descubrimiento de un canario amarillo es una instancia confirmadora de que todos los cuervos son negros,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o que el descubrimiento de una persona sin cáncer y que no fuma es una instancia confirmadora de que el tabaco produce cánc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Instancias confirmador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uales serían instancias confirmadoras de las hipótesi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tabaco produce cán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S.mutans producen c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experiencia puede confirmar las proposiciones científicas en el sentido de mostrar que son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probable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Falsacionismo (Popper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squeda de criterios para distinguir Ciencia de Pseudo-ciencia (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Demarcación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pone una lógica deductiva (contraria al empirism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es científica sólo si puede ser 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falsead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por la experi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Y basta una sola instancia falsadora para rechazar un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Falsacionism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onces una hipótesis para ser científica debe generar por deducción una instancia que la desconfir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Que instancia podría demostrar que la hipótesis “El S.Mutans produce caries” es fals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onces, ¿Cuándo confirmamos la hipótesis?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onstructivism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o existen hechos puros que nos permitan inducir una teoría, por el contrario es el conocimiento y las creencias las que determinan que hechos son observ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observación científica está “teóricamente cargada” (Hanso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330066"/>
                </a:solidFill>
                <a:latin typeface="Arial"/>
              </a:rPr>
              <a:t>Cual es el problema en investigación en ciencias médicas?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unca podemos estar seguro si la relación de hechos es real o es una disto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ste caso los hechos son “diagnósticos” y “tratamient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; un tratamiento es efectivo para el 68% de los enfermos de “X” enfermedad y uno alternativo (más económico) es efectivo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) el 52% de los enfer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) el 64% de los enfer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) el 39% de los enfer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Teoría y Percep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ercepción es significativa cuando el objeto es identificado y por lo tanto la percepción está conceptualmente carg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 no veo objeto alguno identificable, no veo n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observación para que se constituya en conocimiento debe estar relacionada a un cuerpo de inform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or lo tanto el que tiene información podrá “ver” que ha acontecido un fenómeno extra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033960" cy="452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naturaleza del descubrimiento científico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información que disponga determina lo que observ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cambio del marco teórico es la verdadera actividad científ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tento a las irregular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Por qué tener que estudiar esto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ienci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es una forma d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onoce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real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o nos permit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reflexiona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sobre nuestro modo de conocer la realidad y por lo tanto darle a esta un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arácter relativ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rle un carácter absoluto es perder la posibilidad de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actividad creativa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y de la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 autonomía del pensamient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446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19280" y="1138320"/>
            <a:ext cx="4143240" cy="3214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627280" y="494172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F I 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La realid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ntología: Rama de la filosofía que estudia las características más generales de la realidad (existencia real, el cambio, el tiempo, la vida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pistemología: Estudio de la cognición y el conocimiento. Cómo se cono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ocimiento común y científ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ómo se organiza: Las propos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tendencia humana a regulariza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ciencia pretende establecer regularidades entre los hechos, para así explicar, predecir y modificar fenómenos. Generar ley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yes son especulaciones respecto al mundo real. ¿Dónde está la ley de graveda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gunas ciencias más exactas que otr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yes y teorí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Dos preguntas fundamentales para el desarrollo del cono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é proposiciones son significativ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é proposiciones son verdadera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scuelas Epistemológ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mpir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sitiv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mpirismo lógic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alsacion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tructiv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mpirismo Clásico (Hum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do conocimiento se funda en la experiencia, en las sensaciones o impres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mpresiones e id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deas y hech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gnificatividad y veracidad de una proposi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 significativa si los términos corresponden a una id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uestiones de hecho; se verifica si la idea ocurre en la reali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j: El fuego qu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Positivismo Lógico </a:t>
            </a:r>
            <a:br>
              <a:rPr sz="3500"/>
            </a:b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(círculo de Viena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oría verificacionista del signif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tiene significado si y solo si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puede ser verificada empíric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es verdadera cuando corresponde a un hech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valor de verdad es determinado de una vez y para siempre (ley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mpirismo Lógico (Carna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tiene significado si es susceptible de ser contrastada por referencia a la observ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confirmación de una proposición científica es gradualmente creci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ma central es la relación de confirmación que se da entre una ley científica y los enunciados de observación que la confirman o desconfirm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2:42:52Z</dcterms:created>
  <dc:creator>Gonzalo Rojas</dc:creator>
  <dc:description/>
  <dc:language>en-US</dc:language>
  <cp:lastModifiedBy>Facultad de Odontologia</cp:lastModifiedBy>
  <dcterms:modified xsi:type="dcterms:W3CDTF">2010-08-04T16:25:53Z</dcterms:modified>
  <cp:revision>33</cp:revision>
  <dc:subject/>
  <dc:title>Bases epistemológicas de la investigación científica</dc:title>
</cp:coreProperties>
</file>