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CBE-318E-493B-B9C1-A59DECBD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7A2-6A91-4BCE-9E73-7BF0835D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ECE-AD1B-42FA-9F5C-A0EF8EB4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434-2C5F-465C-9D7C-25D0DEDB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A70D-AADB-4CD1-9D65-9B9854BB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7476-CD8E-490D-803C-13B28DC0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C6E-2C25-4204-817F-08C519CF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7167-017F-40FF-9935-1F46EE76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2245-757B-404D-AF24-5D73D63F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B787-9DC4-40C9-8FD5-93F4703E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591E-BA27-42E0-8C19-DFF54533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AFD-D6D4-4AF9-91DE-FDD4BA25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48CE-3831-47B0-AEB4-50A4C13F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C9BE-5EA3-44BB-8EF8-00F3E2E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EF4B-D0D5-46DA-ADB1-CA8C40C2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5600-8DA1-431C-8B65-5BE52B42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B674-CE48-4442-88C2-E99E3A2B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F5C-0DA6-4354-8546-B113616E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42F-C1BA-49A7-A823-FE14FFCF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03F-1002-4015-A0E9-C59D63FC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C41-694B-4ABC-888F-DB4302B1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EFD-65B7-402B-B0D3-D7BCF15F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A7D-A956-4E1F-A03E-009206BD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F7C-306F-4CCC-99F7-7E2737BA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1EAF-13A3-4EF7-A3FA-C417231BA6ED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E3B4-AADE-4B1C-BCF6-4993AE087058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0066"/>
                </a:solidFill>
                <a:latin typeface="Arial"/>
              </a:rPr>
              <a:t>Bases epistemológicas de la investigación científ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. Dr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Confirmación (criterio de  Nicod)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“p” es “q”, (Px    Qx), “todos los cuervos son negros”, “el tabaco produce cáncer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confirmadora; Pa*Qa, encuentro un cuervo negro, demuestro un caso de cáncer pulmonar en un paciente fum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desconfirmadora; Pa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, encuentro un cuervo blanco, encuentro un caso de fumador sin cancer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2060640"/>
            <a:ext cx="287280" cy="144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s paradoj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ógicamente hablando, Pa*Qa es equivalente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 *~Pa, por lo cual el descubrimiento de un canario amarillo es una instancia confirmadora de que todos los cuervos son negros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o que el descubrimiento de una persona sin cáncer y que no fuma es una instancia confirmadora de que el tabaco produce cán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nstancias confirmador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uales serían instancias confirmadoras de las hipóte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tabaco produce cá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S.mutans producen c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experiencia puede confirmar las proposiciones científicas en el sentido de mostrar que so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probabl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 (Popper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queda de criterios para distinguir Ciencia de Pseudo-ciencia (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Demarca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ne una lógica deductiva (contraria al empirism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científica sólo si puede ser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falsead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por la experi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Y basta una sola instancia falsadora para rechazar un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 una hipótesis para ser científica debe generar por deducción una instancia que la desconfir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instancia podría demostrar que la hipótesis “El S.Mutans produce caries” es fals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, ¿Cuándo confirmamos la hipótesis?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onstructiv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existen hechos puros que nos permitan inducir una teoría, por el contrario es el conocimiento y las creencias las que determinan que hechos son observ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observación científica está “teóricamente cargada” (Hans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330066"/>
                </a:solidFill>
                <a:latin typeface="Arial"/>
              </a:rPr>
              <a:t>Cual es el problema en investigación en ciencias médica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nca podemos estar seguro si la relación de hechos es real o es una disto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los hechos son “diagnósticos” y “tratamient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; un tratamiento es efectivo para el 68% de los enfermos de “X” enfermedad y uno alternativo (más económico) es efectiv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l 52% de los enfer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el 64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el 39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eoría y Percep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ercepción es significativa cuando el objeto es identificado y por lo tanto la percepción está conceptualmente carg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 no veo objeto alguno identificable, no veo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observación para que se constituya en conocimiento debe estar relacionada a un cuerpo de infor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lo tanto el que tiene información podrá “ver” que ha acontecido un fenómeno extra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033960" cy="452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naturaleza del descubrimiento científico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información que disponga determina lo que obser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ambio del marco teórico es la verdadera actividad científ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ento a las irregular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r qué tener que estudiar esto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ienci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s una forma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onoce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a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o nos permit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flexiona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obre nuestro modo de conocer la realidad y por lo tanto darle a esta u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arácter relativ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rle un carácter absoluto es perder la posibilidad de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actividad creativa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de 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 autonomía del pensamient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446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138320"/>
            <a:ext cx="4143240" cy="3214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27280" y="49417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 I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 realid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ntología: Rama de la filosofía que estudia las características más generales de la realidad (existencia real, el cambio, el tiempo, la vida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pistemología: Estudio de la cognición y el conocimiento. Cómo se cono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ocimiento común y científ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ómo se organiza: Las propos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tendencia humana a regulariza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iencia pretende establecer regularidades entre los hechos, para así explicar, predecir y modificar fenómenos. Generar le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son especulaciones respecto al mundo real. ¿Dónde está la ley de grave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gunas ciencias más exactas que otr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y teorí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Dos preguntas fundamentales para el desarrollo del cono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significativ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verdadera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scuelas Epistemológ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 lóg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sacion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ruc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Clásico (Hum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conocimiento se funda en la experiencia, en las sensaciones o impres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mpresiones e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deas y hech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gnificatividad y veracidad de una propos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 significativa si los términos corresponden a una id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estiones de hecho; se verifica si la idea ocurre en la real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j: El fuego qu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sitivismo Lógico </a:t>
            </a:r>
            <a:br>
              <a:rPr sz="3500"/>
            </a:b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(círculo de Viena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oría verificacionista del signif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y solo si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uede ser verificada empíric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verdadera cuando corresponde a un hec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valor de verdad es determinado de una vez y para siempre (ley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Lógico (Carna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es susceptible de ser contrastada por referencia a la observ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onfirmación de una proposición científica es gradualmente cre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ma central es la relación de confirmación que se da entre una ley científica y los enunciados de observación que la confirman o desconfirm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42:52Z</dcterms:created>
  <dc:creator>Gonzalo Rojas</dc:creator>
  <dc:description/>
  <dc:language>en-US</dc:language>
  <cp:lastModifiedBy>Facultad de Odontologia</cp:lastModifiedBy>
  <dcterms:modified xsi:type="dcterms:W3CDTF">2010-08-04T16:25:53Z</dcterms:modified>
  <cp:revision>33</cp:revision>
  <dc:subject/>
  <dc:title>Bases epistemológicas de la investigación científica</dc:title>
</cp:coreProperties>
</file>