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ECDA1-A129-46AF-B604-BE7F6A7D5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68D48-F87B-426F-939D-814FFE4DC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83973-963C-4F66-A9DC-CD7B10DB9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CD9D2-BB71-4F19-981C-6AB2E0533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E9495-D79A-4E7E-ABB1-739CC51A0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2D58A-B785-4647-8D08-EC4AA9083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4755D-158E-4C17-A801-202FCFF8C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052B6-0274-40F8-B47A-AF96FDC1D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F7283-4067-4F51-82BA-0E38CC351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8C369-DB9D-4E1B-8F86-FD265DF48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6E36B-9A4B-4C94-9460-E80FCE56D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E6404-F4F0-45F7-815D-C34619DC5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DA3B7-6A02-4C03-986F-67F688D83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C9EEA-5BE4-486F-8753-36AAC839B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DEE08-560A-4009-8D1E-D22F6E6A8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E77AE-2A05-4575-9FA9-161120C1E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E5510-E439-4A62-80B5-67648C675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D7527-D689-46B8-B0D1-3398275CB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840F7-214E-4EEC-A53D-4D7529E88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787A8-1DCA-49E2-9A74-7D35A3175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288EE-99DF-44F9-8B4C-BC9B3885A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B8303-BAD6-46AA-903C-744A9FC2B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0FE42-4ED7-45C1-B1B3-BBCDB302D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E391F-B31D-4C1D-81AC-229C9FDD9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8EC4B-6450-44A4-85EF-3C0E1EAF1DFA}" type="slidenum">
              <a:rPr b="0" lang="es-MX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D63DE-3B73-46A7-AB5B-EDA6E28FBBEB}" type="slidenum">
              <a:rPr b="0" lang="es-MX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330066"/>
                </a:solidFill>
                <a:latin typeface="Arial"/>
              </a:rPr>
              <a:t>Bases epistemológicas de la investigación científica</a:t>
            </a:r>
            <a:endParaRPr b="1" lang="en-US" sz="4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Prof. Dr Gonzalo Rojas Alcayag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39280" y="54936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500" spc="-1" strike="noStrike">
                <a:solidFill>
                  <a:srgbClr val="330066"/>
                </a:solidFill>
                <a:latin typeface="Arial"/>
              </a:rPr>
              <a:t>La Confirmación (criterio de  Nicod) 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3964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Todo “p” es “q”, (Px    Qx), “todos los cuervos son negros”, “el tabaco produce cáncer”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Instancia confirmadora; Pa*Qa, encuentro un cuervo negro, demuestro un caso de cáncer pulmonar en un paciente fumado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Instancia desconfirmadora; Pa*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~Qa, encuentro un cuervo blanco, encuentro un caso de fumador sin cancer.</a:t>
            </a: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851280" y="2060640"/>
            <a:ext cx="287280" cy="144360"/>
          </a:xfrm>
          <a:custGeom>
            <a:avLst/>
            <a:gdLst>
              <a:gd name="textAreaLeft" fmla="*/ 0 w 287280"/>
              <a:gd name="textAreaRight" fmla="*/ 287640 w 287280"/>
              <a:gd name="textAreaTop" fmla="*/ 0 h 144360"/>
              <a:gd name="textAreaBottom" fmla="*/ 144360 h 14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900" spc="-1" strike="noStrike">
                <a:solidFill>
                  <a:srgbClr val="330066"/>
                </a:solidFill>
                <a:latin typeface="Arial"/>
              </a:rPr>
              <a:t>Las paradoja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3964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Lógicamente hablando, Pa*Qa es equivalente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~Qa *~Pa, por lo cual el descubrimiento de un canario amarillo es una instancia confirmadora de que todos los cuervos son negros,</a:t>
            </a: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 o que el descubrimiento de una persona sin cáncer y que no fuma es una instancia confirmadora de que el tabaco produce cánce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900" spc="-1" strike="noStrike">
                <a:solidFill>
                  <a:srgbClr val="330066"/>
                </a:solidFill>
                <a:latin typeface="Arial"/>
              </a:rPr>
              <a:t>Instancias confirmadora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Cuales serían instancias confirmadoras de las hipótesis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El tabaco produce cánc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Los S.mutans producen car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La experiencia puede confirmar las proposiciones científicas en el sentido de mostrar que son </a:t>
            </a:r>
            <a:r>
              <a:rPr b="0" lang="es-CL" sz="3000" spc="-1" strike="noStrike" u="sng">
                <a:solidFill>
                  <a:srgbClr val="000000"/>
                </a:solidFill>
                <a:uFillTx/>
                <a:latin typeface="Arial"/>
              </a:rPr>
              <a:t>probables</a:t>
            </a: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900" spc="-1" strike="noStrike">
                <a:solidFill>
                  <a:srgbClr val="330066"/>
                </a:solidFill>
                <a:latin typeface="Arial"/>
              </a:rPr>
              <a:t>Falsacionismo (Popper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Busqueda de criterios para distinguir Ciencia de Pseudo-ciencia (</a:t>
            </a:r>
            <a:r>
              <a:rPr b="0" i="1" lang="es-CL" sz="2600" spc="-1" strike="noStrike">
                <a:solidFill>
                  <a:srgbClr val="000000"/>
                </a:solidFill>
                <a:latin typeface="Arial"/>
              </a:rPr>
              <a:t>Demarcación</a:t>
            </a: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Propone una lógica deductiva (contraria al empirismo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Una proposición es científica sólo si puede ser </a:t>
            </a:r>
            <a:r>
              <a:rPr b="0" i="1" lang="es-CL" sz="2600" spc="-1" strike="noStrike">
                <a:solidFill>
                  <a:srgbClr val="000000"/>
                </a:solidFill>
                <a:latin typeface="Arial"/>
              </a:rPr>
              <a:t>falseada</a:t>
            </a: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 por la experienci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Y basta una sola instancia falsadora para rechazar una hipótesi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900" spc="-1" strike="noStrike">
                <a:solidFill>
                  <a:srgbClr val="330066"/>
                </a:solidFill>
                <a:latin typeface="Arial"/>
              </a:rPr>
              <a:t>Falsacionismo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Entonces una hipótesis para ser científica debe generar por deducción una instancia que la desconfirm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Que instancia podría demostrar que la hipótesis “El S.Mutans produce caries” es falsa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Entonces, ¿Cuándo confirmamos la hipótesis?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900" spc="-1" strike="noStrike">
                <a:solidFill>
                  <a:srgbClr val="330066"/>
                </a:solidFill>
                <a:latin typeface="Arial"/>
              </a:rPr>
              <a:t>Constructivismo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No existen hechos puros que nos permitan inducir una teoría, por el contrario es el conocimiento y las creencias las que determinan que hechos son observabl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La observación científica está “teóricamente cargada” (Hanson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100" spc="-1" strike="noStrike">
                <a:solidFill>
                  <a:srgbClr val="330066"/>
                </a:solidFill>
                <a:latin typeface="Arial"/>
              </a:rPr>
              <a:t>Cual es el problema en investigación en ciencias médicas?</a:t>
            </a:r>
            <a:endParaRPr b="1" lang="en-US" sz="31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68360" y="213372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Nunca podemos estar seguro si la relación de hechos es real o es una distors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n este caso los hechos son “diagnósticos” y “tratamientos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j; un tratamiento es efectivo para el 68% de los enfermos de “X” enfermedad y uno alternativo (más económico) es efectivo par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1) el 52% de los enferm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2) el 64% de los enferm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3) el 39% de los enferm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900" spc="-1" strike="noStrike">
                <a:solidFill>
                  <a:srgbClr val="330066"/>
                </a:solidFill>
                <a:latin typeface="Arial"/>
              </a:rPr>
              <a:t>Teoría y Percepció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Una percepción es significativa cuando el objeto es identificado y por lo tanto la percepción está conceptualmente cargad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Si no veo objeto alguno identificable, no veo nad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Una observación para que se constituya en conocimiento debe estar relacionada a un cuerpo de informació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Por lo tanto el que tiene información podrá “ver” que ha acontecido un fenómeno extrañ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1619280" y="1125360"/>
            <a:ext cx="6033960" cy="4526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500" spc="-1" strike="noStrike">
                <a:solidFill>
                  <a:srgbClr val="330066"/>
                </a:solidFill>
                <a:latin typeface="Arial"/>
              </a:rPr>
              <a:t>La naturaleza del descubrimiento científico.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6836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La información que disponga determina lo que observ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El cambio del marco teórico es la verdadera actividad científic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Atento a las irregularidad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500" spc="-1" strike="noStrike">
                <a:solidFill>
                  <a:srgbClr val="330066"/>
                </a:solidFill>
                <a:latin typeface="Arial"/>
              </a:rPr>
              <a:t>Por qué tener que estudiar esto?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0" lang="es-CL" sz="3000" spc="-1" strike="noStrike" u="sng">
                <a:solidFill>
                  <a:srgbClr val="000000"/>
                </a:solidFill>
                <a:uFillTx/>
                <a:latin typeface="Arial"/>
              </a:rPr>
              <a:t>ciencia</a:t>
            </a: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 es una forma de </a:t>
            </a:r>
            <a:r>
              <a:rPr b="0" lang="es-CL" sz="3000" spc="-1" strike="noStrike" u="sng">
                <a:solidFill>
                  <a:srgbClr val="000000"/>
                </a:solidFill>
                <a:uFillTx/>
                <a:latin typeface="Arial"/>
              </a:rPr>
              <a:t>conocer</a:t>
            </a: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 la </a:t>
            </a:r>
            <a:r>
              <a:rPr b="0" lang="es-CL" sz="3000" spc="-1" strike="noStrike" u="sng">
                <a:solidFill>
                  <a:srgbClr val="000000"/>
                </a:solidFill>
                <a:uFillTx/>
                <a:latin typeface="Arial"/>
              </a:rPr>
              <a:t>realida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Esto nos permite </a:t>
            </a:r>
            <a:r>
              <a:rPr b="0" lang="es-CL" sz="3000" spc="-1" strike="noStrike" u="sng">
                <a:solidFill>
                  <a:srgbClr val="000000"/>
                </a:solidFill>
                <a:uFillTx/>
                <a:latin typeface="Arial"/>
              </a:rPr>
              <a:t>reflexionar</a:t>
            </a: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 sobre nuestro modo de conocer la realidad y por lo tanto darle a esta un </a:t>
            </a:r>
            <a:r>
              <a:rPr b="0" lang="es-CL" sz="3000" spc="-1" strike="noStrike" u="sng">
                <a:solidFill>
                  <a:srgbClr val="000000"/>
                </a:solidFill>
                <a:uFillTx/>
                <a:latin typeface="Arial"/>
              </a:rPr>
              <a:t>carácter relativo</a:t>
            </a: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Darle un carácter absoluto es perder la posibilidad de la </a:t>
            </a:r>
            <a:r>
              <a:rPr b="0" lang="es-CL" sz="3000" spc="-1" strike="noStrike" u="sng">
                <a:solidFill>
                  <a:srgbClr val="000000"/>
                </a:solidFill>
                <a:uFillTx/>
                <a:latin typeface="Arial"/>
              </a:rPr>
              <a:t>actividad creativa </a:t>
            </a: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y de la</a:t>
            </a:r>
            <a:r>
              <a:rPr b="0" lang="es-CL" sz="3000" spc="-1" strike="noStrike" u="sng">
                <a:solidFill>
                  <a:srgbClr val="000000"/>
                </a:solidFill>
                <a:uFillTx/>
                <a:latin typeface="Arial"/>
              </a:rPr>
              <a:t> autonomía del pensamiento</a:t>
            </a: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2340000" y="765000"/>
            <a:ext cx="444672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1619280" y="1138320"/>
            <a:ext cx="4143240" cy="321444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2627280" y="4941720"/>
            <a:ext cx="338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000000"/>
                </a:solidFill>
                <a:latin typeface="Arial"/>
              </a:rPr>
              <a:t>F I 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900" spc="-1" strike="noStrike">
                <a:solidFill>
                  <a:srgbClr val="330066"/>
                </a:solidFill>
                <a:latin typeface="Arial"/>
              </a:rPr>
              <a:t>La realidad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Ontología: Rama de la filosofía que estudia las características más generales de la realidad (existencia real, el cambio, el tiempo, la vida)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Epistemología: Estudio de la cognición y el conocimiento. Cómo se cono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Conocimiento común y científico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Cómo se organiza: Las proposicio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500" spc="-1" strike="noStrike">
                <a:solidFill>
                  <a:srgbClr val="330066"/>
                </a:solidFill>
                <a:latin typeface="Arial"/>
              </a:rPr>
              <a:t>La tendencia humana a regularizar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La ciencia pretende establecer regularidades entre los hechos, para así explicar, predecir y modificar fenómenos. Generar ley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Leyes son especulaciones respecto al mundo real. ¿Dónde está la ley de gravedad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Algunas ciencias más exactas que otras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Leyes y teoría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68000" y="90756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500" spc="-1" strike="noStrike">
                <a:solidFill>
                  <a:srgbClr val="330066"/>
                </a:solidFill>
                <a:latin typeface="Arial"/>
              </a:rPr>
              <a:t>Dos preguntas fundamentales para el desarrollo del conocimiento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68360" y="3068640"/>
            <a:ext cx="8229600" cy="21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¿Qué proposiciones son significativas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¿Qué proposiciones son verdaderas?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900" spc="-1" strike="noStrike">
                <a:solidFill>
                  <a:srgbClr val="330066"/>
                </a:solidFill>
                <a:latin typeface="Arial"/>
              </a:rPr>
              <a:t>Escuelas Epistemológica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Empirismo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Positivismo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Empirismo lógico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Falsacionismo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Constructivismo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900" spc="-1" strike="noStrike">
                <a:solidFill>
                  <a:srgbClr val="330066"/>
                </a:solidFill>
                <a:latin typeface="Arial"/>
              </a:rPr>
              <a:t>Empirismo Clásico (Hume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Todo conocimiento se funda en la experiencia, en las sensaciones o impresion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Impresiones e ide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Ideas y hecho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Significatividad y veracidad de una proposició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Es significativa si los términos corresponden a una ide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Cuestiones de hecho; se verifica si la idea ocurre en la realida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Ej: El fuego quem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500" spc="-1" strike="noStrike">
                <a:solidFill>
                  <a:srgbClr val="330066"/>
                </a:solidFill>
                <a:latin typeface="Arial"/>
              </a:rPr>
              <a:t>Positivismo Lógico </a:t>
            </a:r>
            <a:br>
              <a:rPr sz="3500"/>
            </a:br>
            <a:r>
              <a:rPr b="1" lang="es-CL" sz="3500" spc="-1" strike="noStrike">
                <a:solidFill>
                  <a:srgbClr val="330066"/>
                </a:solidFill>
                <a:latin typeface="Arial"/>
              </a:rPr>
              <a:t>(círculo de Viena)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9528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Teoría verificacionista del significad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Una proposición tiene significado si y solo si </a:t>
            </a:r>
            <a:r>
              <a:rPr b="0" lang="es-CL" sz="2600" spc="-1" strike="noStrike" u="sng">
                <a:solidFill>
                  <a:srgbClr val="000000"/>
                </a:solidFill>
                <a:uFillTx/>
                <a:latin typeface="Arial"/>
              </a:rPr>
              <a:t>puede ser verificada empíricament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Una proposición es verdadera cuando corresponde a un hech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El valor de verdad es determinado de una vez y para siempre (ley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900" spc="-1" strike="noStrike">
                <a:solidFill>
                  <a:srgbClr val="330066"/>
                </a:solidFill>
                <a:latin typeface="Arial"/>
              </a:rPr>
              <a:t>Empirismo Lógico (Carnap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Una proposición tiene significado si es susceptible de ser contrastada por referencia a la observació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La confirmación de una proposición científica es gradualmente crecient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Tema central es la relación de confirmación que se da entre una ley científica y los enunciados de observación que la confirman o desconfirma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16T02:42:52Z</dcterms:created>
  <dc:creator>Gonzalo Rojas</dc:creator>
  <dc:description/>
  <dc:language>en-US</dc:language>
  <cp:lastModifiedBy>Facultad de Odontologia</cp:lastModifiedBy>
  <dcterms:modified xsi:type="dcterms:W3CDTF">2010-08-04T16:25:53Z</dcterms:modified>
  <cp:revision>33</cp:revision>
  <dc:subject/>
  <dc:title>Bases epistemológicas de la investigación científica</dc:title>
</cp:coreProperties>
</file>