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3B1-2EFD-4490-B47C-E99A9A4D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956-A99C-4E93-BD6A-62C91794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A03-90B5-425C-9BCD-9123FA83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DA7-7389-47C2-9791-CFDFCE1A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FE3-14A2-427A-B954-6B0C6E9F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BAD-AEF6-4C63-B47F-F2A2B035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409-8C5A-4B9C-8E61-5B4F6D8D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2A9-E82F-47CF-B398-E04A5A64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31B-A841-4327-9B25-394D00BF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240-2821-44BA-90B5-CD01D66E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C83-BCA5-4795-AE42-2A3AE8AE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D64-ADDD-4F06-BF6D-6F149D6C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3333cc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19B2-5CB5-4E9A-901F-FB38500D53F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0000-AA44-40D9-82A1-0CEA0D08A353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3954600" y="228600"/>
            <a:ext cx="1235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504d"/>
                </a:solidFill>
                <a:latin typeface="Bookman Old Style"/>
              </a:rPr>
              <a:t>Flúo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pic>
        <p:nvPicPr>
          <p:cNvPr id="44" name="Picture 25" descr=""/>
          <p:cNvPicPr/>
          <p:nvPr/>
        </p:nvPicPr>
        <p:blipFill>
          <a:blip r:embed="rId1"/>
          <a:stretch/>
        </p:blipFill>
        <p:spPr>
          <a:xfrm>
            <a:off x="8124840" y="158760"/>
            <a:ext cx="485640" cy="596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7"/>
          <p:cNvSpPr/>
          <p:nvPr/>
        </p:nvSpPr>
        <p:spPr>
          <a:xfrm>
            <a:off x="2089080" y="1066680"/>
            <a:ext cx="5029200" cy="143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Flúor           Scheele,1771  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Moissan, 1886 (F</a:t>
            </a:r>
            <a:r>
              <a:rPr b="1" lang="es-ES_tradnl" sz="2800" spc="-1" strike="noStrike" baseline="-25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)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6" name="Rectangle 38"/>
          <p:cNvSpPr/>
          <p:nvPr/>
        </p:nvSpPr>
        <p:spPr>
          <a:xfrm>
            <a:off x="2347560" y="3124080"/>
            <a:ext cx="5070960" cy="222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Flúor:  Estado de oxidación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             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Hibridación?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         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Estructura electrónica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705A-8499-4E91-A9A8-29E4044CA5F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86360" y="54612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39840" y="1300320"/>
            <a:ext cx="85564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Fluoruración</a:t>
            </a: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Adición controlada de un compuesto fluorurado a un vehículo con el objeto de elevar su concentración de fluoruro a un predeterminado nivel con el propósito de prevenir las caries</a:t>
            </a: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b3161"/>
                </a:solidFill>
                <a:latin typeface="Arial"/>
              </a:rPr>
              <a:t>Tipos</a:t>
            </a:r>
            <a:r>
              <a:rPr b="1" lang="es-ES" sz="1800" spc="-1" strike="noStrike">
                <a:solidFill>
                  <a:srgbClr val="fb3161"/>
                </a:solidFill>
                <a:latin typeface="Arial"/>
              </a:rPr>
              <a:t>:</a:t>
            </a:r>
            <a:r>
              <a:rPr b="1" lang="es-ES_tradnl" sz="1800" spc="-1" strike="noStrike">
                <a:solidFill>
                  <a:srgbClr val="fb3161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Fluoruración del agua, fluoruración de la sal y fluoruración de la leche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1670400" y="3317760"/>
            <a:ext cx="5693760" cy="3060000"/>
            <a:chOff x="1670400" y="3317760"/>
            <a:chExt cx="5693760" cy="3060000"/>
          </a:xfrm>
        </p:grpSpPr>
        <p:sp>
          <p:nvSpPr>
            <p:cNvPr id="149" name="Text Box 7"/>
            <p:cNvSpPr/>
            <p:nvPr/>
          </p:nvSpPr>
          <p:spPr>
            <a:xfrm>
              <a:off x="1670400" y="4422600"/>
              <a:ext cx="14180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Agu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1764720" y="3432240"/>
              <a:ext cx="127188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Acept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1803960" y="5527800"/>
              <a:ext cx="116964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Oposi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38104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>
              <a:off x="2381040" y="5010120"/>
              <a:ext cx="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3935880" y="3432240"/>
              <a:ext cx="117144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Segurida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6013080" y="3317760"/>
              <a:ext cx="135108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50 años us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4813200" y="4746600"/>
              <a:ext cx="2336400" cy="33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Daño Medio Ambiente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7" name="Rectangle 15"/>
            <p:cNvSpPr/>
            <p:nvPr/>
          </p:nvSpPr>
          <p:spPr>
            <a:xfrm>
              <a:off x="4840200" y="5427720"/>
              <a:ext cx="2282400" cy="335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Libre elec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813200" y="6041880"/>
              <a:ext cx="2336400" cy="33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3898800" y="4937040"/>
              <a:ext cx="0" cy="12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3917880" y="6215040"/>
              <a:ext cx="83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3974760" y="49388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3041280" y="57196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3041280" y="3624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>
              <a:off x="5136840" y="3624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3955680" y="56624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1F62-6DF3-495F-9D92-01EC0752A6E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90440" y="51912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RESEÑA HISTORICA FLUORURACIO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1447920"/>
            <a:ext cx="8305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00 - 1920: Dr. F. McKay, Colorado Springs, EE.UU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“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Mancha Marrón de Colorado”, asociada con el consumo de agua en los habitantes nacidos y criados en Colorado Spring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28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Publicación de McKay, acerca de reducción de experiencia de caries en las comunidades en que había “esmalte moteado”. Ainsworth, en Inglaterra, publica  hallazgos similare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1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Se identifica al Fluoruro (F) como constituyente común en las aguasde las comunidades con “esmalte moteado”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2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El servicio de Salud Pública de EE.UU, nomina al epidemiológo dental Dr. H. Trendley Dean, para investigar el problem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26ED-E42B-4F69-8D7D-1E148B28C02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0880" y="519120"/>
            <a:ext cx="8305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2-1942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El Dr. Dean denomina “Fluorosis de esmalte dental” a esta anomalí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Desarrolla un sistema de clasificación para la fluorosis, en base a una escala ordinal, definiendo un índice de fluorosis comunitaria (IFC), que permite cuantificar la severidad de és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Realiza varios estudios en poblaciones de niños de 12-14 años de 21 comunidades de estados del centro - oeste de EE.UU. </a:t>
            </a:r>
            <a:r>
              <a:rPr b="1" lang="es-ES_tradnl" sz="2000" spc="-1" strike="noStrike" u="sng">
                <a:solidFill>
                  <a:srgbClr val="0066ff"/>
                </a:solidFill>
                <a:uFillTx/>
                <a:latin typeface="Tahoma"/>
                <a:ea typeface="Tahoma"/>
              </a:rPr>
              <a:t>Solamente incluye residentes  permanentes de cada comunidad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Correlaciona el IFC y también la experiencia de caries de las poblaciones en estudio con la concentración de F en el agua potable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45:  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Se implementa el ajuste de la concentración de F en el agua potable de Grand Rapids, Michigan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A8D8-837B-4421-987C-18778B8698F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aphicFrame>
        <p:nvGraphicFramePr>
          <p:cNvPr id="175" name="Object 2"/>
          <p:cNvGraphicFramePr/>
          <p:nvPr/>
        </p:nvGraphicFramePr>
        <p:xfrm>
          <a:off x="644400" y="353880"/>
          <a:ext cx="8612280" cy="603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353880"/>
                    <a:ext cx="86122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FF5C-5802-4226-B428-D5A6068A3E1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2254320" y="1600200"/>
            <a:ext cx="4914360" cy="3505320"/>
            <a:chOff x="2254320" y="1600200"/>
            <a:chExt cx="4914360" cy="3505320"/>
          </a:xfrm>
        </p:grpSpPr>
        <p:sp>
          <p:nvSpPr>
            <p:cNvPr id="180" name="Line 5"/>
            <p:cNvSpPr/>
            <p:nvPr/>
          </p:nvSpPr>
          <p:spPr>
            <a:xfrm>
              <a:off x="2254320" y="1600200"/>
              <a:ext cx="0" cy="350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2292120" y="508644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7149960" y="1600200"/>
              <a:ext cx="0" cy="350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2292120" y="1638360"/>
              <a:ext cx="4019040" cy="3222360"/>
            </a:xfrm>
            <a:prstGeom prst="pie">
              <a:avLst/>
            </a:prstGeom>
            <a:noFill/>
            <a:ln cap="sq"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2254320" y="1962000"/>
              <a:ext cx="4686120" cy="2533680"/>
            </a:xfrm>
            <a:prstGeom prst="pie">
              <a:avLst/>
            </a:prstGeom>
            <a:noFill/>
            <a:ln cap="sq" w="38160">
              <a:solidFill>
                <a:srgbClr val="fb31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185" name="Text Box 10"/>
          <p:cNvSpPr/>
          <p:nvPr/>
        </p:nvSpPr>
        <p:spPr>
          <a:xfrm>
            <a:off x="1191600" y="17445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COP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7211880" y="16686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I 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602520" y="5421240"/>
            <a:ext cx="33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Concentración F en agu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ppm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4711680" y="4362480"/>
            <a:ext cx="0" cy="74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439880" y="5081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Bookman Old Style"/>
              </a:rPr>
              <a:t>1,0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3653640" y="129384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Arial"/>
              </a:rPr>
              <a:t>Estudio de Dea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2502000" y="50472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2DD2-04EF-42C5-836D-1E77D5FDC6D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402200" y="1704960"/>
            <a:ext cx="5940000" cy="3781080"/>
            <a:chOff x="1402200" y="1704960"/>
            <a:chExt cx="5940000" cy="3781080"/>
          </a:xfrm>
        </p:grpSpPr>
        <p:sp>
          <p:nvSpPr>
            <p:cNvPr id="195" name="Text Box 5"/>
            <p:cNvSpPr/>
            <p:nvPr/>
          </p:nvSpPr>
          <p:spPr>
            <a:xfrm>
              <a:off x="1402200" y="3368520"/>
              <a:ext cx="14180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Estudio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3698640" y="1800360"/>
              <a:ext cx="159876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Daño larg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plazo baj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3698640" y="2828880"/>
              <a:ext cx="15908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luorur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ingerid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3710520" y="3838680"/>
              <a:ext cx="157536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 esquelet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Aumenta eda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3698640" y="4905360"/>
              <a:ext cx="162432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8 ppm sol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0" name="Line 10"/>
            <p:cNvSpPr/>
            <p:nvPr/>
          </p:nvSpPr>
          <p:spPr>
            <a:xfrm>
              <a:off x="3276360" y="2139840"/>
              <a:ext cx="0" cy="31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1" name="Line 11"/>
            <p:cNvSpPr/>
            <p:nvPr/>
          </p:nvSpPr>
          <p:spPr>
            <a:xfrm>
              <a:off x="3276360" y="21207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>
              <a:off x="3276360" y="314964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>
              <a:off x="3276360" y="52261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5736960" y="1704960"/>
              <a:ext cx="159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Minimizado excreción ren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5736960" y="2733480"/>
              <a:ext cx="159084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Deposito en hueso y excre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5746320" y="3838680"/>
              <a:ext cx="157680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No se obser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dañ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7" name="Text Box 17"/>
            <p:cNvSpPr/>
            <p:nvPr/>
          </p:nvSpPr>
          <p:spPr>
            <a:xfrm>
              <a:off x="5736960" y="4905360"/>
              <a:ext cx="16052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No hay dañ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gener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>
              <a:off x="5295960" y="21207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5295960" y="31496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5315040" y="5226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5315040" y="41212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3295440" y="406404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2838240" y="36640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14" name="Rectangle 24"/>
          <p:cNvSpPr/>
          <p:nvPr/>
        </p:nvSpPr>
        <p:spPr>
          <a:xfrm>
            <a:off x="2210040" y="67320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1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9947-9ADA-44B6-AA41-FF94626B9B4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1216440" y="2262240"/>
            <a:ext cx="6662880" cy="2916720"/>
            <a:chOff x="1216440" y="2262240"/>
            <a:chExt cx="6662880" cy="2916720"/>
          </a:xfrm>
        </p:grpSpPr>
        <p:sp>
          <p:nvSpPr>
            <p:cNvPr id="218" name="Text Box 5"/>
            <p:cNvSpPr/>
            <p:nvPr/>
          </p:nvSpPr>
          <p:spPr>
            <a:xfrm>
              <a:off x="2383200" y="2262240"/>
              <a:ext cx="3934440" cy="520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Caries y Fluoruración</a:t>
              </a:r>
              <a:endParaRPr b="1" lang="en-US" sz="2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9" name="Line 6"/>
            <p:cNvSpPr/>
            <p:nvPr/>
          </p:nvSpPr>
          <p:spPr>
            <a:xfrm>
              <a:off x="4425840" y="280656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1216440" y="3865320"/>
              <a:ext cx="172296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xtens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Literatura d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fectivida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n el mund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3580920" y="3846240"/>
              <a:ext cx="18648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40-70% CO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hast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1980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6172920" y="3865320"/>
              <a:ext cx="17064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importanci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esde 1980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20-30%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3" name="Line 10"/>
            <p:cNvSpPr/>
            <p:nvPr/>
          </p:nvSpPr>
          <p:spPr>
            <a:xfrm>
              <a:off x="2121120" y="3625560"/>
              <a:ext cx="485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213984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>
              <a:off x="699768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26" name="Rectangle 13"/>
          <p:cNvSpPr/>
          <p:nvPr/>
        </p:nvSpPr>
        <p:spPr>
          <a:xfrm>
            <a:off x="2883240" y="97776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2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E44D-98C2-44AB-9B21-9992BB4C7E23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1154160" y="1244520"/>
            <a:ext cx="5987880" cy="42116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772920" y="5583600"/>
            <a:ext cx="75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Fig.- Porcentaje de niños libres de caries según edad 2006</a:t>
            </a:r>
            <a:r>
              <a:rPr b="1" lang="es-ES" sz="2000" spc="-1" strike="noStrike">
                <a:solidFill>
                  <a:srgbClr val="c0504d"/>
                </a:solidFill>
                <a:latin typeface="Bookman Old Style"/>
              </a:rPr>
              <a:t>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315360" y="493560"/>
            <a:ext cx="844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 en Region Metropolitana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8240" y="776160"/>
          <a:ext cx="8791560" cy="5680080"/>
        </p:xfrm>
        <a:graphic>
          <a:graphicData uri="http://schemas.openxmlformats.org/drawingml/2006/table">
            <a:tbl>
              <a:tblPr/>
              <a:tblGrid>
                <a:gridCol w="1404720"/>
                <a:gridCol w="917640"/>
                <a:gridCol w="1027080"/>
                <a:gridCol w="927000"/>
                <a:gridCol w="1181160"/>
                <a:gridCol w="1008000"/>
                <a:gridCol w="1025640"/>
                <a:gridCol w="13003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1" lang="en-US" sz="14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GUA</a:t>
                      </a:r>
                      <a:endParaRPr b="1" lang="en-US" sz="14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6 a 8 año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2 año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1" lang="es-MX" sz="1200" spc="-1" strike="noStrike" baseline="30000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mg/Lt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libres de carie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c.e.o.d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fluorosi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libre de carie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C.O.P.D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fluorosi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6 </a:t>
                      </a: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País*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	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1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6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7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1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7 </a:t>
                      </a: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País**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35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4,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0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4,8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,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6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6 RM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2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2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2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2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0,8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1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005 RM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6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4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0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4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2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65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V Región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6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6,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2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3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,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0,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0C2F-915E-432A-8DBB-05AF6D594CF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878480" y="160200"/>
            <a:ext cx="5377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 en el país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4A7F-A634-4820-ACA8-7EDA3923B98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062720" y="2262240"/>
            <a:ext cx="6975360" cy="2916720"/>
            <a:chOff x="1062720" y="2262240"/>
            <a:chExt cx="6975360" cy="2916720"/>
          </a:xfrm>
        </p:grpSpPr>
        <p:sp>
          <p:nvSpPr>
            <p:cNvPr id="239" name="Text Box 5"/>
            <p:cNvSpPr/>
            <p:nvPr/>
          </p:nvSpPr>
          <p:spPr>
            <a:xfrm>
              <a:off x="1563840" y="2262240"/>
              <a:ext cx="5257080" cy="520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Política Social y Fluoruración</a:t>
              </a:r>
              <a:endParaRPr b="1" lang="en-US" sz="2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4263840" y="280656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1062720" y="3865320"/>
              <a:ext cx="17064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Medi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fectiv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CO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3414600" y="3846240"/>
              <a:ext cx="187848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Segur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Técnicament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Factibl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694840" y="3865320"/>
              <a:ext cx="234324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limin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parcialment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ferencias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Socioeconómicas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1959120" y="3625560"/>
              <a:ext cx="485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97784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683568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47" name="Rectangle 13"/>
          <p:cNvSpPr/>
          <p:nvPr/>
        </p:nvSpPr>
        <p:spPr>
          <a:xfrm>
            <a:off x="2721240" y="97776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6606-9B24-452A-AC79-6139A12330B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1974960" y="1905120"/>
            <a:ext cx="5965560" cy="383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Isótop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F19 (100%)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Nº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9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Conf. Elect. F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p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5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Conf. Elect. 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p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6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Peso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8.9984 g/mol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Electronegatividad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4.0 eV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Radio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0.68 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Radio Ión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.36 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Electroafinidad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4.12 eV (7.95 Kcal/mol)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Potencial de Oxidación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E</a:t>
            </a:r>
            <a:r>
              <a:rPr b="1" lang="es-ES_tradnl" sz="2000" spc="-1" strike="noStrike" baseline="-25000">
                <a:solidFill>
                  <a:srgbClr val="003399"/>
                </a:solidFill>
                <a:latin typeface="Bookman Old Style"/>
              </a:rPr>
              <a:t>ox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= - 2.85 volt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                               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2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 &lt;==&gt;  F</a:t>
            </a:r>
            <a:r>
              <a:rPr b="1" lang="es-ES_tradnl" sz="2000" spc="-1" strike="noStrike" baseline="-25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+ 2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3051720" y="1219320"/>
            <a:ext cx="297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Bookman Old Style"/>
              </a:rPr>
              <a:t>Flúor. Element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4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5C0E-DF65-42DD-8AFE-B8E36CE61D6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1331640" y="2263680"/>
            <a:ext cx="6593040" cy="2557440"/>
            <a:chOff x="1331640" y="2263680"/>
            <a:chExt cx="6593040" cy="2557440"/>
          </a:xfrm>
        </p:grpSpPr>
        <p:sp>
          <p:nvSpPr>
            <p:cNvPr id="251" name="Text Box 5"/>
            <p:cNvSpPr/>
            <p:nvPr/>
          </p:nvSpPr>
          <p:spPr>
            <a:xfrm>
              <a:off x="6955920" y="3958920"/>
              <a:ext cx="96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ost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alt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2" name="Text Box 6"/>
            <p:cNvSpPr/>
            <p:nvPr/>
          </p:nvSpPr>
          <p:spPr>
            <a:xfrm>
              <a:off x="2970720" y="2263680"/>
              <a:ext cx="141804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Resume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Agu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3689280" y="3098520"/>
              <a:ext cx="0" cy="85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4" name="Text Box 8"/>
            <p:cNvSpPr/>
            <p:nvPr/>
          </p:nvSpPr>
          <p:spPr>
            <a:xfrm>
              <a:off x="1331640" y="3997080"/>
              <a:ext cx="96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ontro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arie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5" name="Text Box 9"/>
            <p:cNvSpPr/>
            <p:nvPr/>
          </p:nvSpPr>
          <p:spPr>
            <a:xfrm>
              <a:off x="3234600" y="3978000"/>
              <a:ext cx="8895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Medid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Salu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public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4838760" y="3978000"/>
              <a:ext cx="126108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Us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Increment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7" name="Line 11"/>
            <p:cNvSpPr/>
            <p:nvPr/>
          </p:nvSpPr>
          <p:spPr>
            <a:xfrm>
              <a:off x="1860480" y="3708360"/>
              <a:ext cx="561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>
              <a:off x="1879560" y="37274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5518080" y="37274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7499160" y="370836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61" name="Rectangle 15"/>
          <p:cNvSpPr/>
          <p:nvPr/>
        </p:nvSpPr>
        <p:spPr>
          <a:xfrm>
            <a:off x="3302280" y="113040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3190-598A-44C5-8C15-6EE11C4A679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4" name="Rectangle 46"/>
          <p:cNvSpPr/>
          <p:nvPr/>
        </p:nvSpPr>
        <p:spPr>
          <a:xfrm>
            <a:off x="582480" y="1160640"/>
            <a:ext cx="8060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Captación de fluoruro por esmalte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98800" y="3235320"/>
            <a:ext cx="198972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ff"/>
                </a:solidFill>
                <a:latin typeface="Arial"/>
              </a:rPr>
              <a:t>CAPTACIO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ff"/>
                </a:solidFill>
                <a:latin typeface="Arial"/>
              </a:rPr>
              <a:t>SISTEMI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2832120" y="2292480"/>
            <a:ext cx="158112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Preeruptiv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2787480" y="4286160"/>
            <a:ext cx="172296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Posteruptiv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10%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5393880" y="2286000"/>
            <a:ext cx="107064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Flúor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Plasm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392600" y="2293920"/>
            <a:ext cx="88632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Flúor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Diet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5526000" y="3686040"/>
            <a:ext cx="272412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Máxima Cristalinida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1" name="Text Box 53"/>
          <p:cNvSpPr/>
          <p:nvPr/>
        </p:nvSpPr>
        <p:spPr>
          <a:xfrm>
            <a:off x="5884560" y="4468680"/>
            <a:ext cx="203256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Menor Difusió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2" name="Text Box 54"/>
          <p:cNvSpPr/>
          <p:nvPr/>
        </p:nvSpPr>
        <p:spPr>
          <a:xfrm>
            <a:off x="5480280" y="5311800"/>
            <a:ext cx="285228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Gradiente de Fluorur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3" name="Line 56"/>
          <p:cNvSpPr/>
          <p:nvPr/>
        </p:nvSpPr>
        <p:spPr>
          <a:xfrm>
            <a:off x="4508640" y="2624040"/>
            <a:ext cx="82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4" name="Line 57"/>
          <p:cNvSpPr/>
          <p:nvPr/>
        </p:nvSpPr>
        <p:spPr>
          <a:xfrm>
            <a:off x="6518160" y="2631960"/>
            <a:ext cx="82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5" name="Line 58"/>
          <p:cNvSpPr/>
          <p:nvPr/>
        </p:nvSpPr>
        <p:spPr>
          <a:xfrm flipV="1">
            <a:off x="2328840" y="3000240"/>
            <a:ext cx="122724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328840" y="3639960"/>
            <a:ext cx="1163520" cy="67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4635360" y="4699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8" name="Line 61"/>
          <p:cNvSpPr/>
          <p:nvPr/>
        </p:nvSpPr>
        <p:spPr>
          <a:xfrm flipV="1">
            <a:off x="4592520" y="3916440"/>
            <a:ext cx="7207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4592520" y="4678200"/>
            <a:ext cx="720720" cy="82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55AB-DF5B-4EFF-8045-BFDC6F1F6B6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2" name="Rectangle 1072"/>
          <p:cNvSpPr/>
          <p:nvPr/>
        </p:nvSpPr>
        <p:spPr>
          <a:xfrm>
            <a:off x="1319040" y="1104840"/>
            <a:ext cx="65534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Captación tópica de fluó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3" name="Rectangle 1078"/>
          <p:cNvSpPr/>
          <p:nvPr/>
        </p:nvSpPr>
        <p:spPr>
          <a:xfrm>
            <a:off x="1739880" y="1903320"/>
            <a:ext cx="182880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CAPTACIO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TOPICA 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DE FLUOR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4" name="Rectangle 1079"/>
          <p:cNvSpPr/>
          <p:nvPr/>
        </p:nvSpPr>
        <p:spPr>
          <a:xfrm>
            <a:off x="1549440" y="3389400"/>
            <a:ext cx="210348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POSTERUPTIV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5" name="Rectangle 1080"/>
          <p:cNvSpPr/>
          <p:nvPr/>
        </p:nvSpPr>
        <p:spPr>
          <a:xfrm>
            <a:off x="1636560" y="4303800"/>
            <a:ext cx="200988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SOL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SUPERFICI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6" name="Rectangle 1081"/>
          <p:cNvSpPr/>
          <p:nvPr/>
        </p:nvSpPr>
        <p:spPr>
          <a:xfrm>
            <a:off x="4692600" y="3273480"/>
            <a:ext cx="201924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MENOR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ESMALT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SAN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7" name="Line 1084"/>
          <p:cNvSpPr/>
          <p:nvPr/>
        </p:nvSpPr>
        <p:spPr>
          <a:xfrm flipV="1">
            <a:off x="3645000" y="3742920"/>
            <a:ext cx="1065240" cy="59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8" name="Line 1085"/>
          <p:cNvSpPr/>
          <p:nvPr/>
        </p:nvSpPr>
        <p:spPr>
          <a:xfrm>
            <a:off x="3645000" y="5205240"/>
            <a:ext cx="988920" cy="59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9" name="Rectangle 1086"/>
          <p:cNvSpPr/>
          <p:nvPr/>
        </p:nvSpPr>
        <p:spPr>
          <a:xfrm>
            <a:off x="4608360" y="5378400"/>
            <a:ext cx="291960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MAYOR ESMALT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HIPOMINERALIZAD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0" name="Line 1087"/>
          <p:cNvSpPr/>
          <p:nvPr/>
        </p:nvSpPr>
        <p:spPr>
          <a:xfrm>
            <a:off x="2617920" y="2813040"/>
            <a:ext cx="0" cy="5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1" name="Line 1089"/>
          <p:cNvSpPr/>
          <p:nvPr/>
        </p:nvSpPr>
        <p:spPr>
          <a:xfrm>
            <a:off x="2625840" y="374976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378A-135A-43D6-B18B-5F6A29EAF2F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4" name="Text Box 77"/>
          <p:cNvSpPr/>
          <p:nvPr/>
        </p:nvSpPr>
        <p:spPr>
          <a:xfrm>
            <a:off x="281880" y="96696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uoruro sobre el cristal de hidroxiapatit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5" name="Text Box 78"/>
          <p:cNvSpPr/>
          <p:nvPr/>
        </p:nvSpPr>
        <p:spPr>
          <a:xfrm>
            <a:off x="3858480" y="3510000"/>
            <a:ext cx="1433520" cy="45972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66"/>
                </a:solidFill>
                <a:latin typeface="Arial"/>
              </a:rPr>
              <a:t>Fluoruro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96" name="Group 79"/>
          <p:cNvGrpSpPr/>
          <p:nvPr/>
        </p:nvGrpSpPr>
        <p:grpSpPr>
          <a:xfrm>
            <a:off x="1006200" y="2131920"/>
            <a:ext cx="2768400" cy="1379160"/>
            <a:chOff x="1006200" y="2131920"/>
            <a:chExt cx="2768400" cy="1379160"/>
          </a:xfrm>
        </p:grpSpPr>
        <p:sp>
          <p:nvSpPr>
            <p:cNvPr id="297" name="Text Box 80"/>
            <p:cNvSpPr/>
            <p:nvPr/>
          </p:nvSpPr>
          <p:spPr>
            <a:xfrm>
              <a:off x="1006200" y="2131920"/>
              <a:ext cx="180396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Celda Unitari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más Compact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98" name="Line 81"/>
            <p:cNvSpPr/>
            <p:nvPr/>
          </p:nvSpPr>
          <p:spPr>
            <a:xfrm flipH="1" flipV="1">
              <a:off x="2901600" y="2787120"/>
              <a:ext cx="87300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3785760" y="2131920"/>
            <a:ext cx="1566000" cy="1379160"/>
            <a:chOff x="3785760" y="2131920"/>
            <a:chExt cx="1566000" cy="1379160"/>
          </a:xfrm>
        </p:grpSpPr>
        <p:sp>
          <p:nvSpPr>
            <p:cNvPr id="300" name="Text Box 83"/>
            <p:cNvSpPr/>
            <p:nvPr/>
          </p:nvSpPr>
          <p:spPr>
            <a:xfrm>
              <a:off x="3785760" y="2131920"/>
              <a:ext cx="156600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Aumenta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Cristalinidad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1" name="Line 84"/>
            <p:cNvSpPr/>
            <p:nvPr/>
          </p:nvSpPr>
          <p:spPr>
            <a:xfrm flipV="1">
              <a:off x="4572000" y="2787120"/>
              <a:ext cx="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2" name="Group 85"/>
          <p:cNvGrpSpPr/>
          <p:nvPr/>
        </p:nvGrpSpPr>
        <p:grpSpPr>
          <a:xfrm>
            <a:off x="5375160" y="2131920"/>
            <a:ext cx="2609640" cy="1379160"/>
            <a:chOff x="5375160" y="2131920"/>
            <a:chExt cx="2609640" cy="1379160"/>
          </a:xfrm>
        </p:grpSpPr>
        <p:sp>
          <p:nvSpPr>
            <p:cNvPr id="303" name="Text Box 86"/>
            <p:cNvSpPr/>
            <p:nvPr/>
          </p:nvSpPr>
          <p:spPr>
            <a:xfrm>
              <a:off x="6572520" y="2131920"/>
              <a:ext cx="141228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Aumenta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Durez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4" name="Line 87"/>
            <p:cNvSpPr/>
            <p:nvPr/>
          </p:nvSpPr>
          <p:spPr>
            <a:xfrm flipV="1">
              <a:off x="5375160" y="2787120"/>
              <a:ext cx="110484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5" name="Group 88"/>
          <p:cNvGrpSpPr/>
          <p:nvPr/>
        </p:nvGrpSpPr>
        <p:grpSpPr>
          <a:xfrm>
            <a:off x="1681560" y="3981600"/>
            <a:ext cx="2288520" cy="1263240"/>
            <a:chOff x="1681560" y="3981600"/>
            <a:chExt cx="2288520" cy="1263240"/>
          </a:xfrm>
        </p:grpSpPr>
        <p:sp>
          <p:nvSpPr>
            <p:cNvPr id="306" name="Text Box 89"/>
            <p:cNvSpPr/>
            <p:nvPr/>
          </p:nvSpPr>
          <p:spPr>
            <a:xfrm>
              <a:off x="1681560" y="4602240"/>
              <a:ext cx="228852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Esmalte Superficial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tipo Fluorapatit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7" name="Line 90"/>
            <p:cNvSpPr/>
            <p:nvPr/>
          </p:nvSpPr>
          <p:spPr>
            <a:xfrm flipH="1">
              <a:off x="2901600" y="3981600"/>
              <a:ext cx="873000" cy="6220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8" name="Group 91"/>
          <p:cNvGrpSpPr/>
          <p:nvPr/>
        </p:nvGrpSpPr>
        <p:grpSpPr>
          <a:xfrm>
            <a:off x="5202360" y="3981600"/>
            <a:ext cx="1590480" cy="1263240"/>
            <a:chOff x="5202360" y="3981600"/>
            <a:chExt cx="1590480" cy="1263240"/>
          </a:xfrm>
        </p:grpSpPr>
        <p:sp>
          <p:nvSpPr>
            <p:cNvPr id="309" name="Text Box 92"/>
            <p:cNvSpPr/>
            <p:nvPr/>
          </p:nvSpPr>
          <p:spPr>
            <a:xfrm>
              <a:off x="5202360" y="4602240"/>
              <a:ext cx="159048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Disminuye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Solubilidad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10" name="Line 93"/>
            <p:cNvSpPr/>
            <p:nvPr/>
          </p:nvSpPr>
          <p:spPr>
            <a:xfrm>
              <a:off x="5375160" y="3981600"/>
              <a:ext cx="644760" cy="6220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819E-5089-45EC-A88B-614C8B3288B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3" name="Rectangle 46"/>
          <p:cNvSpPr/>
          <p:nvPr/>
        </p:nvSpPr>
        <p:spPr>
          <a:xfrm>
            <a:off x="291960" y="1060560"/>
            <a:ext cx="8610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Distribución y equilibrios del ion fluorur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4" name="Rectangle 47"/>
          <p:cNvSpPr/>
          <p:nvPr/>
        </p:nvSpPr>
        <p:spPr>
          <a:xfrm>
            <a:off x="1378080" y="2097000"/>
            <a:ext cx="1809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0.02 ppm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5" name="Line 48"/>
          <p:cNvSpPr/>
          <p:nvPr/>
        </p:nvSpPr>
        <p:spPr>
          <a:xfrm>
            <a:off x="1436760" y="19591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6" name="Line 49"/>
          <p:cNvSpPr/>
          <p:nvPr/>
        </p:nvSpPr>
        <p:spPr>
          <a:xfrm>
            <a:off x="1436760" y="26449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7" name="Line 50"/>
          <p:cNvSpPr/>
          <p:nvPr/>
        </p:nvSpPr>
        <p:spPr>
          <a:xfrm>
            <a:off x="1436760" y="279720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8" name="Line 51"/>
          <p:cNvSpPr/>
          <p:nvPr/>
        </p:nvSpPr>
        <p:spPr>
          <a:xfrm>
            <a:off x="1436760" y="35593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9" name="Line 52"/>
          <p:cNvSpPr/>
          <p:nvPr/>
        </p:nvSpPr>
        <p:spPr>
          <a:xfrm>
            <a:off x="1436760" y="432108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0" name="Line 53"/>
          <p:cNvSpPr/>
          <p:nvPr/>
        </p:nvSpPr>
        <p:spPr>
          <a:xfrm>
            <a:off x="1436760" y="4473720"/>
            <a:ext cx="639900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1" name="Line 54"/>
          <p:cNvSpPr/>
          <p:nvPr/>
        </p:nvSpPr>
        <p:spPr>
          <a:xfrm>
            <a:off x="1512720" y="3711600"/>
            <a:ext cx="624708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2" name="Line 55"/>
          <p:cNvSpPr/>
          <p:nvPr/>
        </p:nvSpPr>
        <p:spPr>
          <a:xfrm>
            <a:off x="273060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516888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4" name="Line 57"/>
          <p:cNvSpPr/>
          <p:nvPr/>
        </p:nvSpPr>
        <p:spPr>
          <a:xfrm>
            <a:off x="288288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5" name="Line 58"/>
          <p:cNvSpPr/>
          <p:nvPr/>
        </p:nvSpPr>
        <p:spPr>
          <a:xfrm>
            <a:off x="532116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6" name="Rectangle 59"/>
          <p:cNvSpPr/>
          <p:nvPr/>
        </p:nvSpPr>
        <p:spPr>
          <a:xfrm>
            <a:off x="3630960" y="2039760"/>
            <a:ext cx="486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 </a:t>
            </a: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ff0066"/>
                </a:solidFill>
                <a:latin typeface="Bookman Old Style"/>
              </a:rPr>
              <a:t>-- 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7" name="Line 60"/>
          <p:cNvSpPr/>
          <p:nvPr/>
        </p:nvSpPr>
        <p:spPr>
          <a:xfrm>
            <a:off x="3797280" y="257004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8" name="Line 61"/>
          <p:cNvSpPr/>
          <p:nvPr/>
        </p:nvSpPr>
        <p:spPr>
          <a:xfrm flipV="1">
            <a:off x="4025880" y="24177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9" name="Rectangle 62"/>
          <p:cNvSpPr/>
          <p:nvPr/>
        </p:nvSpPr>
        <p:spPr>
          <a:xfrm>
            <a:off x="3492360" y="3009960"/>
            <a:ext cx="7621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0066ff"/>
                </a:solidFill>
                <a:latin typeface="Bookman Old Style"/>
              </a:rPr>
              <a:t>--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0" name="Line 63"/>
          <p:cNvSpPr/>
          <p:nvPr/>
        </p:nvSpPr>
        <p:spPr>
          <a:xfrm>
            <a:off x="3797280" y="3408480"/>
            <a:ext cx="0" cy="45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1" name="Line 64"/>
          <p:cNvSpPr/>
          <p:nvPr/>
        </p:nvSpPr>
        <p:spPr>
          <a:xfrm flipV="1">
            <a:off x="4025880" y="34084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2" name="Rectangle 65"/>
          <p:cNvSpPr/>
          <p:nvPr/>
        </p:nvSpPr>
        <p:spPr>
          <a:xfrm>
            <a:off x="3340080" y="3787920"/>
            <a:ext cx="990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ff0066"/>
                </a:solidFill>
                <a:latin typeface="Bookman Old Style"/>
              </a:rPr>
              <a:t>--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3" name="Line 66"/>
          <p:cNvSpPr/>
          <p:nvPr/>
        </p:nvSpPr>
        <p:spPr>
          <a:xfrm>
            <a:off x="4255920" y="4016520"/>
            <a:ext cx="532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4" name="Line 67"/>
          <p:cNvSpPr/>
          <p:nvPr/>
        </p:nvSpPr>
        <p:spPr>
          <a:xfrm>
            <a:off x="3036960" y="4016520"/>
            <a:ext cx="531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5" name="Line 68"/>
          <p:cNvSpPr/>
          <p:nvPr/>
        </p:nvSpPr>
        <p:spPr>
          <a:xfrm>
            <a:off x="3797280" y="424656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6" name="Rectangle 69"/>
          <p:cNvSpPr/>
          <p:nvPr/>
        </p:nvSpPr>
        <p:spPr>
          <a:xfrm>
            <a:off x="1434960" y="2975040"/>
            <a:ext cx="182880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100 ppm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7" name="Rectangle 70"/>
          <p:cNvSpPr/>
          <p:nvPr/>
        </p:nvSpPr>
        <p:spPr>
          <a:xfrm>
            <a:off x="1397520" y="3751200"/>
            <a:ext cx="995760" cy="518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0066"/>
                </a:solidFill>
                <a:latin typeface="Bookman Old Style"/>
              </a:rPr>
              <a:t>2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0066"/>
                </a:solidFill>
                <a:latin typeface="Bookman Old Style"/>
              </a:rPr>
              <a:t>3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8" name="Rectangle 72"/>
          <p:cNvSpPr/>
          <p:nvPr/>
        </p:nvSpPr>
        <p:spPr>
          <a:xfrm>
            <a:off x="5778360" y="2149560"/>
            <a:ext cx="19051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SALIV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9" name="Rectangle 73"/>
          <p:cNvSpPr/>
          <p:nvPr/>
        </p:nvSpPr>
        <p:spPr>
          <a:xfrm>
            <a:off x="5530680" y="2849400"/>
            <a:ext cx="213372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PLACA BACTERIAN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0" name="Rectangle 74"/>
          <p:cNvSpPr/>
          <p:nvPr/>
        </p:nvSpPr>
        <p:spPr>
          <a:xfrm>
            <a:off x="6066000" y="3843360"/>
            <a:ext cx="146520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5949-84B7-426A-BF01-4A6BCE99564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228600" y="228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Mecanismo de acción del fluoruro a mediados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del siglo XX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533520" y="1254240"/>
            <a:ext cx="830556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Formación FA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El F ingerido desde el nacimiento era parcialmente incorporado al mineral del esmalte dental de la dentición permanente, formándose fluoroapati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Disminución solubilidad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La solubilidad en medio ácido de los fosfatos de calcio sustituidos los grupos hidroxilo por fluoruro indicaba que la fluoroapatita era menos soluble que la hidroxiapatati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Acción protectora del fluoruro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La incorporación de F al mineral de esmalte durante la formación del diente permanente ejercía una importante acción protectora contra la aparición de la lesión cariosa, debido a su mayor insolubilidad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Efecto sistémico del fluoruro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Se infirió, por lo tanto, que la acción cariostática del F era predominantemente sistémica. 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12BE-407F-4353-B255-38B99B51289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68200" y="698400"/>
            <a:ext cx="863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Efectos del Fluoruro sobre el Metabolismo Bacterian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8920" y="4881600"/>
            <a:ext cx="954000" cy="52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414680" y="5353200"/>
            <a:ext cx="954360" cy="52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0" name="Line 8"/>
          <p:cNvSpPr/>
          <p:nvPr/>
        </p:nvSpPr>
        <p:spPr>
          <a:xfrm flipV="1">
            <a:off x="4684680" y="3220560"/>
            <a:ext cx="157968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3162240" y="1585800"/>
            <a:ext cx="0" cy="81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3165480" y="5599080"/>
            <a:ext cx="6480" cy="95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809640" y="1859040"/>
            <a:ext cx="4718160" cy="4197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2703600" y="12636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2720520" y="229392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2527200" y="29084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osa - 6P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463840" y="35701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2- P  - Gluco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2427480" y="41990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 - enolpirúvic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2749680" y="48625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iruvat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2613240" y="53262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Ac. Láctic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2511720" y="649620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Ac. Láct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2948040" y="1679400"/>
            <a:ext cx="428400" cy="43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3" name="Oval 21"/>
          <p:cNvSpPr/>
          <p:nvPr/>
        </p:nvSpPr>
        <p:spPr>
          <a:xfrm>
            <a:off x="2928960" y="5840280"/>
            <a:ext cx="428760" cy="43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4" name="Line 22"/>
          <p:cNvSpPr/>
          <p:nvPr/>
        </p:nvSpPr>
        <p:spPr>
          <a:xfrm>
            <a:off x="3162240" y="2556000"/>
            <a:ext cx="0" cy="44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3933360" y="254808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ógen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-7920" y="25718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7" name="Oval 25"/>
          <p:cNvSpPr/>
          <p:nvPr/>
        </p:nvSpPr>
        <p:spPr>
          <a:xfrm>
            <a:off x="792000" y="2928960"/>
            <a:ext cx="560520" cy="428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793800" y="29829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T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9" name="Line 27"/>
          <p:cNvSpPr/>
          <p:nvPr/>
        </p:nvSpPr>
        <p:spPr>
          <a:xfrm>
            <a:off x="392040" y="2895480"/>
            <a:ext cx="406440" cy="17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3173400" y="3174840"/>
            <a:ext cx="0" cy="44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1" name="Line 29"/>
          <p:cNvSpPr/>
          <p:nvPr/>
        </p:nvSpPr>
        <p:spPr>
          <a:xfrm>
            <a:off x="3182760" y="3805200"/>
            <a:ext cx="0" cy="44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2" name="Line 30"/>
          <p:cNvSpPr/>
          <p:nvPr/>
        </p:nvSpPr>
        <p:spPr>
          <a:xfrm>
            <a:off x="3193920" y="4484520"/>
            <a:ext cx="0" cy="44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3" name="Line 31"/>
          <p:cNvSpPr/>
          <p:nvPr/>
        </p:nvSpPr>
        <p:spPr>
          <a:xfrm>
            <a:off x="3187800" y="511668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4" name="Oval 32"/>
          <p:cNvSpPr/>
          <p:nvPr/>
        </p:nvSpPr>
        <p:spPr>
          <a:xfrm>
            <a:off x="3456000" y="1557360"/>
            <a:ext cx="285840" cy="272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452760" y="1517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6" name="Oval 34"/>
          <p:cNvSpPr/>
          <p:nvPr/>
        </p:nvSpPr>
        <p:spPr>
          <a:xfrm>
            <a:off x="468360" y="308124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461880" y="30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8" name="Oval 36"/>
          <p:cNvSpPr/>
          <p:nvPr/>
        </p:nvSpPr>
        <p:spPr>
          <a:xfrm>
            <a:off x="4363920" y="313524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4360680" y="3094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0" name="AutoShape 38"/>
          <p:cNvSpPr/>
          <p:nvPr/>
        </p:nvSpPr>
        <p:spPr>
          <a:xfrm>
            <a:off x="3944880" y="2827440"/>
            <a:ext cx="1050840" cy="2826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1" name="Oval 39"/>
          <p:cNvSpPr/>
          <p:nvPr/>
        </p:nvSpPr>
        <p:spPr>
          <a:xfrm>
            <a:off x="4998960" y="3195720"/>
            <a:ext cx="987480" cy="428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5095080" y="32529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ATPa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3" name="Oval 41"/>
          <p:cNvSpPr/>
          <p:nvPr/>
        </p:nvSpPr>
        <p:spPr>
          <a:xfrm>
            <a:off x="5391000" y="2911320"/>
            <a:ext cx="285840" cy="273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5386320" y="287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2100240" y="3857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Enola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6" name="Rectangle 44"/>
          <p:cNvSpPr/>
          <p:nvPr/>
        </p:nvSpPr>
        <p:spPr>
          <a:xfrm>
            <a:off x="3851280" y="3860640"/>
            <a:ext cx="741240" cy="346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4084560" y="3875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F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8" name="Line 46"/>
          <p:cNvSpPr/>
          <p:nvPr/>
        </p:nvSpPr>
        <p:spPr>
          <a:xfrm>
            <a:off x="3322800" y="4013280"/>
            <a:ext cx="528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9" name="Line 47"/>
          <p:cNvSpPr/>
          <p:nvPr/>
        </p:nvSpPr>
        <p:spPr>
          <a:xfrm flipV="1">
            <a:off x="4633920" y="3617640"/>
            <a:ext cx="577800" cy="41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0" name="Oval 48"/>
          <p:cNvSpPr/>
          <p:nvPr/>
        </p:nvSpPr>
        <p:spPr>
          <a:xfrm>
            <a:off x="3530520" y="402912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3525840" y="3987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4336920" y="33973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6259320" y="303228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4" name="Oval 52"/>
          <p:cNvSpPr/>
          <p:nvPr/>
        </p:nvSpPr>
        <p:spPr>
          <a:xfrm>
            <a:off x="4624560" y="4818240"/>
            <a:ext cx="606240" cy="1090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4640040" y="51642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MF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6" name="Text Box 54"/>
          <p:cNvSpPr/>
          <p:nvPr/>
        </p:nvSpPr>
        <p:spPr>
          <a:xfrm>
            <a:off x="4110120" y="512280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7" name="Text Box 55"/>
          <p:cNvSpPr/>
          <p:nvPr/>
        </p:nvSpPr>
        <p:spPr>
          <a:xfrm>
            <a:off x="5354640" y="577548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8" name="Text Box 56"/>
          <p:cNvSpPr/>
          <p:nvPr/>
        </p:nvSpPr>
        <p:spPr>
          <a:xfrm>
            <a:off x="4218840" y="46688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9" name="Text Box 57"/>
          <p:cNvSpPr/>
          <p:nvPr/>
        </p:nvSpPr>
        <p:spPr>
          <a:xfrm>
            <a:off x="5477760" y="52941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5259240" y="5484960"/>
            <a:ext cx="287640" cy="272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1" name="Text Box 59"/>
          <p:cNvSpPr/>
          <p:nvPr/>
        </p:nvSpPr>
        <p:spPr>
          <a:xfrm>
            <a:off x="5252760" y="544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3394080" y="562608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3" name="Text Box 61"/>
          <p:cNvSpPr/>
          <p:nvPr/>
        </p:nvSpPr>
        <p:spPr>
          <a:xfrm>
            <a:off x="3387600" y="5584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4" name="Text Box 62"/>
          <p:cNvSpPr/>
          <p:nvPr/>
        </p:nvSpPr>
        <p:spPr>
          <a:xfrm>
            <a:off x="6584040" y="1436760"/>
            <a:ext cx="2354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1.- Sistem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fosfotransfer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2.- Transpor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azúcares dependiente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3.- Bloqueo síntesi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glucógeno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4.- Enol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5.- Salida de H</a:t>
            </a:r>
            <a:r>
              <a:rPr b="1" lang="es-ES" sz="16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6.- Salida de H</a:t>
            </a:r>
            <a:r>
              <a:rPr b="1" lang="es-ES" sz="16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asociada a APT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7.- Bloqueo d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transporte solutos e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fuerza motriz d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protones (PMF)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F97-000B-4970-83E4-342CB09CCA3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127620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08" name="Group 68"/>
          <p:cNvGrpSpPr/>
          <p:nvPr/>
        </p:nvGrpSpPr>
        <p:grpSpPr>
          <a:xfrm>
            <a:off x="304560" y="2805120"/>
            <a:ext cx="8118360" cy="1601280"/>
            <a:chOff x="304560" y="2805120"/>
            <a:chExt cx="8118360" cy="1601280"/>
          </a:xfrm>
        </p:grpSpPr>
        <p:sp>
          <p:nvSpPr>
            <p:cNvPr id="409" name="Text Box 45"/>
            <p:cNvSpPr/>
            <p:nvPr/>
          </p:nvSpPr>
          <p:spPr>
            <a:xfrm>
              <a:off x="2845440" y="2805120"/>
              <a:ext cx="3448080" cy="4597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66ff"/>
                  </a:solidFill>
                  <a:latin typeface="Bookman Old Style"/>
                </a:rPr>
                <a:t>FLUORUROS TÓPICOS</a:t>
              </a:r>
              <a:endParaRPr b="1" lang="en-US" sz="24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0" name="Text Box 46"/>
            <p:cNvSpPr/>
            <p:nvPr/>
          </p:nvSpPr>
          <p:spPr>
            <a:xfrm>
              <a:off x="304560" y="3768480"/>
              <a:ext cx="264204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DESMINERALIZ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1" name="Text Box 47"/>
            <p:cNvSpPr/>
            <p:nvPr/>
          </p:nvSpPr>
          <p:spPr>
            <a:xfrm>
              <a:off x="3493800" y="3768480"/>
              <a:ext cx="249732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REMINERALIZ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2" name="Text Box 48"/>
            <p:cNvSpPr/>
            <p:nvPr/>
          </p:nvSpPr>
          <p:spPr>
            <a:xfrm>
              <a:off x="6715080" y="3763800"/>
              <a:ext cx="1707840" cy="6426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PLAC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MICROBIAN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413" name="Group 67"/>
            <p:cNvGrpSpPr/>
            <p:nvPr/>
          </p:nvGrpSpPr>
          <p:grpSpPr>
            <a:xfrm>
              <a:off x="1374840" y="3252600"/>
              <a:ext cx="6289200" cy="533160"/>
              <a:chOff x="1374840" y="3252600"/>
              <a:chExt cx="6289200" cy="533160"/>
            </a:xfrm>
          </p:grpSpPr>
          <p:sp>
            <p:nvSpPr>
              <p:cNvPr id="414" name="Line 50"/>
              <p:cNvSpPr/>
              <p:nvPr/>
            </p:nvSpPr>
            <p:spPr>
              <a:xfrm>
                <a:off x="1374840" y="3531600"/>
                <a:ext cx="625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5" name="Line 51"/>
              <p:cNvSpPr/>
              <p:nvPr/>
            </p:nvSpPr>
            <p:spPr>
              <a:xfrm>
                <a:off x="1374840" y="3544200"/>
                <a:ext cx="0" cy="24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6" name="Line 52"/>
              <p:cNvSpPr/>
              <p:nvPr/>
            </p:nvSpPr>
            <p:spPr>
              <a:xfrm>
                <a:off x="4579200" y="32526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7" name="Line 53"/>
              <p:cNvSpPr/>
              <p:nvPr/>
            </p:nvSpPr>
            <p:spPr>
              <a:xfrm>
                <a:off x="7664040" y="3531600"/>
                <a:ext cx="0" cy="24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418" name="Group 66"/>
          <p:cNvGrpSpPr/>
          <p:nvPr/>
        </p:nvGrpSpPr>
        <p:grpSpPr>
          <a:xfrm>
            <a:off x="1446120" y="4846680"/>
            <a:ext cx="6215040" cy="1244520"/>
            <a:chOff x="1446120" y="4846680"/>
            <a:chExt cx="6215040" cy="1244520"/>
          </a:xfrm>
        </p:grpSpPr>
        <p:sp>
          <p:nvSpPr>
            <p:cNvPr id="419" name="Text Box 55"/>
            <p:cNvSpPr/>
            <p:nvPr/>
          </p:nvSpPr>
          <p:spPr>
            <a:xfrm>
              <a:off x="1446120" y="5318280"/>
              <a:ext cx="2921040" cy="398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0066"/>
                  </a:solidFill>
                  <a:latin typeface="Bookman Old Style"/>
                </a:rPr>
                <a:t>DESMINERALIZA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20" name="Text Box 56"/>
            <p:cNvSpPr/>
            <p:nvPr/>
          </p:nvSpPr>
          <p:spPr>
            <a:xfrm>
              <a:off x="5462640" y="4846680"/>
              <a:ext cx="219852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66"/>
                  </a:solidFill>
                  <a:latin typeface="Bookman Old Style"/>
                </a:rPr>
                <a:t>CONCENTR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21" name="Text Box 57"/>
            <p:cNvSpPr/>
            <p:nvPr/>
          </p:nvSpPr>
          <p:spPr>
            <a:xfrm>
              <a:off x="5428800" y="5722920"/>
              <a:ext cx="95796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66"/>
                  </a:solidFill>
                  <a:latin typeface="Bookman Old Style"/>
                </a:rPr>
                <a:t>LUGAR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422" name="Group 58"/>
            <p:cNvGrpSpPr/>
            <p:nvPr/>
          </p:nvGrpSpPr>
          <p:grpSpPr>
            <a:xfrm>
              <a:off x="4470480" y="5011920"/>
              <a:ext cx="927000" cy="914400"/>
              <a:chOff x="4470480" y="5011920"/>
              <a:chExt cx="927000" cy="914400"/>
            </a:xfrm>
          </p:grpSpPr>
          <p:sp>
            <p:nvSpPr>
              <p:cNvPr id="423" name="Line 59"/>
              <p:cNvSpPr/>
              <p:nvPr/>
            </p:nvSpPr>
            <p:spPr>
              <a:xfrm>
                <a:off x="4470480" y="554544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4" name="Line 60"/>
              <p:cNvSpPr/>
              <p:nvPr/>
            </p:nvSpPr>
            <p:spPr>
              <a:xfrm>
                <a:off x="4826160" y="501192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5" name="Line 61"/>
              <p:cNvSpPr/>
              <p:nvPr/>
            </p:nvSpPr>
            <p:spPr>
              <a:xfrm>
                <a:off x="4838760" y="502452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6" name="Line 62"/>
              <p:cNvSpPr/>
              <p:nvPr/>
            </p:nvSpPr>
            <p:spPr>
              <a:xfrm>
                <a:off x="4826160" y="592632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27" name="Text Box 63"/>
          <p:cNvSpPr/>
          <p:nvPr/>
        </p:nvSpPr>
        <p:spPr>
          <a:xfrm>
            <a:off x="3556800" y="1743120"/>
            <a:ext cx="193788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Bookman Old Style"/>
              </a:rPr>
              <a:t>Liberación d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Bookman Old Style"/>
              </a:rPr>
              <a:t>Fluoruro Iónic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28" name="Line 64"/>
          <p:cNvSpPr/>
          <p:nvPr/>
        </p:nvSpPr>
        <p:spPr>
          <a:xfrm flipV="1">
            <a:off x="4551480" y="2360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75A-7A7C-4B4A-A74F-3EE92A86DFC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1" name="Text Box 57"/>
          <p:cNvSpPr/>
          <p:nvPr/>
        </p:nvSpPr>
        <p:spPr>
          <a:xfrm>
            <a:off x="1690200" y="2039760"/>
            <a:ext cx="2361600" cy="8240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EFECTOS DE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FLÚOR EN L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DES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32" name="Group 58"/>
          <p:cNvGrpSpPr/>
          <p:nvPr/>
        </p:nvGrpSpPr>
        <p:grpSpPr>
          <a:xfrm>
            <a:off x="4129200" y="1785960"/>
            <a:ext cx="939600" cy="1434600"/>
            <a:chOff x="4129200" y="1785960"/>
            <a:chExt cx="939600" cy="1434600"/>
          </a:xfrm>
        </p:grpSpPr>
        <p:sp>
          <p:nvSpPr>
            <p:cNvPr id="433" name="Line 59"/>
            <p:cNvSpPr/>
            <p:nvPr/>
          </p:nvSpPr>
          <p:spPr>
            <a:xfrm>
              <a:off x="4129200" y="2471400"/>
              <a:ext cx="35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4" name="Line 60"/>
            <p:cNvSpPr/>
            <p:nvPr/>
          </p:nvSpPr>
          <p:spPr>
            <a:xfrm>
              <a:off x="4497480" y="1798200"/>
              <a:ext cx="0" cy="14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5" name="Line 61"/>
            <p:cNvSpPr/>
            <p:nvPr/>
          </p:nvSpPr>
          <p:spPr>
            <a:xfrm>
              <a:off x="4497480" y="1785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6" name="Line 62"/>
            <p:cNvSpPr/>
            <p:nvPr/>
          </p:nvSpPr>
          <p:spPr>
            <a:xfrm>
              <a:off x="4510080" y="24714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7" name="Line 63"/>
            <p:cNvSpPr/>
            <p:nvPr/>
          </p:nvSpPr>
          <p:spPr>
            <a:xfrm>
              <a:off x="4497480" y="3207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38" name="Text Box 64"/>
          <p:cNvSpPr/>
          <p:nvPr/>
        </p:nvSpPr>
        <p:spPr>
          <a:xfrm>
            <a:off x="5203440" y="1633680"/>
            <a:ext cx="1761120" cy="440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Fase Líquida (F</a:t>
            </a:r>
            <a:r>
              <a:rPr b="1" i="1" lang="es-ES_tradnl" sz="2000" spc="-1" strike="noStrike" baseline="-25000">
                <a:solidFill>
                  <a:srgbClr val="ff0066"/>
                </a:solidFill>
                <a:latin typeface="Bookman Old Style"/>
              </a:rPr>
              <a:t>1</a:t>
            </a: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)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9" name="Text Box 65"/>
          <p:cNvSpPr/>
          <p:nvPr/>
        </p:nvSpPr>
        <p:spPr>
          <a:xfrm>
            <a:off x="5210280" y="2281320"/>
            <a:ext cx="19332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ior del crist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0" name="Text Box 66"/>
          <p:cNvSpPr/>
          <p:nvPr/>
        </p:nvSpPr>
        <p:spPr>
          <a:xfrm>
            <a:off x="5204520" y="3043080"/>
            <a:ext cx="1771920" cy="440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F Superficie (F</a:t>
            </a:r>
            <a:r>
              <a:rPr b="1" i="1" lang="es-ES_tradnl" sz="2000" spc="-1" strike="noStrike" baseline="-25000">
                <a:solidFill>
                  <a:srgbClr val="ff0066"/>
                </a:solidFill>
                <a:latin typeface="Bookman Old Style"/>
              </a:rPr>
              <a:t>on</a:t>
            </a: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)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1" name="Line 73"/>
          <p:cNvSpPr/>
          <p:nvPr/>
        </p:nvSpPr>
        <p:spPr>
          <a:xfrm>
            <a:off x="5864400" y="439884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2" name="Text Box 76"/>
          <p:cNvSpPr/>
          <p:nvPr/>
        </p:nvSpPr>
        <p:spPr>
          <a:xfrm>
            <a:off x="1271520" y="4221000"/>
            <a:ext cx="19332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ior del crist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3" name="Text Box 77"/>
          <p:cNvSpPr/>
          <p:nvPr/>
        </p:nvSpPr>
        <p:spPr>
          <a:xfrm>
            <a:off x="3829680" y="4221000"/>
            <a:ext cx="19530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Menos importan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4" name="Text Box 78"/>
          <p:cNvSpPr/>
          <p:nvPr/>
        </p:nvSpPr>
        <p:spPr>
          <a:xfrm>
            <a:off x="6248880" y="4081320"/>
            <a:ext cx="1416600" cy="580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cambio 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ón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5" name="Line 79"/>
          <p:cNvSpPr/>
          <p:nvPr/>
        </p:nvSpPr>
        <p:spPr>
          <a:xfrm>
            <a:off x="3390840" y="441180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6" name="Text Box 80"/>
          <p:cNvSpPr/>
          <p:nvPr/>
        </p:nvSpPr>
        <p:spPr>
          <a:xfrm>
            <a:off x="3247560" y="4906800"/>
            <a:ext cx="476496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0066"/>
                </a:solidFill>
                <a:latin typeface="Bookman Old Style"/>
              </a:rPr>
              <a:t>Gradiente captación desde superficie al interi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7" name="Line 81"/>
          <p:cNvSpPr/>
          <p:nvPr/>
        </p:nvSpPr>
        <p:spPr>
          <a:xfrm>
            <a:off x="2476440" y="4576680"/>
            <a:ext cx="0" cy="52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8" name="Line 82"/>
          <p:cNvSpPr/>
          <p:nvPr/>
        </p:nvSpPr>
        <p:spPr>
          <a:xfrm>
            <a:off x="2463840" y="509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9" name="Text Box 83"/>
          <p:cNvSpPr/>
          <p:nvPr/>
        </p:nvSpPr>
        <p:spPr>
          <a:xfrm>
            <a:off x="1253880" y="87480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B16C-DC2B-49EE-8C1E-390EC2A2804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52" name="Group 8"/>
          <p:cNvGrpSpPr/>
          <p:nvPr/>
        </p:nvGrpSpPr>
        <p:grpSpPr>
          <a:xfrm>
            <a:off x="3581280" y="5180040"/>
            <a:ext cx="495360" cy="88920"/>
            <a:chOff x="3581280" y="5180040"/>
            <a:chExt cx="495360" cy="88920"/>
          </a:xfrm>
        </p:grpSpPr>
        <p:sp>
          <p:nvSpPr>
            <p:cNvPr id="453" name="Line 9"/>
            <p:cNvSpPr/>
            <p:nvPr/>
          </p:nvSpPr>
          <p:spPr>
            <a:xfrm>
              <a:off x="3581280" y="518004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54" name="Line 10"/>
            <p:cNvSpPr/>
            <p:nvPr/>
          </p:nvSpPr>
          <p:spPr>
            <a:xfrm>
              <a:off x="3581280" y="526896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55" name="Rectangle 11"/>
          <p:cNvSpPr/>
          <p:nvPr/>
        </p:nvSpPr>
        <p:spPr>
          <a:xfrm>
            <a:off x="1453680" y="5013360"/>
            <a:ext cx="6436440" cy="784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            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i="1" lang="es-MX" sz="18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Ca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10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(PO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6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(OH)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CaHPO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+ 4Ca</a:t>
            </a:r>
            <a:r>
              <a:rPr b="1" i="1" lang="es-MX" sz="2400" spc="-1" strike="noStrike" baseline="30000">
                <a:solidFill>
                  <a:srgbClr val="0066ff"/>
                </a:solidFill>
                <a:latin typeface="Arial"/>
              </a:rPr>
              <a:t>2+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+2 H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905400" y="43768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99"/>
                </a:solidFill>
                <a:uFillTx/>
                <a:latin typeface="Arial"/>
              </a:rPr>
              <a:t>Reacción en medio ácido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1171440" y="3759120"/>
            <a:ext cx="6462720" cy="560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Ca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10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(PO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6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(OH)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20 F</a:t>
            </a:r>
            <a:r>
              <a:rPr b="1" i="1" lang="es-MX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10Ca F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6PO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i="1" lang="es-MX" sz="2400" spc="-1" strike="noStrike" baseline="30000">
                <a:solidFill>
                  <a:srgbClr val="ff0066"/>
                </a:solidFill>
                <a:latin typeface="Arial"/>
              </a:rPr>
              <a:t>-3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2OH</a:t>
            </a:r>
            <a:r>
              <a:rPr b="1" i="1" lang="es-MX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58" name="Group 16"/>
          <p:cNvGrpSpPr/>
          <p:nvPr/>
        </p:nvGrpSpPr>
        <p:grpSpPr>
          <a:xfrm>
            <a:off x="4000680" y="4202280"/>
            <a:ext cx="495000" cy="88560"/>
            <a:chOff x="4000680" y="4202280"/>
            <a:chExt cx="495000" cy="88560"/>
          </a:xfrm>
        </p:grpSpPr>
        <p:sp>
          <p:nvSpPr>
            <p:cNvPr id="459" name="Line 17"/>
            <p:cNvSpPr/>
            <p:nvPr/>
          </p:nvSpPr>
          <p:spPr>
            <a:xfrm>
              <a:off x="4000680" y="4202280"/>
              <a:ext cx="495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0" name="Line 18"/>
            <p:cNvSpPr/>
            <p:nvPr/>
          </p:nvSpPr>
          <p:spPr>
            <a:xfrm>
              <a:off x="4000680" y="4290840"/>
              <a:ext cx="495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61" name="Text Box 19"/>
          <p:cNvSpPr/>
          <p:nvPr/>
        </p:nvSpPr>
        <p:spPr>
          <a:xfrm>
            <a:off x="695880" y="3195720"/>
            <a:ext cx="41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acción de formación del CaF</a:t>
            </a:r>
            <a:r>
              <a:rPr b="1" lang="es-MX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62" name="Group 33"/>
          <p:cNvGrpSpPr/>
          <p:nvPr/>
        </p:nvGrpSpPr>
        <p:grpSpPr>
          <a:xfrm>
            <a:off x="846720" y="1722600"/>
            <a:ext cx="7387200" cy="784440"/>
            <a:chOff x="846720" y="1722600"/>
            <a:chExt cx="7387200" cy="784440"/>
          </a:xfrm>
        </p:grpSpPr>
        <p:sp>
          <p:nvSpPr>
            <p:cNvPr id="463" name="Line 22"/>
            <p:cNvSpPr/>
            <p:nvPr/>
          </p:nvSpPr>
          <p:spPr>
            <a:xfrm>
              <a:off x="5084640" y="208440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4" name="Text Box 23"/>
            <p:cNvSpPr/>
            <p:nvPr/>
          </p:nvSpPr>
          <p:spPr>
            <a:xfrm>
              <a:off x="846720" y="1854000"/>
              <a:ext cx="2062800" cy="510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F Superficie (F</a:t>
              </a:r>
              <a:r>
                <a:rPr b="1" i="1" lang="es-ES_tradnl" sz="2400" spc="-1" strike="noStrike" baseline="-25000">
                  <a:solidFill>
                    <a:srgbClr val="ff0066"/>
                  </a:solidFill>
                  <a:latin typeface="Arial"/>
                </a:rPr>
                <a:t>on</a:t>
              </a: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)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3447720" y="1866600"/>
              <a:ext cx="142596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Importante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5418000" y="1722600"/>
              <a:ext cx="2815920" cy="784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Formación de 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material tipo Ca F</a:t>
              </a:r>
              <a:r>
                <a:rPr b="1" i="1" lang="es-ES_tradnl" sz="2400" spc="-1" strike="noStrike" baseline="-25000">
                  <a:solidFill>
                    <a:srgbClr val="ff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>
              <a:off x="3112920" y="208440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68" name="Text Box 27"/>
          <p:cNvSpPr/>
          <p:nvPr/>
        </p:nvSpPr>
        <p:spPr>
          <a:xfrm>
            <a:off x="728640" y="2587680"/>
            <a:ext cx="475560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Grosor variable para cada Fluoruro tópic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6045120" y="2368440"/>
            <a:ext cx="774720" cy="380880"/>
            <a:chOff x="6045120" y="2368440"/>
            <a:chExt cx="774720" cy="380880"/>
          </a:xfrm>
        </p:grpSpPr>
        <p:sp>
          <p:nvSpPr>
            <p:cNvPr id="470" name="Line 28"/>
            <p:cNvSpPr/>
            <p:nvPr/>
          </p:nvSpPr>
          <p:spPr>
            <a:xfrm>
              <a:off x="6819840" y="2368440"/>
              <a:ext cx="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71" name="Line 29"/>
            <p:cNvSpPr/>
            <p:nvPr/>
          </p:nvSpPr>
          <p:spPr>
            <a:xfrm>
              <a:off x="6045120" y="274932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72" name="Line 30"/>
          <p:cNvSpPr/>
          <p:nvPr/>
        </p:nvSpPr>
        <p:spPr>
          <a:xfrm>
            <a:off x="4065480" y="544500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3" name="Line 31"/>
          <p:cNvSpPr/>
          <p:nvPr/>
        </p:nvSpPr>
        <p:spPr>
          <a:xfrm>
            <a:off x="4178160" y="395928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127476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B169-AF12-40E9-AF94-A8807B43157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595080" y="1447920"/>
            <a:ext cx="7930080" cy="3951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. Tipos de Enlace.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Metales: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1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;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2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: Fluoruros Iónicos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NaF ;  Sn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Metales: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3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y Est. Ox. sup.: Fluoruros Covalentes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Al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No Metales: Fuoruros Covalent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Na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P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1EF8-34A9-4BFA-8333-7F00C92F82D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799560" y="1690560"/>
            <a:ext cx="7012800" cy="916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REMINERALIZACIÓN: Reparación de  lesión cariosa, proces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lento en el cual el mineral formado “de novo” es precipitado e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una lesión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127620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79" name="21 Grupo"/>
          <p:cNvGrpSpPr/>
          <p:nvPr/>
        </p:nvGrpSpPr>
        <p:grpSpPr>
          <a:xfrm>
            <a:off x="1911240" y="3414600"/>
            <a:ext cx="5227920" cy="2694240"/>
            <a:chOff x="1911240" y="3414600"/>
            <a:chExt cx="5227920" cy="2694240"/>
          </a:xfrm>
        </p:grpSpPr>
        <p:sp>
          <p:nvSpPr>
            <p:cNvPr id="480" name="Rectangle 114"/>
            <p:cNvSpPr/>
            <p:nvPr/>
          </p:nvSpPr>
          <p:spPr>
            <a:xfrm>
              <a:off x="1911240" y="3414600"/>
              <a:ext cx="5227920" cy="26942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1" name="Line 79"/>
            <p:cNvSpPr/>
            <p:nvPr/>
          </p:nvSpPr>
          <p:spPr>
            <a:xfrm>
              <a:off x="3124080" y="3419280"/>
              <a:ext cx="0" cy="210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2" name="Line 80"/>
            <p:cNvSpPr/>
            <p:nvPr/>
          </p:nvSpPr>
          <p:spPr>
            <a:xfrm>
              <a:off x="3143160" y="5537520"/>
              <a:ext cx="31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3" name="Arc 81"/>
            <p:cNvSpPr/>
            <p:nvPr/>
          </p:nvSpPr>
          <p:spPr>
            <a:xfrm>
              <a:off x="3659040" y="3593880"/>
              <a:ext cx="1866960" cy="1662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4" name="Arc 82"/>
            <p:cNvSpPr/>
            <p:nvPr/>
          </p:nvSpPr>
          <p:spPr>
            <a:xfrm>
              <a:off x="3773520" y="4047840"/>
              <a:ext cx="1809720" cy="1004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5" name="Arc 83"/>
            <p:cNvSpPr/>
            <p:nvPr/>
          </p:nvSpPr>
          <p:spPr>
            <a:xfrm rot="11280000">
              <a:off x="3641400" y="4251240"/>
              <a:ext cx="1846440" cy="1190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6" name="Line 84"/>
            <p:cNvSpPr/>
            <p:nvPr/>
          </p:nvSpPr>
          <p:spPr>
            <a:xfrm>
              <a:off x="367668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7" name="Line 85"/>
            <p:cNvSpPr/>
            <p:nvPr/>
          </p:nvSpPr>
          <p:spPr>
            <a:xfrm>
              <a:off x="419112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8" name="Line 86"/>
            <p:cNvSpPr/>
            <p:nvPr/>
          </p:nvSpPr>
          <p:spPr>
            <a:xfrm>
              <a:off x="510552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9" name="Line 87"/>
            <p:cNvSpPr/>
            <p:nvPr/>
          </p:nvSpPr>
          <p:spPr>
            <a:xfrm>
              <a:off x="550548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0" name="Line 88"/>
            <p:cNvSpPr/>
            <p:nvPr/>
          </p:nvSpPr>
          <p:spPr>
            <a:xfrm>
              <a:off x="466740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1" name="Line 89"/>
            <p:cNvSpPr/>
            <p:nvPr/>
          </p:nvSpPr>
          <p:spPr>
            <a:xfrm>
              <a:off x="5943960" y="54597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2" name="Rectangle 90"/>
            <p:cNvSpPr/>
            <p:nvPr/>
          </p:nvSpPr>
          <p:spPr>
            <a:xfrm>
              <a:off x="2011320" y="3697200"/>
              <a:ext cx="1066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-log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(T</a:t>
              </a:r>
              <a:r>
                <a:rPr b="1" i="1" lang="es-ES" sz="1800" spc="-1" strike="noStrike" baseline="-25000">
                  <a:solidFill>
                    <a:srgbClr val="0033cc"/>
                  </a:solidFill>
                  <a:latin typeface="Bookman Old Style"/>
                </a:rPr>
                <a:t>Ca</a:t>
              </a: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 x T</a:t>
              </a:r>
              <a:r>
                <a:rPr b="1" i="1" lang="es-ES" sz="1800" spc="-1" strike="noStrike" baseline="-25000">
                  <a:solidFill>
                    <a:srgbClr val="0033cc"/>
                  </a:solidFill>
                  <a:latin typeface="Bookman Old Style"/>
                </a:rPr>
                <a:t>P</a:t>
              </a: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)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3" name="Rectangle 92"/>
            <p:cNvSpPr/>
            <p:nvPr/>
          </p:nvSpPr>
          <p:spPr>
            <a:xfrm>
              <a:off x="4905720" y="4734000"/>
              <a:ext cx="30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800" spc="-1" strike="noStrike">
                  <a:solidFill>
                    <a:srgbClr val="0033cc"/>
                  </a:solidFill>
                  <a:latin typeface="Bookman Old Style"/>
                </a:rPr>
                <a:t>F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4" name="Line 93"/>
            <p:cNvSpPr/>
            <p:nvPr/>
          </p:nvSpPr>
          <p:spPr>
            <a:xfrm>
              <a:off x="5048280" y="437652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5" name="Line 94"/>
            <p:cNvSpPr/>
            <p:nvPr/>
          </p:nvSpPr>
          <p:spPr>
            <a:xfrm>
              <a:off x="5029200" y="367020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6" name="Rectangle 95"/>
            <p:cNvSpPr/>
            <p:nvPr/>
          </p:nvSpPr>
          <p:spPr>
            <a:xfrm>
              <a:off x="5135400" y="3716280"/>
              <a:ext cx="1603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mineraliz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7" name="Rectangle 96"/>
            <p:cNvSpPr/>
            <p:nvPr/>
          </p:nvSpPr>
          <p:spPr>
            <a:xfrm>
              <a:off x="5573880" y="3428640"/>
              <a:ext cx="70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OH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8" name="Rectangle 97"/>
            <p:cNvSpPr/>
            <p:nvPr/>
          </p:nvSpPr>
          <p:spPr>
            <a:xfrm>
              <a:off x="5583600" y="3914640"/>
              <a:ext cx="681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OCP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9" name="Rectangle 98"/>
            <p:cNvSpPr/>
            <p:nvPr/>
          </p:nvSpPr>
          <p:spPr>
            <a:xfrm>
              <a:off x="5639400" y="4244760"/>
              <a:ext cx="840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DC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0" name="Rectangle 99"/>
            <p:cNvSpPr/>
            <p:nvPr/>
          </p:nvSpPr>
          <p:spPr>
            <a:xfrm>
              <a:off x="354024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1" name="Rectangle 100"/>
            <p:cNvSpPr/>
            <p:nvPr/>
          </p:nvSpPr>
          <p:spPr>
            <a:xfrm>
              <a:off x="405468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2" name="Rectangle 101"/>
            <p:cNvSpPr/>
            <p:nvPr/>
          </p:nvSpPr>
          <p:spPr>
            <a:xfrm>
              <a:off x="453096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3" name="Rectangle 102"/>
            <p:cNvSpPr/>
            <p:nvPr/>
          </p:nvSpPr>
          <p:spPr>
            <a:xfrm>
              <a:off x="498816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4" name="Rectangle 103"/>
            <p:cNvSpPr/>
            <p:nvPr/>
          </p:nvSpPr>
          <p:spPr>
            <a:xfrm>
              <a:off x="536940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8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5" name="Rectangle 104"/>
            <p:cNvSpPr/>
            <p:nvPr/>
          </p:nvSpPr>
          <p:spPr>
            <a:xfrm>
              <a:off x="6139080" y="5640480"/>
              <a:ext cx="51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pH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6" name="Line 105"/>
            <p:cNvSpPr/>
            <p:nvPr/>
          </p:nvSpPr>
          <p:spPr>
            <a:xfrm>
              <a:off x="3124080" y="527076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7" name="Line 106"/>
            <p:cNvSpPr/>
            <p:nvPr/>
          </p:nvSpPr>
          <p:spPr>
            <a:xfrm>
              <a:off x="3124080" y="500400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8" name="Line 107"/>
            <p:cNvSpPr/>
            <p:nvPr/>
          </p:nvSpPr>
          <p:spPr>
            <a:xfrm>
              <a:off x="3124080" y="47689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9" name="Line 108"/>
            <p:cNvSpPr/>
            <p:nvPr/>
          </p:nvSpPr>
          <p:spPr>
            <a:xfrm>
              <a:off x="3143160" y="41716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0" name="Line 109"/>
            <p:cNvSpPr/>
            <p:nvPr/>
          </p:nvSpPr>
          <p:spPr>
            <a:xfrm>
              <a:off x="3105000" y="38908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1" name="Line 110"/>
            <p:cNvSpPr/>
            <p:nvPr/>
          </p:nvSpPr>
          <p:spPr>
            <a:xfrm>
              <a:off x="3124080" y="44704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2" name="Line 111"/>
            <p:cNvSpPr/>
            <p:nvPr/>
          </p:nvSpPr>
          <p:spPr>
            <a:xfrm>
              <a:off x="3143160" y="359244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513" name="Text Box 77"/>
          <p:cNvSpPr/>
          <p:nvPr/>
        </p:nvSpPr>
        <p:spPr>
          <a:xfrm>
            <a:off x="411480" y="2732040"/>
            <a:ext cx="67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úor sobre la mineralizació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D0D-AEB7-43FA-9978-B72B6726948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546120" y="2151000"/>
            <a:ext cx="268776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66"/>
                </a:solidFill>
                <a:latin typeface="Arial"/>
              </a:rPr>
              <a:t>Remineralizació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743760" y="3484440"/>
            <a:ext cx="234324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Pequeñas conc. 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2044800" y="2897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99"/>
                </a:solidFill>
                <a:latin typeface="Arial"/>
              </a:rPr>
              <a:t>Estimul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519" name="Group 25"/>
          <p:cNvGrpSpPr/>
          <p:nvPr/>
        </p:nvGrpSpPr>
        <p:grpSpPr>
          <a:xfrm>
            <a:off x="3581280" y="1654200"/>
            <a:ext cx="939960" cy="1556640"/>
            <a:chOff x="3581280" y="1654200"/>
            <a:chExt cx="939960" cy="1556640"/>
          </a:xfrm>
        </p:grpSpPr>
        <p:sp>
          <p:nvSpPr>
            <p:cNvPr id="520" name="Line 14"/>
            <p:cNvSpPr/>
            <p:nvPr/>
          </p:nvSpPr>
          <p:spPr>
            <a:xfrm>
              <a:off x="3581280" y="2398320"/>
              <a:ext cx="35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>
              <a:off x="3949560" y="1667520"/>
              <a:ext cx="0" cy="154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2" name="Line 16"/>
            <p:cNvSpPr/>
            <p:nvPr/>
          </p:nvSpPr>
          <p:spPr>
            <a:xfrm>
              <a:off x="3949560" y="165420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3" name="Line 17"/>
            <p:cNvSpPr/>
            <p:nvPr/>
          </p:nvSpPr>
          <p:spPr>
            <a:xfrm>
              <a:off x="3962520" y="239832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4" name="Line 18"/>
            <p:cNvSpPr/>
            <p:nvPr/>
          </p:nvSpPr>
          <p:spPr>
            <a:xfrm>
              <a:off x="3949560" y="319752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525" name="Text Box 19"/>
          <p:cNvSpPr/>
          <p:nvPr/>
        </p:nvSpPr>
        <p:spPr>
          <a:xfrm>
            <a:off x="4536720" y="1428840"/>
            <a:ext cx="398160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Fosfatos de calcio</a:t>
            </a: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       OH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4556520" y="2239920"/>
            <a:ext cx="251532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Depósito de OHA-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7" name="Text Box 21"/>
          <p:cNvSpPr/>
          <p:nvPr/>
        </p:nvSpPr>
        <p:spPr>
          <a:xfrm>
            <a:off x="4529160" y="2989440"/>
            <a:ext cx="204768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Depósito de F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8" name="Line 22"/>
          <p:cNvSpPr/>
          <p:nvPr/>
        </p:nvSpPr>
        <p:spPr>
          <a:xfrm>
            <a:off x="7353360" y="1638360"/>
            <a:ext cx="279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1989000" y="2619360"/>
            <a:ext cx="0" cy="868320"/>
          </a:xfrm>
          <a:prstGeom prst="line">
            <a:avLst/>
          </a:prstGeom>
          <a:ln w="3816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0" name="Text Box 77"/>
          <p:cNvSpPr/>
          <p:nvPr/>
        </p:nvSpPr>
        <p:spPr>
          <a:xfrm>
            <a:off x="307440" y="388800"/>
            <a:ext cx="71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úor sobre la remineralización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A710-BD6A-4951-8C33-2DD2ACCB28B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3" name="Text Box 35"/>
          <p:cNvSpPr/>
          <p:nvPr/>
        </p:nvSpPr>
        <p:spPr>
          <a:xfrm>
            <a:off x="645840" y="137952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Efecto de fluoruros tópicos sobre placa microbian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4" name="Text Box 37"/>
          <p:cNvSpPr/>
          <p:nvPr/>
        </p:nvSpPr>
        <p:spPr>
          <a:xfrm>
            <a:off x="460440" y="3162240"/>
            <a:ext cx="216036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66"/>
                </a:solidFill>
                <a:latin typeface="Arial"/>
              </a:rPr>
              <a:t>PLA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66"/>
                </a:solidFill>
                <a:latin typeface="Arial"/>
              </a:rPr>
              <a:t>MICROBIAN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2692440" y="3587760"/>
            <a:ext cx="35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3060720" y="2813040"/>
            <a:ext cx="0" cy="162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7" name="Line 40"/>
          <p:cNvSpPr/>
          <p:nvPr/>
        </p:nvSpPr>
        <p:spPr>
          <a:xfrm>
            <a:off x="3060720" y="280044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8" name="Line 41"/>
          <p:cNvSpPr/>
          <p:nvPr/>
        </p:nvSpPr>
        <p:spPr>
          <a:xfrm>
            <a:off x="3048120" y="35877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9" name="Line 42"/>
          <p:cNvSpPr/>
          <p:nvPr/>
        </p:nvSpPr>
        <p:spPr>
          <a:xfrm>
            <a:off x="3073320" y="443880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0" name="Text Box 43"/>
          <p:cNvSpPr/>
          <p:nvPr/>
        </p:nvSpPr>
        <p:spPr>
          <a:xfrm>
            <a:off x="3857400" y="2455920"/>
            <a:ext cx="383076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Reduce actividad de bacteri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acidógenas y acidúric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1" name="Text Box 44"/>
          <p:cNvSpPr/>
          <p:nvPr/>
        </p:nvSpPr>
        <p:spPr>
          <a:xfrm>
            <a:off x="3851640" y="3268800"/>
            <a:ext cx="468720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Eleva el umbral de desmineralizació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en curvas de Stepha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2" name="Text Box 45"/>
          <p:cNvSpPr/>
          <p:nvPr/>
        </p:nvSpPr>
        <p:spPr>
          <a:xfrm>
            <a:off x="3839760" y="4094280"/>
            <a:ext cx="462168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Variados efectos: síntesis macromo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léculas, inhibición metaloenzima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0909-9014-47FB-8BAA-CEF420AC2E3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5" name="Rectangle 57"/>
          <p:cNvSpPr/>
          <p:nvPr/>
        </p:nvSpPr>
        <p:spPr>
          <a:xfrm>
            <a:off x="178560" y="3201840"/>
            <a:ext cx="127944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66"/>
                </a:solidFill>
                <a:latin typeface="Bookman Old Style"/>
              </a:rPr>
              <a:t>FLUO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6" name="Rectangle 77"/>
          <p:cNvSpPr/>
          <p:nvPr/>
        </p:nvSpPr>
        <p:spPr>
          <a:xfrm>
            <a:off x="1077840" y="88884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Fluór en desmineralización-remineralizació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547" name="Group 89"/>
          <p:cNvGrpSpPr/>
          <p:nvPr/>
        </p:nvGrpSpPr>
        <p:grpSpPr>
          <a:xfrm>
            <a:off x="1563840" y="1573200"/>
            <a:ext cx="7397280" cy="3918240"/>
            <a:chOff x="1563840" y="1573200"/>
            <a:chExt cx="7397280" cy="3918240"/>
          </a:xfrm>
        </p:grpSpPr>
        <p:sp>
          <p:nvSpPr>
            <p:cNvPr id="548" name="Rectangle 58"/>
            <p:cNvSpPr/>
            <p:nvPr/>
          </p:nvSpPr>
          <p:spPr>
            <a:xfrm>
              <a:off x="2460960" y="2251080"/>
              <a:ext cx="2757600" cy="397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66ff"/>
                  </a:solidFill>
                  <a:latin typeface="Bookman Old Style"/>
                </a:rPr>
                <a:t>DESMINERALIZACIO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49" name="Rectangle 59"/>
            <p:cNvSpPr/>
            <p:nvPr/>
          </p:nvSpPr>
          <p:spPr>
            <a:xfrm>
              <a:off x="6243120" y="1573200"/>
              <a:ext cx="2718000" cy="579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DISMINUYE VELOCIDAD DE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DESMINERALIZACIO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0" name="Rectangle 60"/>
            <p:cNvSpPr/>
            <p:nvPr/>
          </p:nvSpPr>
          <p:spPr>
            <a:xfrm>
              <a:off x="6057720" y="2671920"/>
              <a:ext cx="2896920" cy="579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INHIBE REABSORCION IONIC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551" name="Group 79"/>
            <p:cNvGrpSpPr/>
            <p:nvPr/>
          </p:nvGrpSpPr>
          <p:grpSpPr>
            <a:xfrm>
              <a:off x="5376600" y="1862280"/>
              <a:ext cx="683640" cy="1144440"/>
              <a:chOff x="5376600" y="1862280"/>
              <a:chExt cx="683640" cy="1144440"/>
            </a:xfrm>
          </p:grpSpPr>
          <p:sp>
            <p:nvSpPr>
              <p:cNvPr id="552" name="Line 67"/>
              <p:cNvSpPr/>
              <p:nvPr/>
            </p:nvSpPr>
            <p:spPr>
              <a:xfrm>
                <a:off x="5376600" y="2492280"/>
                <a:ext cx="37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3" name="Line 68"/>
              <p:cNvSpPr/>
              <p:nvPr/>
            </p:nvSpPr>
            <p:spPr>
              <a:xfrm>
                <a:off x="5757480" y="1881360"/>
                <a:ext cx="30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4" name="Line 69"/>
              <p:cNvSpPr/>
              <p:nvPr/>
            </p:nvSpPr>
            <p:spPr>
              <a:xfrm>
                <a:off x="5757480" y="3003480"/>
                <a:ext cx="30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5" name="Line 70"/>
              <p:cNvSpPr/>
              <p:nvPr/>
            </p:nvSpPr>
            <p:spPr>
              <a:xfrm>
                <a:off x="5755680" y="1862280"/>
                <a:ext cx="0" cy="11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  <p:sp>
          <p:nvSpPr>
            <p:cNvPr id="556" name="Line 78"/>
            <p:cNvSpPr/>
            <p:nvPr/>
          </p:nvSpPr>
          <p:spPr>
            <a:xfrm>
              <a:off x="1925640" y="249228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7" name="Rectangle 61"/>
            <p:cNvSpPr/>
            <p:nvPr/>
          </p:nvSpPr>
          <p:spPr>
            <a:xfrm>
              <a:off x="2504880" y="4290840"/>
              <a:ext cx="2350800" cy="366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800" spc="-1" strike="noStrike">
                  <a:solidFill>
                    <a:srgbClr val="0066ff"/>
                  </a:solidFill>
                  <a:latin typeface="Bookman Old Style"/>
                </a:rPr>
                <a:t>REMINERALIZACIO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8" name="Line 66"/>
            <p:cNvSpPr/>
            <p:nvPr/>
          </p:nvSpPr>
          <p:spPr>
            <a:xfrm>
              <a:off x="1958760" y="449424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559" name="Group 85"/>
            <p:cNvGrpSpPr/>
            <p:nvPr/>
          </p:nvGrpSpPr>
          <p:grpSpPr>
            <a:xfrm>
              <a:off x="4968720" y="3668760"/>
              <a:ext cx="3926880" cy="1822680"/>
              <a:chOff x="4968720" y="3668760"/>
              <a:chExt cx="3926880" cy="1822680"/>
            </a:xfrm>
          </p:grpSpPr>
          <p:sp>
            <p:nvSpPr>
              <p:cNvPr id="560" name="Rectangle 62"/>
              <p:cNvSpPr/>
              <p:nvPr/>
            </p:nvSpPr>
            <p:spPr>
              <a:xfrm>
                <a:off x="5753880" y="3668760"/>
                <a:ext cx="1500120" cy="335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CATALIZADOR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61" name="Rectangle 63"/>
              <p:cNvSpPr/>
              <p:nvPr/>
            </p:nvSpPr>
            <p:spPr>
              <a:xfrm>
                <a:off x="5652720" y="4668840"/>
                <a:ext cx="3242880" cy="822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ESTIMULA FORMACION DE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FOSFATOS SENCILLOS Y COMPLEJOS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grpSp>
            <p:nvGrpSpPr>
              <p:cNvPr id="562" name="Group 80"/>
              <p:cNvGrpSpPr/>
              <p:nvPr/>
            </p:nvGrpSpPr>
            <p:grpSpPr>
              <a:xfrm>
                <a:off x="4968720" y="3855960"/>
                <a:ext cx="683640" cy="1144440"/>
                <a:chOff x="4968720" y="3855960"/>
                <a:chExt cx="683640" cy="1144440"/>
              </a:xfrm>
            </p:grpSpPr>
            <p:sp>
              <p:nvSpPr>
                <p:cNvPr id="563" name="Line 81"/>
                <p:cNvSpPr/>
                <p:nvPr/>
              </p:nvSpPr>
              <p:spPr>
                <a:xfrm>
                  <a:off x="4968720" y="4485960"/>
                  <a:ext cx="379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Line 82"/>
                <p:cNvSpPr/>
                <p:nvPr/>
              </p:nvSpPr>
              <p:spPr>
                <a:xfrm>
                  <a:off x="5349600" y="3875040"/>
                  <a:ext cx="302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Line 83"/>
                <p:cNvSpPr/>
                <p:nvPr/>
              </p:nvSpPr>
              <p:spPr>
                <a:xfrm>
                  <a:off x="5349600" y="4997160"/>
                  <a:ext cx="302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Line 84"/>
                <p:cNvSpPr/>
                <p:nvPr/>
              </p:nvSpPr>
              <p:spPr>
                <a:xfrm>
                  <a:off x="5347800" y="3855960"/>
                  <a:ext cx="0" cy="1144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567" name="Line 87"/>
            <p:cNvSpPr/>
            <p:nvPr/>
          </p:nvSpPr>
          <p:spPr>
            <a:xfrm>
              <a:off x="1942920" y="2492280"/>
              <a:ext cx="0" cy="197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68" name="Line 88"/>
            <p:cNvSpPr/>
            <p:nvPr/>
          </p:nvSpPr>
          <p:spPr>
            <a:xfrm>
              <a:off x="1563840" y="346248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4A19-8F18-4FB2-906B-FA9A7D6EC21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446040" y="849240"/>
            <a:ext cx="81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Mecanismos de acción del fluór y su relacione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644760" y="3332160"/>
            <a:ext cx="247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99"/>
                </a:solidFill>
                <a:latin typeface="Arial"/>
              </a:rPr>
              <a:t>FASES         SOLUB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3707640" y="1593720"/>
            <a:ext cx="1587240" cy="579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66"/>
                </a:solidFill>
                <a:latin typeface="Arial"/>
              </a:rPr>
              <a:t>FLUO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867600" y="2495520"/>
            <a:ext cx="169380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PLAC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BACTERIAN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3736080" y="2495520"/>
            <a:ext cx="165888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CRISTALES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DE 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6611760" y="2598840"/>
            <a:ext cx="169416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CARI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393840" y="3881520"/>
            <a:ext cx="243972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METABOLISM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ACIDOS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8" name="Rectangle 26"/>
          <p:cNvSpPr/>
          <p:nvPr/>
        </p:nvSpPr>
        <p:spPr>
          <a:xfrm>
            <a:off x="3386160" y="3662280"/>
            <a:ext cx="2268360" cy="15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CRISTALINIDAD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OLUBILIDAD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APATITAS ESTAB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321600" y="4038480"/>
            <a:ext cx="2241360" cy="1065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Des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Re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0" name="Rectangle 34"/>
          <p:cNvSpPr/>
          <p:nvPr/>
        </p:nvSpPr>
        <p:spPr>
          <a:xfrm>
            <a:off x="2416320" y="5697360"/>
            <a:ext cx="428760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INCIDENCIA CARI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1" name="Line 49"/>
          <p:cNvSpPr/>
          <p:nvPr/>
        </p:nvSpPr>
        <p:spPr>
          <a:xfrm>
            <a:off x="4530600" y="2181240"/>
            <a:ext cx="0" cy="31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2" name="Line 50"/>
          <p:cNvSpPr/>
          <p:nvPr/>
        </p:nvSpPr>
        <p:spPr>
          <a:xfrm>
            <a:off x="4530600" y="3152880"/>
            <a:ext cx="0" cy="52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3" name="Line 51"/>
          <p:cNvSpPr/>
          <p:nvPr/>
        </p:nvSpPr>
        <p:spPr>
          <a:xfrm>
            <a:off x="1695600" y="2314440"/>
            <a:ext cx="58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4" name="Line 53"/>
          <p:cNvSpPr/>
          <p:nvPr/>
        </p:nvSpPr>
        <p:spPr>
          <a:xfrm>
            <a:off x="1695600" y="2311560"/>
            <a:ext cx="0" cy="18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5" name="Line 54"/>
          <p:cNvSpPr/>
          <p:nvPr/>
        </p:nvSpPr>
        <p:spPr>
          <a:xfrm>
            <a:off x="7524720" y="2305080"/>
            <a:ext cx="0" cy="2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685880" y="3143160"/>
            <a:ext cx="0" cy="74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7518240" y="3102120"/>
            <a:ext cx="0" cy="8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8" name="Line 57"/>
          <p:cNvSpPr/>
          <p:nvPr/>
        </p:nvSpPr>
        <p:spPr>
          <a:xfrm>
            <a:off x="4530600" y="5229360"/>
            <a:ext cx="0" cy="476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9" name="Line 58"/>
          <p:cNvSpPr/>
          <p:nvPr/>
        </p:nvSpPr>
        <p:spPr>
          <a:xfrm>
            <a:off x="1671480" y="4805280"/>
            <a:ext cx="0" cy="11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0" name="Line 59"/>
          <p:cNvSpPr/>
          <p:nvPr/>
        </p:nvSpPr>
        <p:spPr>
          <a:xfrm>
            <a:off x="7543800" y="5092560"/>
            <a:ext cx="12600" cy="82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1" name="Line 60"/>
          <p:cNvSpPr/>
          <p:nvPr/>
        </p:nvSpPr>
        <p:spPr>
          <a:xfrm>
            <a:off x="1671480" y="5921280"/>
            <a:ext cx="741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2" name="Line 61"/>
          <p:cNvSpPr/>
          <p:nvPr/>
        </p:nvSpPr>
        <p:spPr>
          <a:xfrm>
            <a:off x="6710400" y="5921280"/>
            <a:ext cx="825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3" name="Line 62"/>
          <p:cNvSpPr/>
          <p:nvPr/>
        </p:nvSpPr>
        <p:spPr>
          <a:xfrm>
            <a:off x="1666800" y="4224240"/>
            <a:ext cx="0" cy="2383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4" name="Line 63"/>
          <p:cNvSpPr/>
          <p:nvPr/>
        </p:nvSpPr>
        <p:spPr>
          <a:xfrm>
            <a:off x="905040" y="44863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5" name="Line 64"/>
          <p:cNvSpPr/>
          <p:nvPr/>
        </p:nvSpPr>
        <p:spPr>
          <a:xfrm flipV="1">
            <a:off x="566640" y="3952800"/>
            <a:ext cx="0" cy="238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6" name="Line 65"/>
          <p:cNvSpPr/>
          <p:nvPr/>
        </p:nvSpPr>
        <p:spPr>
          <a:xfrm flipV="1">
            <a:off x="3559320" y="37033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7" name="Line 66"/>
          <p:cNvSpPr/>
          <p:nvPr/>
        </p:nvSpPr>
        <p:spPr>
          <a:xfrm flipV="1">
            <a:off x="3726000" y="4778280"/>
            <a:ext cx="0" cy="338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8" name="Line 67"/>
          <p:cNvSpPr/>
          <p:nvPr/>
        </p:nvSpPr>
        <p:spPr>
          <a:xfrm>
            <a:off x="3554280" y="421020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9" name="Line 69"/>
          <p:cNvSpPr/>
          <p:nvPr/>
        </p:nvSpPr>
        <p:spPr>
          <a:xfrm>
            <a:off x="2760840" y="5722920"/>
            <a:ext cx="0" cy="4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0" name="Line 70"/>
          <p:cNvSpPr/>
          <p:nvPr/>
        </p:nvSpPr>
        <p:spPr>
          <a:xfrm flipV="1">
            <a:off x="6416640" y="456696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1" name="Line 71"/>
          <p:cNvSpPr/>
          <p:nvPr/>
        </p:nvSpPr>
        <p:spPr>
          <a:xfrm>
            <a:off x="6373800" y="40831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4C2A-F1EB-419A-9361-DAABF7B9022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588960" y="876240"/>
            <a:ext cx="793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Mecanismos cariostaticos del fluorur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2351160" y="1909800"/>
            <a:ext cx="4406760" cy="118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MECANISMO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CARIOSTATICO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DE MAYOR  INCIDENCI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191160" y="3790800"/>
            <a:ext cx="260532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DESMINERA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LIZACION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REMINERALIZA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3589920" y="3790800"/>
            <a:ext cx="191016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DISMINU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SOLUBILIDA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6458040" y="3792600"/>
            <a:ext cx="232092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METABOLISM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BACTERIAN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911160" y="5315040"/>
            <a:ext cx="11559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6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(100%)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4163400" y="5000760"/>
            <a:ext cx="78084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2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7263720" y="4989600"/>
            <a:ext cx="78084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2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2" name="Line 30"/>
          <p:cNvSpPr/>
          <p:nvPr/>
        </p:nvSpPr>
        <p:spPr>
          <a:xfrm>
            <a:off x="1467000" y="3433680"/>
            <a:ext cx="6222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3" name="Line 31"/>
          <p:cNvSpPr/>
          <p:nvPr/>
        </p:nvSpPr>
        <p:spPr>
          <a:xfrm>
            <a:off x="4552920" y="3132000"/>
            <a:ext cx="0" cy="6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4" name="Line 33"/>
          <p:cNvSpPr/>
          <p:nvPr/>
        </p:nvSpPr>
        <p:spPr>
          <a:xfrm>
            <a:off x="1488960" y="3429000"/>
            <a:ext cx="0" cy="36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7655040" y="3433680"/>
            <a:ext cx="0" cy="3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6" name="Line 35"/>
          <p:cNvSpPr/>
          <p:nvPr/>
        </p:nvSpPr>
        <p:spPr>
          <a:xfrm>
            <a:off x="1469880" y="4799160"/>
            <a:ext cx="0" cy="49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4552920" y="449424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8" name="Line 37"/>
          <p:cNvSpPr/>
          <p:nvPr/>
        </p:nvSpPr>
        <p:spPr>
          <a:xfrm>
            <a:off x="7701120" y="449424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02BC-B823-487F-A38C-44ABBEC8FF03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304920" y="762120"/>
            <a:ext cx="830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LA REDUCCION DE CARIES EN SERES HUMANOS NO DEPENDE DE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La administración del Fluoruro  por vía sistémic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2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Altas concentraciones de Fluoruro en el esmalte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3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El efecto del Fluoruro sobre el metabolismo y la colonización bacteriana  de la plac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31640" y="3892680"/>
            <a:ext cx="8280720" cy="241128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La reducción de caries es efectuada a través  de l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presencia de Fluoruro en la interfase placa/esmalte,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urante el inicio y desarrollo de la lesión cariosa,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onde altera la dinámica de los procesos de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e- y re-mineralizació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4671-2602-4736-8895-4A3B2C9FB55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2593080" y="762120"/>
            <a:ext cx="412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  <a:ea typeface="Tahoma"/>
              </a:rPr>
              <a:t>Flúor en la Naturalez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  <a:ea typeface="Tahoma"/>
              </a:rPr>
              <a:t>(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Tahoma"/>
                <a:ea typeface="Tahoma"/>
              </a:rPr>
              <a:t> : 0.078% corteza terrestre.)  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1861920" y="1676520"/>
            <a:ext cx="5710680" cy="499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c2b0f"/>
                </a:solidFill>
                <a:latin typeface="Tahoma"/>
                <a:ea typeface="Tahoma"/>
              </a:rPr>
              <a:t>             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 </a:t>
            </a:r>
            <a:r>
              <a:rPr b="1" lang="es-ES_tradnl" sz="2800" spc="-1" strike="noStrike">
                <a:solidFill>
                  <a:srgbClr val="c0504d"/>
                </a:solidFill>
                <a:latin typeface="Tahoma"/>
                <a:ea typeface="Tahoma"/>
              </a:rPr>
              <a:t>Flúor. Minerales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luor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: Ca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Criol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: Na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Al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Villiaum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NaF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ela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: Mg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Hierat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K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Maladr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(NH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Bastnos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Paris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2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· Ca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Cordil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2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· Ba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Topacio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Al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( F, OH )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Si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BCF-9972-4216-A312-BD31537840B5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556560" y="1523880"/>
            <a:ext cx="8249760" cy="33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Flúor en la atmósfera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Gases erupciones volcánicas.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 en los alimentos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Té hoja negra 51 - 161 ppm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Té hoja verde 336 ppm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 en la sangre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Plasma 0.14 - 0.19 ppm.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Flúor en el agua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depende de la región (localidad),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stación del año.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53B6-92F6-479C-A680-2BF4A154345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3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10D4-1457-4B35-92BC-A84FA7113F8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5" name="Line 85"/>
          <p:cNvSpPr/>
          <p:nvPr/>
        </p:nvSpPr>
        <p:spPr>
          <a:xfrm flipV="1">
            <a:off x="5397480" y="4096800"/>
            <a:ext cx="995400" cy="64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6" name="Rectangle 50"/>
          <p:cNvSpPr/>
          <p:nvPr/>
        </p:nvSpPr>
        <p:spPr>
          <a:xfrm>
            <a:off x="1295280" y="914400"/>
            <a:ext cx="6526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66"/>
                </a:solidFill>
                <a:latin typeface="Times New Roman"/>
              </a:rPr>
              <a:t>Posibles acciones del ion fluó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7" name="Rectangle 53"/>
          <p:cNvSpPr/>
          <p:nvPr/>
        </p:nvSpPr>
        <p:spPr>
          <a:xfrm>
            <a:off x="927000" y="3765600"/>
            <a:ext cx="205740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INERALIZA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8" name="Rectangle 62"/>
          <p:cNvSpPr/>
          <p:nvPr/>
        </p:nvSpPr>
        <p:spPr>
          <a:xfrm>
            <a:off x="3714840" y="1878120"/>
            <a:ext cx="171432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UTILIZADO Y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ESTUDI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6462720" y="1996920"/>
            <a:ext cx="15256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ACEPT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3803760" y="3208320"/>
            <a:ext cx="154764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66"/>
                </a:solidFill>
                <a:latin typeface="Arial"/>
              </a:rPr>
              <a:t>FLUO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1" name="Rectangle 65"/>
          <p:cNvSpPr/>
          <p:nvPr/>
        </p:nvSpPr>
        <p:spPr>
          <a:xfrm>
            <a:off x="3747960" y="4522680"/>
            <a:ext cx="166716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66ff"/>
                </a:solidFill>
                <a:latin typeface="Arial"/>
              </a:rPr>
              <a:t>CARIE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2" name="Rectangle 66"/>
          <p:cNvSpPr/>
          <p:nvPr/>
        </p:nvSpPr>
        <p:spPr>
          <a:xfrm>
            <a:off x="1181160" y="4475160"/>
            <a:ext cx="155736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CALCIO-FOSFAT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3" name="Rectangle 67"/>
          <p:cNvSpPr/>
          <p:nvPr/>
        </p:nvSpPr>
        <p:spPr>
          <a:xfrm>
            <a:off x="6437520" y="3713040"/>
            <a:ext cx="170460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ETABOLISM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PLAC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ICROBIAN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4" name="Rectangle 68"/>
          <p:cNvSpPr/>
          <p:nvPr/>
        </p:nvSpPr>
        <p:spPr>
          <a:xfrm>
            <a:off x="758880" y="6248520"/>
            <a:ext cx="23032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ATAQUE ACI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6392880" y="5046840"/>
            <a:ext cx="167472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ESTRUCTUR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CRISTALIN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1020600" y="2000160"/>
            <a:ext cx="172584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RECHAZ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7" name="Line 81"/>
          <p:cNvSpPr/>
          <p:nvPr/>
        </p:nvSpPr>
        <p:spPr>
          <a:xfrm>
            <a:off x="5440320" y="217188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8" name="Line 82"/>
          <p:cNvSpPr/>
          <p:nvPr/>
        </p:nvSpPr>
        <p:spPr>
          <a:xfrm flipH="1">
            <a:off x="2724120" y="2179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9" name="Line 83"/>
          <p:cNvSpPr/>
          <p:nvPr/>
        </p:nvSpPr>
        <p:spPr>
          <a:xfrm>
            <a:off x="4572000" y="2460600"/>
            <a:ext cx="0" cy="77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0" name="Line 84"/>
          <p:cNvSpPr/>
          <p:nvPr/>
        </p:nvSpPr>
        <p:spPr>
          <a:xfrm flipV="1">
            <a:off x="4572000" y="3776400"/>
            <a:ext cx="0" cy="772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1" name="Line 86"/>
          <p:cNvSpPr/>
          <p:nvPr/>
        </p:nvSpPr>
        <p:spPr>
          <a:xfrm>
            <a:off x="5400720" y="4743360"/>
            <a:ext cx="99216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2" name="Line 87"/>
          <p:cNvSpPr/>
          <p:nvPr/>
        </p:nvSpPr>
        <p:spPr>
          <a:xfrm flipH="1">
            <a:off x="2724120" y="4799160"/>
            <a:ext cx="1038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3" name="Line 88"/>
          <p:cNvSpPr/>
          <p:nvPr/>
        </p:nvSpPr>
        <p:spPr>
          <a:xfrm>
            <a:off x="1971720" y="51246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4" name="Line 89"/>
          <p:cNvSpPr/>
          <p:nvPr/>
        </p:nvSpPr>
        <p:spPr>
          <a:xfrm flipV="1">
            <a:off x="1952640" y="410508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5" name="Rectangle 92"/>
          <p:cNvSpPr/>
          <p:nvPr/>
        </p:nvSpPr>
        <p:spPr>
          <a:xfrm>
            <a:off x="736560" y="5486400"/>
            <a:ext cx="237960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DESMINERALIZA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6" name="Line 93"/>
          <p:cNvSpPr/>
          <p:nvPr/>
        </p:nvSpPr>
        <p:spPr>
          <a:xfrm flipV="1">
            <a:off x="1928880" y="582588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8CE6-B0E9-4E71-BC0C-3CCFDC53FB1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160200" y="876240"/>
            <a:ext cx="8839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Times New Roman"/>
              </a:rPr>
              <a:t>Formación  de hidroxiapatita no estequiometric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0" name="Rectangle 35"/>
          <p:cNvSpPr/>
          <p:nvPr/>
        </p:nvSpPr>
        <p:spPr>
          <a:xfrm>
            <a:off x="3658320" y="1579680"/>
            <a:ext cx="187812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66ff"/>
                </a:solidFill>
                <a:latin typeface="Arial"/>
              </a:rPr>
              <a:t>ESMALTE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3038400" y="2530440"/>
            <a:ext cx="31431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Arial"/>
              </a:rPr>
              <a:t>HIDROXIAPATIT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Arial"/>
              </a:rPr>
              <a:t>CARBONATAD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2" name="Rectangle 37"/>
          <p:cNvSpPr/>
          <p:nvPr/>
        </p:nvSpPr>
        <p:spPr>
          <a:xfrm>
            <a:off x="2701800" y="5311800"/>
            <a:ext cx="38181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HIDROXIAPATITA NO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ESTEQUIMETRI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1165320" y="3879720"/>
            <a:ext cx="200664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ADSORBIDO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6180120" y="3479760"/>
            <a:ext cx="161604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EXTRAÑO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6202440" y="4437000"/>
            <a:ext cx="186192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DEFICIENCI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6" name="Line 46"/>
          <p:cNvSpPr/>
          <p:nvPr/>
        </p:nvSpPr>
        <p:spPr>
          <a:xfrm>
            <a:off x="4592520" y="2092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4592520" y="3341520"/>
            <a:ext cx="0" cy="196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8" name="Line 48"/>
          <p:cNvSpPr/>
          <p:nvPr/>
        </p:nvSpPr>
        <p:spPr>
          <a:xfrm>
            <a:off x="3154320" y="425124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9" name="Line 49"/>
          <p:cNvSpPr/>
          <p:nvPr/>
        </p:nvSpPr>
        <p:spPr>
          <a:xfrm flipH="1">
            <a:off x="5129280" y="3832200"/>
            <a:ext cx="107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5135040" y="481968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D955-B039-42B2-BD7C-0F294D61DB8E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338040" y="1025640"/>
            <a:ext cx="8534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Times New Roman"/>
              </a:rPr>
              <a:t>Fluorapatita pura y esmalte fluorurad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4" name="Rectangle 39"/>
          <p:cNvSpPr/>
          <p:nvPr/>
        </p:nvSpPr>
        <p:spPr>
          <a:xfrm>
            <a:off x="4197240" y="611280"/>
            <a:ext cx="18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197240" y="244008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4197240" y="4268880"/>
            <a:ext cx="173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1483200" y="1933560"/>
            <a:ext cx="216612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Arial"/>
              </a:rPr>
              <a:t>FLUORAPATIT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8" name="Rectangle 46"/>
          <p:cNvSpPr/>
          <p:nvPr/>
        </p:nvSpPr>
        <p:spPr>
          <a:xfrm>
            <a:off x="1896480" y="3313080"/>
            <a:ext cx="12884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38.000 ppm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FLU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816200" y="4861080"/>
            <a:ext cx="1558080" cy="1005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STITU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OH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 POR F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0%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5825160" y="1619280"/>
            <a:ext cx="153684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ESMAL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PERFICI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 um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1" name="Rectangle 49"/>
          <p:cNvSpPr/>
          <p:nvPr/>
        </p:nvSpPr>
        <p:spPr>
          <a:xfrm>
            <a:off x="5732640" y="2859120"/>
            <a:ext cx="1725480" cy="54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66ff"/>
                </a:solidFill>
                <a:latin typeface="Arial"/>
              </a:rPr>
              <a:t>3.000-4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FLU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5821560" y="4070520"/>
            <a:ext cx="1558080" cy="1005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STITU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OH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 POR F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5714640" y="5522760"/>
            <a:ext cx="172584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MARC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EFECT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CARIOSTAT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4" name="Rectangle 57"/>
          <p:cNvSpPr/>
          <p:nvPr/>
        </p:nvSpPr>
        <p:spPr>
          <a:xfrm>
            <a:off x="5142960" y="5562720"/>
            <a:ext cx="37080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5" name="Line 59"/>
          <p:cNvSpPr/>
          <p:nvPr/>
        </p:nvSpPr>
        <p:spPr>
          <a:xfrm>
            <a:off x="6603840" y="506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6" name="Line 60"/>
          <p:cNvSpPr/>
          <p:nvPr/>
        </p:nvSpPr>
        <p:spPr>
          <a:xfrm>
            <a:off x="6585120" y="3639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7" name="Line 61"/>
          <p:cNvSpPr/>
          <p:nvPr/>
        </p:nvSpPr>
        <p:spPr>
          <a:xfrm>
            <a:off x="6566040" y="24591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8" name="Line 62"/>
          <p:cNvSpPr/>
          <p:nvPr/>
        </p:nvSpPr>
        <p:spPr>
          <a:xfrm>
            <a:off x="2583000" y="2328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9" name="Line 63"/>
          <p:cNvSpPr/>
          <p:nvPr/>
        </p:nvSpPr>
        <p:spPr>
          <a:xfrm>
            <a:off x="2590920" y="388476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F07-117F-44BC-A532-5B155BD53BC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2" name="Rectangle 64"/>
          <p:cNvSpPr/>
          <p:nvPr/>
        </p:nvSpPr>
        <p:spPr>
          <a:xfrm>
            <a:off x="1136520" y="1212840"/>
            <a:ext cx="69375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66"/>
                </a:solidFill>
                <a:latin typeface="Times New Roman"/>
              </a:rPr>
              <a:t>Captación de fluoruro por esmalte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3" name="Rectangle 67"/>
          <p:cNvSpPr/>
          <p:nvPr/>
        </p:nvSpPr>
        <p:spPr>
          <a:xfrm>
            <a:off x="6165720" y="207324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AGUA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BEBIDA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4" name="Rectangle 68"/>
          <p:cNvSpPr/>
          <p:nvPr/>
        </p:nvSpPr>
        <p:spPr>
          <a:xfrm>
            <a:off x="6172200" y="2838600"/>
            <a:ext cx="1739880" cy="335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ALIMENT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5" name="Rectangle 69"/>
          <p:cNvSpPr/>
          <p:nvPr/>
        </p:nvSpPr>
        <p:spPr>
          <a:xfrm>
            <a:off x="6207120" y="3444840"/>
            <a:ext cx="19432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SUPLEMENT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6" name="Rectangle 70"/>
          <p:cNvSpPr/>
          <p:nvPr/>
        </p:nvSpPr>
        <p:spPr>
          <a:xfrm>
            <a:off x="6227640" y="413064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LIQUID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BUCA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7" name="Rectangle 71"/>
          <p:cNvSpPr/>
          <p:nvPr/>
        </p:nvSpPr>
        <p:spPr>
          <a:xfrm>
            <a:off x="6227640" y="496872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FLUORUR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TOPIC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8" name="Rectangle 72"/>
          <p:cNvSpPr/>
          <p:nvPr/>
        </p:nvSpPr>
        <p:spPr>
          <a:xfrm>
            <a:off x="614520" y="3408480"/>
            <a:ext cx="212400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CAPTA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FLUORUR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9" name="Rectangle 75"/>
          <p:cNvSpPr/>
          <p:nvPr/>
        </p:nvSpPr>
        <p:spPr>
          <a:xfrm>
            <a:off x="3485880" y="2793960"/>
            <a:ext cx="156888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Arial"/>
              </a:rPr>
              <a:t>SISTEMIC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0" name="Rectangle 76"/>
          <p:cNvSpPr/>
          <p:nvPr/>
        </p:nvSpPr>
        <p:spPr>
          <a:xfrm>
            <a:off x="3751560" y="4406760"/>
            <a:ext cx="114660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Arial"/>
              </a:rPr>
              <a:t>TOPIC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1" name="Line 77"/>
          <p:cNvSpPr/>
          <p:nvPr/>
        </p:nvSpPr>
        <p:spPr>
          <a:xfrm>
            <a:off x="2967120" y="2975040"/>
            <a:ext cx="0" cy="159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2" name="Line 78"/>
          <p:cNvSpPr/>
          <p:nvPr/>
        </p:nvSpPr>
        <p:spPr>
          <a:xfrm>
            <a:off x="5541840" y="2379600"/>
            <a:ext cx="0" cy="12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3" name="Line 79"/>
          <p:cNvSpPr/>
          <p:nvPr/>
        </p:nvSpPr>
        <p:spPr>
          <a:xfrm>
            <a:off x="5618160" y="4361040"/>
            <a:ext cx="0" cy="83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4" name="Line 80"/>
          <p:cNvSpPr/>
          <p:nvPr/>
        </p:nvSpPr>
        <p:spPr>
          <a:xfrm>
            <a:off x="2987640" y="298440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5" name="Line 82"/>
          <p:cNvSpPr/>
          <p:nvPr/>
        </p:nvSpPr>
        <p:spPr>
          <a:xfrm>
            <a:off x="2757600" y="378612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6" name="Line 83"/>
          <p:cNvSpPr/>
          <p:nvPr/>
        </p:nvSpPr>
        <p:spPr>
          <a:xfrm>
            <a:off x="5560920" y="2387520"/>
            <a:ext cx="62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7" name="Line 84"/>
          <p:cNvSpPr/>
          <p:nvPr/>
        </p:nvSpPr>
        <p:spPr>
          <a:xfrm>
            <a:off x="5578560" y="362592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8" name="Line 85"/>
          <p:cNvSpPr/>
          <p:nvPr/>
        </p:nvSpPr>
        <p:spPr>
          <a:xfrm>
            <a:off x="5618160" y="434988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9" name="Line 86"/>
          <p:cNvSpPr/>
          <p:nvPr/>
        </p:nvSpPr>
        <p:spPr>
          <a:xfrm>
            <a:off x="5635800" y="518652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0" name="Line 87"/>
          <p:cNvSpPr/>
          <p:nvPr/>
        </p:nvSpPr>
        <p:spPr>
          <a:xfrm>
            <a:off x="4884840" y="4633920"/>
            <a:ext cx="71424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1" name="Line 88"/>
          <p:cNvSpPr/>
          <p:nvPr/>
        </p:nvSpPr>
        <p:spPr>
          <a:xfrm>
            <a:off x="5103720" y="2997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2" name="Line 89"/>
          <p:cNvSpPr/>
          <p:nvPr/>
        </p:nvSpPr>
        <p:spPr>
          <a:xfrm>
            <a:off x="5560920" y="2995560"/>
            <a:ext cx="62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3" name="Line 90"/>
          <p:cNvSpPr/>
          <p:nvPr/>
        </p:nvSpPr>
        <p:spPr>
          <a:xfrm>
            <a:off x="2948040" y="456732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3:30Z</dcterms:created>
  <dc:creator>Ismael Yévenes Lopez</dc:creator>
  <dc:description/>
  <dc:language>en-US</dc:language>
  <cp:lastModifiedBy>ool-lyon</cp:lastModifiedBy>
  <cp:lastPrinted>1999-07-12T19:01:58Z</cp:lastPrinted>
  <dcterms:modified xsi:type="dcterms:W3CDTF">2010-08-23T20:23:46Z</dcterms:modified>
  <cp:revision>291</cp:revision>
  <dc:subject/>
  <dc:title>Lista de los 10 mejores</dc:title>
</cp:coreProperties>
</file>