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E43-9832-4EDA-83E4-75FB016B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283-2E77-4A7E-B9E3-C924CFF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770-7C9D-4832-8D39-C047D5B1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E3F-6157-4862-843F-1734488C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807-1ECF-479F-A75F-A46FE5DD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601-85D4-4499-9E1C-182AD0F0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5CF-0012-4042-AB5E-6B8D04F1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F30-395A-4DB8-B871-DC9773B5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D2B-6130-41F3-9D9D-E2034658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BCD-0A95-4301-B0C1-74085F5E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EBE-5581-4019-83EB-59690A84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977-28E5-40A8-AC90-5BA7273C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B44A-95C8-4147-B8DE-F35A4978E4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540E-9ECE-4A24-AF0D-0B684BC85806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Picture 2" descr="puntosbasecraneo"/>
          <p:cNvPicPr/>
          <p:nvPr/>
        </p:nvPicPr>
        <p:blipFill>
          <a:blip r:embed="rId1"/>
          <a:stretch/>
        </p:blipFill>
        <p:spPr>
          <a:xfrm>
            <a:off x="3492360" y="2060640"/>
            <a:ext cx="5123160" cy="3308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324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UNTOS CEFALOMÉTRICOS A NIVEL DE LA BASE DEL CRÁNEO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5760" y="2266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L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D346-A28F-4895-80DD-EF3E3629BBF2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2" descr="Pag"/>
          <p:cNvPicPr/>
          <p:nvPr/>
        </p:nvPicPr>
        <p:blipFill>
          <a:blip r:embed="rId1"/>
          <a:srcRect l="4549" t="5786" r="0" b="5470"/>
          <a:stretch/>
        </p:blipFill>
        <p:spPr>
          <a:xfrm>
            <a:off x="1187280" y="351000"/>
            <a:ext cx="6697800" cy="293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3" name="Picture 2" descr="Pag"/>
          <p:cNvPicPr/>
          <p:nvPr/>
        </p:nvPicPr>
        <p:blipFill>
          <a:blip r:embed="rId2"/>
          <a:srcRect l="0" t="2127" r="1855" b="0"/>
          <a:stretch/>
        </p:blipFill>
        <p:spPr>
          <a:xfrm>
            <a:off x="1187280" y="3571920"/>
            <a:ext cx="6624720" cy="28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FACE-B7AF-4CE0-A6C2-94BEAA7A4294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2" descr="Pag"/>
          <p:cNvPicPr/>
          <p:nvPr/>
        </p:nvPicPr>
        <p:blipFill>
          <a:blip r:embed="rId1"/>
          <a:srcRect l="1940" t="9915" r="0" b="2810"/>
          <a:stretch/>
        </p:blipFill>
        <p:spPr>
          <a:xfrm>
            <a:off x="892080" y="1773360"/>
            <a:ext cx="7927920" cy="34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AF26-B164-4BA4-80E2-702DF53867BF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2" descr="Pag"/>
          <p:cNvPicPr/>
          <p:nvPr/>
        </p:nvPicPr>
        <p:blipFill>
          <a:blip r:embed="rId1"/>
          <a:srcRect l="0" t="3949" r="6490" b="7899"/>
          <a:stretch/>
        </p:blipFill>
        <p:spPr>
          <a:xfrm>
            <a:off x="1828800" y="609480"/>
            <a:ext cx="5302080" cy="563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10D6-4B01-4C85-98FF-9089011A01A0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2" descr="Pag"/>
          <p:cNvPicPr/>
          <p:nvPr/>
        </p:nvPicPr>
        <p:blipFill>
          <a:blip r:embed="rId1"/>
          <a:srcRect l="2913" t="5492" r="2913" b="4807"/>
          <a:stretch/>
        </p:blipFill>
        <p:spPr>
          <a:xfrm>
            <a:off x="1403280" y="260280"/>
            <a:ext cx="6023160" cy="304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Picture 2" descr="Pag"/>
          <p:cNvPicPr/>
          <p:nvPr/>
        </p:nvPicPr>
        <p:blipFill>
          <a:blip r:embed="rId2"/>
          <a:srcRect l="4109" t="5559" r="0" b="3216"/>
          <a:stretch/>
        </p:blipFill>
        <p:spPr>
          <a:xfrm>
            <a:off x="1403280" y="3429000"/>
            <a:ext cx="5973840" cy="301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21FB-F03F-4F62-AC5A-ADE74EBFD4AE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2" descr="Pag"/>
          <p:cNvPicPr/>
          <p:nvPr/>
        </p:nvPicPr>
        <p:blipFill>
          <a:blip r:embed="rId1"/>
          <a:stretch/>
        </p:blipFill>
        <p:spPr>
          <a:xfrm>
            <a:off x="2268360" y="141120"/>
            <a:ext cx="4645080" cy="609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3"/>
          <p:cNvSpPr/>
          <p:nvPr/>
        </p:nvSpPr>
        <p:spPr>
          <a:xfrm>
            <a:off x="1332000" y="63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ntos en tejidos blan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A9DE-7734-4BF1-8EA0-D85D85D26647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2" descr="Pag"/>
          <p:cNvPicPr/>
          <p:nvPr/>
        </p:nvPicPr>
        <p:blipFill>
          <a:blip r:embed="rId1"/>
          <a:stretch/>
        </p:blipFill>
        <p:spPr>
          <a:xfrm>
            <a:off x="2195640" y="260280"/>
            <a:ext cx="4868640" cy="579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Text Box 3"/>
          <p:cNvSpPr/>
          <p:nvPr/>
        </p:nvSpPr>
        <p:spPr>
          <a:xfrm>
            <a:off x="1332000" y="623736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untos de tejidos blandos según Burst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0F3D-BF63-4EA8-9EDD-DFC2E1A071E5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2" descr="Pag"/>
          <p:cNvPicPr/>
          <p:nvPr/>
        </p:nvPicPr>
        <p:blipFill>
          <a:blip r:embed="rId1"/>
          <a:stretch/>
        </p:blipFill>
        <p:spPr>
          <a:xfrm>
            <a:off x="1778040" y="146160"/>
            <a:ext cx="5673600" cy="601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3"/>
          <p:cNvSpPr/>
          <p:nvPr/>
        </p:nvSpPr>
        <p:spPr>
          <a:xfrm>
            <a:off x="1332000" y="6237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lano estético de Ricket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8103-2263-4723-8960-F92462ACFEFB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Pag"/>
          <p:cNvPicPr/>
          <p:nvPr/>
        </p:nvPicPr>
        <p:blipFill>
          <a:blip r:embed="rId1"/>
          <a:srcRect l="9869" t="3901" r="0" b="7792"/>
          <a:stretch/>
        </p:blipFill>
        <p:spPr>
          <a:xfrm>
            <a:off x="1981080" y="533520"/>
            <a:ext cx="5445360" cy="579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6000"/>
          </a:blip>
          <a:srcRect l="1868" t="2186" r="2980" b="0"/>
          <a:stretch/>
        </p:blipFill>
        <p:spPr>
          <a:xfrm>
            <a:off x="3166920" y="122400"/>
            <a:ext cx="5977080" cy="6330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90560" y="33336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NTOS, PLANOS  Y ANGULOS CEFALOMETRICOS DE MAC NAMA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981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34936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249228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5589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321300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589800" y="22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8366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20750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264960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1989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667640" y="314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5661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92360" y="2421000"/>
            <a:ext cx="439272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1050840"/>
            <a:ext cx="216000" cy="475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995280" y="2565000"/>
            <a:ext cx="3240360" cy="30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308720" y="3357720"/>
            <a:ext cx="216000" cy="23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2492280"/>
            <a:ext cx="3384720" cy="86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125360"/>
            <a:ext cx="316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UNTO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borbita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a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nto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n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dil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ANO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ion – Suborbitario (Frankfur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pendicular – Nasion – Men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STANCIA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dilion –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dilion – 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 - Men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rcRect l="1868" t="2186" r="2980" b="0"/>
          <a:stretch/>
        </p:blipFill>
        <p:spPr>
          <a:xfrm>
            <a:off x="3166920" y="122400"/>
            <a:ext cx="5977080" cy="6330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90560" y="33336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NTOS, PLANOS Y ANGULOS CEFALOMETRICOS DE STEI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7308720" y="981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7308720" y="494172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7524720" y="321300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836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3141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427640" y="162864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408560" y="13413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4869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500720" y="1052280"/>
            <a:ext cx="295092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380360" y="1052640"/>
            <a:ext cx="21600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7380360" y="981000"/>
            <a:ext cx="0" cy="403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10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1197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276372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197000"/>
            <a:ext cx="360036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UNTO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ll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a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ANO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lla – Na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asion –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asion –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GULO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 – N –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  -  N –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 – N -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4BB4-5757-466A-87E5-979B0B6E1228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2" descr="Fig"/>
          <p:cNvPicPr/>
          <p:nvPr/>
        </p:nvPicPr>
        <p:blipFill>
          <a:blip r:embed="rId1"/>
          <a:srcRect l="2893" t="0" r="0" b="0"/>
          <a:stretch/>
        </p:blipFill>
        <p:spPr>
          <a:xfrm>
            <a:off x="1319040" y="547560"/>
            <a:ext cx="6967800" cy="516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" name="5 CuadroTexto"/>
          <p:cNvSpPr/>
          <p:nvPr/>
        </p:nvSpPr>
        <p:spPr>
          <a:xfrm>
            <a:off x="928800" y="5786280"/>
            <a:ext cx="72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ferencias anatómicas para ubicar porion y ba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bright="6000"/>
          </a:blip>
          <a:srcRect l="1868" t="2186" r="2980" b="0"/>
          <a:stretch/>
        </p:blipFill>
        <p:spPr>
          <a:xfrm>
            <a:off x="3166920" y="122400"/>
            <a:ext cx="5977080" cy="6330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90560" y="33336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NTOS, PLANOS  Y ANGULOS CEFALOMETRICOS DE RICKET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981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234936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492360" y="30700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277956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36392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308720" y="5661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4869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321300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22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2421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861080" y="3716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83664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20750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3195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285264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2421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667640" y="3141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451640" y="47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948360" y="56023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441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564000" y="1125360"/>
            <a:ext cx="3744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19640" y="2421000"/>
            <a:ext cx="403200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003280" y="2205000"/>
            <a:ext cx="230508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380360" y="1052640"/>
            <a:ext cx="0" cy="46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779640" y="4076640"/>
            <a:ext cx="3600360" cy="165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427640" y="3573000"/>
            <a:ext cx="2952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80360" y="3500280"/>
            <a:ext cx="216000" cy="136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932360" y="3284640"/>
            <a:ext cx="2735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066920" y="2565360"/>
            <a:ext cx="86508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4005360"/>
            <a:ext cx="252072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740720" y="2565360"/>
            <a:ext cx="792000" cy="360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4365720"/>
            <a:ext cx="10796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22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164360" y="2332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4203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700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411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33440" y="115920"/>
            <a:ext cx="226692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PUNTO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ll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sion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borbitari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on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nation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n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i (centro ram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.  Condilion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0. Pt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1. A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2. Pogoni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997360"/>
            <a:ext cx="21607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AN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asion – Basion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ion_ Suborbitario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 - Gn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asion – Gn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onion – N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nton – X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i – C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clus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016600"/>
            <a:ext cx="3562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GULOS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sion – Pt – N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asion – Pogonion en Frankfu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lano mandibular Frankfu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A – Xi – Menton (altura facial inferior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nton – Xi - Condil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>
            <a:lum bright="6000"/>
          </a:blip>
          <a:srcRect l="1868" t="2186" r="2980" b="0"/>
          <a:stretch/>
        </p:blipFill>
        <p:spPr>
          <a:xfrm>
            <a:off x="3166920" y="122400"/>
            <a:ext cx="5977080" cy="6330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87280" y="1159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NTOS, PLANOS Y ANGULOS CEFALOMETRICOS DE BJÖRK - JARAB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981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436392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5661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7380360" y="83664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558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4492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162864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429080" y="13539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2781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2924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1052640"/>
            <a:ext cx="280836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924000" y="1700280"/>
            <a:ext cx="647640" cy="115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2781360"/>
            <a:ext cx="647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4437000"/>
            <a:ext cx="259236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72000" y="1052280"/>
            <a:ext cx="280836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164360" y="1052640"/>
            <a:ext cx="216000" cy="46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6360" y="1052640"/>
            <a:ext cx="47516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NTOS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Na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Sil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Articular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Gon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Ment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GULO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Nasion – Silla – Articular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Silla – Articularis – Gon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Articularis – Gonion – Menton (total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Angulo goniaco superior – Articularis – Gonion – Na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Angulo goniaco inferior – Nasion – Gonion – Ment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STANCIA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Atura de la rama – Articularis – Gon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Bases cranial anterior – Nasion – Sil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ngitud del cuerpo mandibular – Gonion – Ment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Altura facial posterior – Silla – Gon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Altura facial anterior – Nasion – Ment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6. Relación altura facial posterior y altura facial anteri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476360" y="1019160"/>
            <a:ext cx="20160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PLANOS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1. Silla – Nasion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2. Silla – Articulari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3. Articularis – Gonion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4. Menton – Gonion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5. Gonion – Nasion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6. Nasion – Menton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7. Silla – Gonion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A17-460D-4878-A8F3-ED95CF6A0EAF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NTOS CEFALOMÉTRICOS A NIVEL DEL TERCIO 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B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TO. 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TO. A DE D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INA NASAL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INA NASAL POS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untos maxilar"/>
          <p:cNvPicPr/>
          <p:nvPr/>
        </p:nvPicPr>
        <p:blipFill>
          <a:blip r:embed="rId1"/>
          <a:stretch/>
        </p:blipFill>
        <p:spPr>
          <a:xfrm>
            <a:off x="4446720" y="1846440"/>
            <a:ext cx="4157640" cy="404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" name="Oval 5"/>
          <p:cNvSpPr/>
          <p:nvPr/>
        </p:nvSpPr>
        <p:spPr>
          <a:xfrm>
            <a:off x="7010280" y="3733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391520" y="41911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7"/>
          <p:cNvSpPr/>
          <p:nvPr/>
        </p:nvSpPr>
        <p:spPr>
          <a:xfrm>
            <a:off x="7391520" y="4876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8"/>
          <p:cNvSpPr/>
          <p:nvPr/>
        </p:nvSpPr>
        <p:spPr>
          <a:xfrm>
            <a:off x="6095880" y="3809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9"/>
          <p:cNvSpPr/>
          <p:nvPr/>
        </p:nvSpPr>
        <p:spPr>
          <a:xfrm>
            <a:off x="6248520" y="42670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7315200" y="4343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6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877E-0F04-46CD-B286-7D7D39D0D9C5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NTOS CEFALOMÉTRICOS A NIVEL DE LA MANDÍB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TO. B DE DOW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GO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O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untos mandibula"/>
          <p:cNvPicPr/>
          <p:nvPr/>
        </p:nvPicPr>
        <p:blipFill>
          <a:blip r:embed="rId1"/>
          <a:stretch/>
        </p:blipFill>
        <p:spPr>
          <a:xfrm>
            <a:off x="4778280" y="2286000"/>
            <a:ext cx="368136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Oval 5"/>
          <p:cNvSpPr/>
          <p:nvPr/>
        </p:nvSpPr>
        <p:spPr>
          <a:xfrm>
            <a:off x="7543800" y="46483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Oval 6"/>
          <p:cNvSpPr/>
          <p:nvPr/>
        </p:nvSpPr>
        <p:spPr>
          <a:xfrm>
            <a:off x="7620120" y="4876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A9ED-2071-410B-A747-277279612E30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2" descr="Mono 1"/>
          <p:cNvPicPr/>
          <p:nvPr/>
        </p:nvPicPr>
        <p:blipFill>
          <a:blip r:embed="rId1"/>
          <a:srcRect l="0" t="4827" r="2165" b="0"/>
          <a:stretch/>
        </p:blipFill>
        <p:spPr>
          <a:xfrm>
            <a:off x="1152360" y="1916280"/>
            <a:ext cx="3419640" cy="367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Text Box 3"/>
          <p:cNvSpPr/>
          <p:nvPr/>
        </p:nvSpPr>
        <p:spPr>
          <a:xfrm>
            <a:off x="5003640" y="803160"/>
            <a:ext cx="3384720" cy="61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Nasion (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unto de la nariz (E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ubnasal (S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ogonion piel (Pg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entón (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Gnation (Gn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ogonion óseo (Pg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B de Downs (B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nfradent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incisivo 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rostion P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 de Downs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spina nasal anterior SP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uborbitario 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spina nasal posterior SP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Fosa pterigomaxilar 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lo del Palad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Gonion 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rticularis A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o condilo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incondrosis esfeno occipi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Basion (B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orión (P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illa Turca  )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pófisis clinoides anterior. (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riba etmoid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60360" y="3888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UNTOS CEFALOMETR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AA4-F67D-4C27-A32A-70F0E2303671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Picture 2" descr="Pag"/>
          <p:cNvPicPr/>
          <p:nvPr/>
        </p:nvPicPr>
        <p:blipFill>
          <a:blip r:embed="rId1"/>
          <a:srcRect l="2700" t="0" r="2643" b="0"/>
          <a:stretch/>
        </p:blipFill>
        <p:spPr>
          <a:xfrm>
            <a:off x="5003640" y="1843200"/>
            <a:ext cx="3813480" cy="432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5 CuadroTexto"/>
          <p:cNvSpPr/>
          <p:nvPr/>
        </p:nvSpPr>
        <p:spPr>
          <a:xfrm>
            <a:off x="1214280" y="42876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BICACIÓN DE PUNTOS CEFALOMETR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" descr="Pag"/>
          <p:cNvPicPr/>
          <p:nvPr/>
        </p:nvPicPr>
        <p:blipFill>
          <a:blip r:embed="rId2"/>
          <a:srcRect l="6513" t="4938" r="4961" b="4938"/>
          <a:stretch/>
        </p:blipFill>
        <p:spPr>
          <a:xfrm>
            <a:off x="826920" y="1844640"/>
            <a:ext cx="3999240" cy="4292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9195-B4DB-4ABF-8F17-E9A944E98874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2" descr="Pag"/>
          <p:cNvPicPr/>
          <p:nvPr/>
        </p:nvPicPr>
        <p:blipFill>
          <a:blip r:embed="rId1"/>
          <a:srcRect l="3998" t="2435" r="1522" b="0"/>
          <a:stretch/>
        </p:blipFill>
        <p:spPr>
          <a:xfrm>
            <a:off x="4572000" y="1123920"/>
            <a:ext cx="4344840" cy="48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2" descr="Pag"/>
          <p:cNvPicPr/>
          <p:nvPr/>
        </p:nvPicPr>
        <p:blipFill>
          <a:blip r:embed="rId2"/>
          <a:srcRect l="0" t="1281" r="6299" b="0"/>
          <a:stretch/>
        </p:blipFill>
        <p:spPr>
          <a:xfrm>
            <a:off x="468360" y="1125360"/>
            <a:ext cx="3943440" cy="48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663-5FD1-4DB1-928B-594C8F1FFA2E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2" descr="Pag"/>
          <p:cNvPicPr/>
          <p:nvPr/>
        </p:nvPicPr>
        <p:blipFill>
          <a:blip r:embed="rId1"/>
          <a:srcRect l="9066" t="2667" r="3303" b="2667"/>
          <a:stretch/>
        </p:blipFill>
        <p:spPr>
          <a:xfrm>
            <a:off x="446040" y="907920"/>
            <a:ext cx="4125960" cy="511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7" name="Picture 2" descr="Pag"/>
          <p:cNvPicPr/>
          <p:nvPr/>
        </p:nvPicPr>
        <p:blipFill>
          <a:blip r:embed="rId2"/>
          <a:srcRect l="4516" t="2701" r="3732" b="4057"/>
          <a:stretch/>
        </p:blipFill>
        <p:spPr>
          <a:xfrm>
            <a:off x="4716360" y="907920"/>
            <a:ext cx="4200480" cy="511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99B6-6231-4BF1-BE22-249AD40372C1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2" descr="Pag"/>
          <p:cNvPicPr/>
          <p:nvPr/>
        </p:nvPicPr>
        <p:blipFill>
          <a:blip r:embed="rId1"/>
          <a:srcRect l="1467" t="0" r="3292" b="0"/>
          <a:stretch/>
        </p:blipFill>
        <p:spPr>
          <a:xfrm>
            <a:off x="301680" y="1125360"/>
            <a:ext cx="448632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2" descr="Pag"/>
          <p:cNvPicPr/>
          <p:nvPr/>
        </p:nvPicPr>
        <p:blipFill>
          <a:blip r:embed="rId2"/>
          <a:srcRect l="3291" t="4109" r="6145" b="2739"/>
          <a:stretch/>
        </p:blipFill>
        <p:spPr>
          <a:xfrm>
            <a:off x="4875120" y="1123920"/>
            <a:ext cx="40179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21:10:55Z</dcterms:created>
  <dc:creator/>
  <dc:description/>
  <dc:language>en-US</dc:language>
  <cp:lastModifiedBy>Hèctor Urrutia M</cp:lastModifiedBy>
  <dcterms:modified xsi:type="dcterms:W3CDTF">2010-04-07T06:58:31Z</dcterms:modified>
  <cp:revision>31</cp:revision>
  <dc:subject/>
  <dc:title>Puntos Cefalométricos</dc:title>
</cp:coreProperties>
</file>