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7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7CF21-5F27-4B39-A375-F8B9B24DA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20783-0699-45CD-ADCC-BE65A53107C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123762-8208-40ED-81FC-0D9CAEB0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3F125E-5984-41DD-8B93-E8DE9E71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07D50F-4F17-4DED-8DDB-2A215E54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8F3714-4BCA-44B7-A83C-40F4B249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B931D4-5507-437A-97E1-3F1C7E1C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38A505-0F6C-4B49-AE72-B8D4E729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4629DB-83D3-4330-9B05-C116FD12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7D8B94-780C-47B1-A5BA-58395BB2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4DF260-08E2-46F1-9ABC-673AA7CB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8B6F17-C4C7-4427-A18F-F27C8B6E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A20C-5BC5-4D1D-A055-27FCF598069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447FFF-7E7F-4ED8-99F0-A35CBB94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386EA7-6ED0-4770-9054-9E15D272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3B3B1F-7BBD-489F-B9FD-976F1E9F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69E3BA-830F-458E-BAE2-918979B7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C7B07B-A90A-4F13-98BB-72B11150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CFF6CA-1197-4907-9D52-14F3E341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5759FD-34A5-40CC-A4C1-CC2A2796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0ECD46-9C92-4AE4-83C5-C55C8536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F33418-4BAC-487F-B701-CFD96F15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1C303A-5E87-4AD5-8F2E-6B43B3C4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93423-DF1C-47B3-BE44-119918B71D8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0C2FAE-49C3-4ECB-9F80-EBD62229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F0D28-CCA6-4465-9267-02BA9ECC27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CB54B-2D20-4528-9405-CF2B73D26A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1DC68-E1B7-45B4-A746-979478E53A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4AA5C-CEF5-484A-807A-51AFC3B56F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6F8B2-1FAE-4BFF-9DB3-35554B77DC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BC40D-D8BB-4774-A911-90C3141556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89011-DA76-430A-AFC2-E52C129E61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E76CF-5EAD-49CE-8075-23F937EC45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C30BE-8059-4728-9FBB-B9D124B3FF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D2802-A94E-4C3F-AB05-131575C4A3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D7283-A409-477E-BA7B-9D4E39680B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01B5C-F96D-4AE4-AAA1-E0DAB71DE1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53906-8ABC-4147-9CF8-FA0F5C1FFC6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69004-B518-4767-BDF0-CF8CD6D4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30973-8417-47D0-BA88-AFBF5DE2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0B8DF-6372-43F7-A3C2-DB4C50E8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D1808-9DE3-4AB7-A79E-F38F9124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3E092-3910-444E-B89C-4482F7FD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B26FD-DC20-438F-8AC4-C0F1151C66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450A2-45E6-4BF9-87A8-11A55C39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F82A1-7DB5-4187-B1F8-B88142F6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CBDAE-0499-45D7-922E-1BD886E9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C09F9-67A7-4AA3-9BB9-4C301217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85B13-6752-42B5-AFBF-A2E39FB7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DDC39-CF87-4AD9-861B-01621874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76776-FA61-4B8F-A5D5-B74D0FBC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42D77E-2D35-4BEF-8F5C-5F42A504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A89F5C-B640-4AF3-BF76-F3A04649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A60FA7-7ADA-4CDD-9A9E-212380FE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253D6-FF8C-43F3-BD44-E1875F03DD6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6589D5-A91D-41C6-BD4C-93E1AE60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B60474-E719-4BAF-A918-6E3284C4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62361-66A3-4BD0-B211-D501896A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337EBA-9AFC-44D1-994C-2DEC84E9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ABE191-3A37-4E2B-B51E-373807EA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E9A34-6E54-4FA9-BAEB-2FF9D3EB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46BA8F-6A2C-472D-925E-BB96790E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82D064-6753-4027-8F1A-D76F9CA4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9930E4-1712-4EA8-9966-F9DAAD83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500F5B-D00F-49BB-AD10-1A3CC50C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1090E-D403-408C-917F-B0B91D47E72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4B8B60-2A60-4B92-9373-003B3A88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4C41A8-BFB0-4F26-ACA3-37428478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756D41-1351-4883-8E7D-C27C0C79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178AA3-0B9E-446D-8A7C-1B108FB1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5BE62F-3C9A-4353-A16F-AC99E930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FFD003-DC36-4D1A-AF2A-BF156C49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3A1452-8DBF-448C-8CF8-0A39CEC4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E10F48-CC0E-4946-A571-C7C14508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8B1E73-A2D0-43D9-8235-2F360995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735842-DA0D-4C22-AC24-BFFFE384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7A685-1DA6-4202-916F-000217D68E9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D2F66C-430A-4857-B559-3399E92C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29405A-9321-414F-9202-5745A9D8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06372A-314F-4711-834F-BB267AFF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C6E7D0-11D2-469F-BE59-E0D5F5F1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B0E4BB-4AC4-43F1-B34D-8F86C8D4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272A0D-DD02-4168-9B10-C64DF6CD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8017AF-FE11-47EB-8CCE-C97F862D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811A63-C1D8-444B-A3C8-F9F0AB14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4A5E18-83DE-4C6C-AAEA-F04E8660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098FF3-E7CA-4D24-897C-BD5A9C40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6CE6E-00D5-4DD8-BD3E-ABAB3543372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F8A1A0-491D-4704-814D-F4CC440F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8D9780-6D91-41E9-9F21-82D59084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CF2986-29AB-4108-9212-8726672F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EF6FBC-4172-4344-9B55-07873702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D4DD4D-E78D-490D-A33E-CE900C30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30A529-759D-4E4E-A7C1-BCE66471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06EFD7-B704-42CC-B273-135332DE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808F23-491C-4C6E-BE48-C25CC369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02B877-09C2-4EC9-B8EB-A95AE324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591D56-D897-4D67-981C-11ED94B7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56116-F148-48DE-877A-A4A1E12DBAD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0CACA7-9331-4F27-B9F2-8D1B6939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485348-A17E-44DD-A221-99C5FD28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2B270E-8DC0-4951-883F-864EBDCF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557632-0E4E-40F4-A63C-D68DE2EC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57E6ED-F7A4-48C8-A071-32BF5D96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C76D7E-D832-4954-8629-3C717A2A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2A4375-1F57-48B7-9A26-1BE72CE6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8A546F-7EF5-4873-8924-C901505C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50F339-7C23-41C1-8A32-7EC9E9D9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29D3D4-DC9D-43A8-9C67-F37E6C24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9FF0F-F7D9-4D04-B2F4-B9F07442C74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074080-7C9E-4CA4-8FB6-7D771747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CAC05C-A75A-48D3-A6B1-290FF45D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37E772-DAA9-466F-B15B-5052A7DB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10B1A1-D1B1-4824-BF95-823A703F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091B19-1F56-45E2-831D-6FED4B50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A3DC36-3DDF-4576-9085-47429E9B7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9E7CE2-3475-42A0-AA97-E1D3CF16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94C251-651B-431C-BE73-BB9E8DEA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B1386A-E1FD-40DB-B3DC-F05641A2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CA8AA9-04F6-4865-BE27-FA4E00E0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uandes.cl/index.html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www.uandes.cl/index.html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76840" y="6399360"/>
            <a:ext cx="2840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8529-3AB0-4DC4-B61A-50CFA044760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ángulo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ángulo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ángulo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DFBE-68FE-437D-B835-6E60A59A707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924680" y="5791320"/>
            <a:ext cx="838440" cy="74448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24680" y="5791320"/>
            <a:ext cx="838440" cy="7444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7476840" y="6399360"/>
            <a:ext cx="2840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1EB6-E7CE-44B6-964D-EE7FCF4E2EB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ángu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ángu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ángu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5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5DA5-256C-4DC1-B8AD-20D5AE68BC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ángulo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ángulo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ángulo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6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7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8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E457-6D25-47FE-8C57-7BD65DD4D7ED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ángulo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ángulo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ángulo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0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8A4E-F9A2-4C91-AF4B-3AD8E1B6AC2A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ángu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ángu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ángu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425F-D8E4-4DCB-834D-5AF1F1F5427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ángu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ángu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ángu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4A6D-76D9-4259-80AD-097F9FEB9A2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0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7BD5-31EA-431F-9A88-F01AED5DB2E5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ángulo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ángulo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ángulo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ángulo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1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sldNum" idx="22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FC84-B43C-4F3B-B3A1-799AE9CB3B49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3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andes.cl/index.html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eslkidstuff.com/images/fever.gif" TargetMode="Externa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tubotica.net/images/GifsConsejos/Bano.jpg&amp;imgrefurl=http://www.tubotica.net/consejos/Ninos/Fiebre.htm&amp;h=459&amp;w=459&amp;prev=/images?q=fiebre&amp;start=80&amp;svnum=10&amp;hl=es&amp;lr=&amp;ie=UTF-8&amp;oe=UTF-8&amp;sa=N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267680" cy="199404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SÍNDROME FEBRIL EN PEDIATRÍA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755280" y="4797000"/>
            <a:ext cx="7010280" cy="16765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9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 Bold"/>
              </a:rPr>
              <a:t>DR. RODRIGO VÁSQUEZ DE KARTZOW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9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 Bold"/>
              </a:rPr>
              <a:t>PROFESOR ASOCIAD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9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 Bold"/>
              </a:rPr>
              <a:t>FACULTAD DE MEDICI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9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 Bold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9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 Bold"/>
              </a:rPr>
              <a:t>2022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rcRect l="19844" t="22417" r="20090" b="22365"/>
          <a:stretch/>
        </p:blipFill>
        <p:spPr>
          <a:xfrm>
            <a:off x="3378240" y="2463840"/>
            <a:ext cx="2273400" cy="17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TIPOS DE FIEB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 Bold"/>
              </a:rPr>
              <a:t>Contínua:</a:t>
            </a:r>
            <a:r>
              <a:rPr b="0" lang="en-US" sz="29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Las variaciones diarias son menores de 1 ° c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 Bold"/>
              </a:rPr>
              <a:t>Intermitente:</a:t>
            </a:r>
            <a:r>
              <a:rPr b="0" lang="en-US" sz="29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Cuando existen periodos afebriles menores a un día</a:t>
            </a:r>
            <a:r>
              <a:rPr b="0" lang="en-US" sz="2900" spc="-1" strike="noStrike">
                <a:solidFill>
                  <a:srgbClr val="ffff00"/>
                </a:solidFill>
                <a:latin typeface="Calibri Bold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 Bold"/>
              </a:rPr>
              <a:t>Recurrente:</a:t>
            </a:r>
            <a:r>
              <a:rPr b="0" lang="en-US" sz="29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Existen periodos afebriles de varios días (2 – 5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 Bold"/>
              </a:rPr>
              <a:t>Ondulante:</a:t>
            </a:r>
            <a:r>
              <a:rPr b="0" lang="en-US" sz="29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Fiebre irregular, resultante de la combinación de varios tipo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0" y="228600"/>
            <a:ext cx="275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 Bold"/>
                <a:ea typeface="ヒラギノ角ゴ ProN W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ヒラギノ角ゴ ProN W3"/>
              </a:rPr>
              <a:t>SÍNDROME FEB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400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alibri Bold"/>
              </a:rPr>
              <a:t>DIAGNÓSTICO DIFERENCIAL DE FIEBRE AGUDA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5400" y="1765440"/>
            <a:ext cx="8226360" cy="50925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Enfermedad de vías aéreas superio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Enfermedad respiratoria baj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Trastornos gastrointestinal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Infecciones musculoesqueletic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Infección urinari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Bacteriemi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Meningiti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Calibri Bold"/>
              </a:rPr>
              <a:t>TIPOS DE FIEBR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5400" y="1765440"/>
            <a:ext cx="8226360" cy="50925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lvl="1" marL="1030320" indent="-5335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Bold"/>
              </a:rPr>
              <a:t>CAUSAS DE FIEBRE PROLONGADA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792440" indent="-3812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Infeccion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92440" indent="-3812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olagenopatí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92440" indent="-3812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Neoplasi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0" y="228600"/>
            <a:ext cx="275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 Bold"/>
                <a:ea typeface="ヒラギノ角ゴ ProN W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ヒラギノ角ゴ ProN W3"/>
              </a:rPr>
              <a:t>SÍNDROME FEB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5f55"/>
                </a:solidFill>
                <a:latin typeface="Calibri Bold"/>
              </a:rPr>
              <a:t>TIPOS DE FIEBRE</a:t>
            </a:r>
            <a:endParaRPr b="0" lang="en-US" sz="37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52280" y="21333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lvl="1" marL="1030320" indent="-53352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 Bold"/>
              </a:rPr>
              <a:t>CAUSAS INFECCIOSAS DE FIEBRE PROLONGADA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Fiebre tifoide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Tuberculosi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Paludism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Neumoní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Absceso hepátic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Salmonellosis no tífic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Mononucleosis infeccios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Endocarditis infeccios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Toxoplasmosi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Abscesos profundo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0" y="228600"/>
            <a:ext cx="275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 Bold"/>
                <a:ea typeface="ヒラギノ角ゴ ProN W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ヒラギノ角ゴ ProN W3"/>
              </a:rPr>
              <a:t>SÍNDROME FEB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FISIOPATOLOGÍ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PIROGENOS ENDÓGEN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Polipéptidos producidos por el huésped en respuesta a una infección, lesión, inflamación o provocación antigénica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Area preóptica del hipotálamo anterior (centro termoregulador) responde ante estimulos de pirógenos endógenos elevando la temperatura. Intermediario:</a:t>
            </a:r>
            <a:r>
              <a:rPr b="0" lang="en-US" sz="26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alibri Bold"/>
              </a:rPr>
              <a:t>PGE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Calibri Bold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5f55"/>
                </a:solidFill>
                <a:latin typeface="Calibri Bold"/>
              </a:rPr>
              <a:t>FISIOPATOLOGIA</a:t>
            </a:r>
            <a:endParaRPr b="0" lang="en-US" sz="37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0" y="2433600"/>
            <a:ext cx="7702560" cy="44244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lvl="1" marL="1030320" indent="-53352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Hipotálamo regula temperatura interna en aproximadamente  37 °c por capacidad de equilibrar la pérdida de calor de la periferia con producción de calor  en tejidos (higado y músculo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030320" indent="-53352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Pirógenos endógenos (polipeptidos)  producidos por el huésped en respuesta a infección , lesión, inflamación.</a:t>
            </a:r>
            <a:r>
              <a:rPr b="0" lang="en-US" sz="24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 Bold"/>
              </a:rPr>
              <a:t>(IL1-IL6-FNT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030320" indent="-53352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Hipotálamo: Síntesis de prostaglandin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24680" y="5791320"/>
            <a:ext cx="838440" cy="74448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siopatologí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3" descr=""/>
          <p:cNvPicPr/>
          <p:nvPr/>
        </p:nvPicPr>
        <p:blipFill>
          <a:blip r:embed="rId3"/>
          <a:stretch/>
        </p:blipFill>
        <p:spPr>
          <a:xfrm>
            <a:off x="838080" y="1676520"/>
            <a:ext cx="7925040" cy="5010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1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334280" cy="62006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5f55"/>
                </a:solidFill>
                <a:latin typeface="Calibri Bold"/>
              </a:rPr>
              <a:t>RIESGOS</a:t>
            </a:r>
            <a:endParaRPr b="0" lang="en-US" sz="37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Temperaturas &gt; 5 º c del valor habitual (41- 42ºc) tienen riesgo para la vida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ambios metabólico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ambios en sintesis de ac. nucléico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ambios en sintesis de proteín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ambios en permeabilida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ambios en el pH intracelula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alibri Bold"/>
              </a:rPr>
              <a:t>POSIBLES EFECTOS BENEFICOS DE LA FIEBRE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5400" y="1852560"/>
            <a:ext cx="8226360" cy="50054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Alta temperatura impide multiplicación de algunos microorganismo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 Bold Italic"/>
              </a:rPr>
              <a:t>Neisseria meningitid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 Italic"/>
              </a:rPr>
              <a:t>Treponem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 Bold Italic"/>
              </a:rPr>
              <a:t>Streptococcus pneumonia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Algunos vir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SÍNDROME FEBRIL EN PEDIATRÍ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GENERALIDAD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DEFINICIÓ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CAUS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ENFOQU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TRATAMIENT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RECOMENDACION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5940360" y="2133720"/>
            <a:ext cx="205416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4000" y="281160"/>
            <a:ext cx="7769160" cy="131904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alibri Bold"/>
              </a:rPr>
              <a:t>POSIBLES EFECTOS BENEFICOS DE LA FIEBRE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2409840" y="2057400"/>
            <a:ext cx="3257640" cy="4343400"/>
          </a:xfrm>
          <a:prstGeom prst="rect">
            <a:avLst/>
          </a:prstGeom>
          <a:ln w="0">
            <a:noFill/>
          </a:ln>
        </p:spPr>
      </p:pic>
      <p:sp>
        <p:nvSpPr>
          <p:cNvPr id="497" name="Rectangle 3"/>
          <p:cNvSpPr/>
          <p:nvPr/>
        </p:nvSpPr>
        <p:spPr>
          <a:xfrm>
            <a:off x="6934320" y="3384720"/>
            <a:ext cx="19177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ヒラギノ角ゴ ProN W3"/>
              </a:rPr>
              <a:t>Trata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ヒラギノ角ゴ ProN W3"/>
              </a:rPr>
              <a:t>de la sifil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ヒラギノ角ゴ ProN W3"/>
              </a:rPr>
              <a:t>Siglo XV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75f55"/>
                </a:solidFill>
                <a:latin typeface="Calibri Bold"/>
              </a:rPr>
              <a:t>POSIBLES EFECTOS BENEFICOS DE LA FIEBRE</a:t>
            </a:r>
            <a:endParaRPr b="0" lang="en-US" sz="33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5400" y="1852560"/>
            <a:ext cx="8226360" cy="50054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Aumenta la respuesta inflamatoria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agocitos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Migración de leucocito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Transformación de linfocito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Aumento de la producción de interferó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alibri Bold"/>
              </a:rPr>
              <a:t>POSIBLES EFECTOS ADVERSOS DE LA FIEBRE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A tº&gt; 40 º c  la fagocitosis para </a:t>
            </a:r>
            <a:r>
              <a:rPr b="0" i="1" lang="en-US" sz="2400" spc="-1" strike="noStrike">
                <a:solidFill>
                  <a:srgbClr val="000000"/>
                </a:solidFill>
                <a:latin typeface="Calibri Bold Italic"/>
              </a:rPr>
              <a:t>Staphilococcus</a:t>
            </a:r>
            <a:r>
              <a:rPr b="0" i="1" lang="en-US" sz="2400" spc="-1" strike="noStrike">
                <a:solidFill>
                  <a:srgbClr val="000000"/>
                </a:solidFill>
                <a:latin typeface="Calibri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disminuye así como las funciones celular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iebre aumenta en 10%-12% el metabolismo basal por cada grado de elevació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Aumenta el consumo de oxígen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Aumenta la producción de dioxido de carbon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Aumenta requerimientos de agua lib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onvulsiones febriles en niños susceptibl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iebre de 40º   causa edema cerebral en animal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" descr=""/>
          <p:cNvPicPr/>
          <p:nvPr/>
        </p:nvPicPr>
        <p:blipFill>
          <a:blip r:embed="rId1"/>
          <a:stretch/>
        </p:blipFill>
        <p:spPr>
          <a:xfrm>
            <a:off x="1547640" y="1278000"/>
            <a:ext cx="6048720" cy="4672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5f55"/>
                </a:solidFill>
                <a:latin typeface="Calibri Bold"/>
              </a:rPr>
              <a:t>FIEBRE EN RECIEN NACIDOS</a:t>
            </a:r>
            <a:endParaRPr b="0" lang="en-US" sz="37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fiebre es un signo poco frecuente en lactantes menore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mente 1% de los lactantes menores de 12 meses de edad tiene fiebre &gt; 38 ºc al ser llevados a un policlínico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menores de 3 meses de  edad, la IBG se asocia más frecuentemente con grados bajos de temperatura (38.1 – 38.9 °c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Calibri Bold"/>
              </a:rPr>
              <a:t>PREGUNTAS FRENTE A UN LACTANTE CON FIEBRE SIN FOCO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Puede este niño tener una infección grav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Que elementos de la historia y del EF lo suguieren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Que examenes debemos tomarl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Es necesario hospitalizarlo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Puede tener una bacteremia oculta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Cual es el riesgo de desarrollar una MBA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Cual es el beneficio de tratarlo empíricamente con antibióticos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Calibri Bold"/>
              </a:rPr>
              <a:t>FACTORES DE RIESGO PARA BACTEREMIA OCULTA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CRITERIOS CLÍNIC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Edad &lt; 2 añ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Fiebre &gt; 39.4 ° c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Apariencia tóxic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Irritabilidad, decaimient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Somnolenc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Enfermedad subyacent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Antecedente de contacto con </a:t>
            </a:r>
            <a:r>
              <a:rPr b="0" lang="en-US" sz="2600" spc="-1" strike="noStrike">
                <a:solidFill>
                  <a:srgbClr val="000000"/>
                </a:solidFill>
                <a:latin typeface="Calibri Bold Italic"/>
              </a:rPr>
              <a:t>N. meningitidi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Calibri Bold"/>
              </a:rPr>
              <a:t>FACTORES DE RIESGO PARA BACTEREMIA OCULTA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5400" y="1765440"/>
            <a:ext cx="8226360" cy="50925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CRITERIOS DE LABORATORI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Leucocitosis &gt; 15.00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baciliformes &gt; 50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PMN &gt; 10.00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Granulaciones tóxicas en hemogram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Calibri Bold"/>
              </a:rPr>
              <a:t>FACTORES DE RIESGO PARA BACTEREMIA OCULTA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5400" y="1765440"/>
            <a:ext cx="8226360" cy="50925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CRITERIOS DE ROCHEST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Paciente con buena aparienc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Previamente san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No infección bacteriana loca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Leucocitos : 5.000 a 15.00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OC: Norma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En caso de diarrea: &lt; 5 leucocitos/camp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Marcador de contenido 4" descr="Tabla&#10;&#10;Descripción generada automáticamente con confianza media"/>
          <p:cNvPicPr/>
          <p:nvPr/>
        </p:nvPicPr>
        <p:blipFill>
          <a:blip r:embed="rId1"/>
          <a:stretch/>
        </p:blipFill>
        <p:spPr>
          <a:xfrm>
            <a:off x="944640" y="115920"/>
            <a:ext cx="6983280" cy="6751440"/>
          </a:xfrm>
          <a:prstGeom prst="rect">
            <a:avLst/>
          </a:prstGeom>
          <a:ln w="0">
            <a:noFill/>
          </a:ln>
        </p:spPr>
      </p:pic>
      <p:pic>
        <p:nvPicPr>
          <p:cNvPr id="514" name="CuadroTexto 5" descr=""/>
          <p:cNvPicPr/>
          <p:nvPr/>
        </p:nvPicPr>
        <p:blipFill>
          <a:blip r:embed="rId2"/>
          <a:stretch/>
        </p:blipFill>
        <p:spPr>
          <a:xfrm>
            <a:off x="5486400" y="571680"/>
            <a:ext cx="32259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GENERALIDAD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80760" y="2125440"/>
            <a:ext cx="5491080" cy="47322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Es uno de los síntomas más frecuentes de enfermedad en pediatría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Representa entre el 20 – 30 % de las consultas en consultorio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Causa más frecuente  de tratamiento farmacológico  en pediatría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Definición de fiebre depende de la patología de base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0" y="228600"/>
            <a:ext cx="275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ヒラギノ角ゴ ProN W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4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1744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Marcador de contenido 4" descr="Tabla&#10;&#10;Descripción generada automáticamente"/>
          <p:cNvPicPr/>
          <p:nvPr/>
        </p:nvPicPr>
        <p:blipFill>
          <a:blip r:embed="rId1"/>
          <a:stretch/>
        </p:blipFill>
        <p:spPr>
          <a:xfrm>
            <a:off x="309600" y="115920"/>
            <a:ext cx="8439120" cy="6588000"/>
          </a:xfrm>
          <a:prstGeom prst="rect">
            <a:avLst/>
          </a:prstGeom>
          <a:ln w="0">
            <a:noFill/>
          </a:ln>
        </p:spPr>
      </p:pic>
      <p:pic>
        <p:nvPicPr>
          <p:cNvPr id="516" name="CuadroTexto 5" descr=""/>
          <p:cNvPicPr/>
          <p:nvPr/>
        </p:nvPicPr>
        <p:blipFill>
          <a:blip r:embed="rId2"/>
          <a:stretch/>
        </p:blipFill>
        <p:spPr>
          <a:xfrm>
            <a:off x="5549760" y="571680"/>
            <a:ext cx="3238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Marcador de contenido 4" descr="Tabla&#10;&#10;Descripción generada automáticamente"/>
          <p:cNvPicPr/>
          <p:nvPr/>
        </p:nvPicPr>
        <p:blipFill>
          <a:blip r:embed="rId1"/>
          <a:stretch/>
        </p:blipFill>
        <p:spPr>
          <a:xfrm>
            <a:off x="684360" y="-1440"/>
            <a:ext cx="7716600" cy="6859440"/>
          </a:xfrm>
          <a:prstGeom prst="rect">
            <a:avLst/>
          </a:prstGeom>
          <a:ln w="0">
            <a:noFill/>
          </a:ln>
        </p:spPr>
      </p:pic>
      <p:pic>
        <p:nvPicPr>
          <p:cNvPr id="518" name="CuadroTexto 5" descr=""/>
          <p:cNvPicPr/>
          <p:nvPr/>
        </p:nvPicPr>
        <p:blipFill>
          <a:blip r:embed="rId2"/>
          <a:stretch/>
        </p:blipFill>
        <p:spPr>
          <a:xfrm>
            <a:off x="5486400" y="419040"/>
            <a:ext cx="32004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Imagen 4" descr="Captura de pantalla 2014-09-30 a la(s) 10.14.24.png"/>
          <p:cNvPicPr/>
          <p:nvPr/>
        </p:nvPicPr>
        <p:blipFill>
          <a:blip r:embed="rId1"/>
          <a:stretch/>
        </p:blipFill>
        <p:spPr>
          <a:xfrm>
            <a:off x="1332000" y="260280"/>
            <a:ext cx="61862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Imagen 1" descr="Captura de pantalla 2014-09-30 a la(s) 10.18.36.png"/>
          <p:cNvPicPr/>
          <p:nvPr/>
        </p:nvPicPr>
        <p:blipFill>
          <a:blip r:embed="rId1"/>
          <a:stretch/>
        </p:blipFill>
        <p:spPr>
          <a:xfrm>
            <a:off x="900000" y="260280"/>
            <a:ext cx="734400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Calibri Bold"/>
              </a:rPr>
              <a:t>FIEBRE EN NIÑOS DE 3 A 36 MESE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250560" y="1844640"/>
            <a:ext cx="8488440" cy="50133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Bold"/>
              </a:rPr>
              <a:t>FIEBRE &lt; 48 HRS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Bold"/>
              </a:rPr>
              <a:t>(edad 3-36 meses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 Bold"/>
              </a:rPr>
              <a:t>Factores de riesgo</a:t>
            </a:r>
            <a:r>
              <a:rPr b="0" lang="en-US" sz="1400" spc="-1" strike="noStrike">
                <a:solidFill>
                  <a:srgbClr val="000000"/>
                </a:solidFill>
                <a:latin typeface="Calibri Bold"/>
                <a:ea typeface="ヒラギノ角ゴ ProN W6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 Bold"/>
                <a:ea typeface="ヒラギノ角ゴ ProN W6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 Bold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 Bold"/>
                <a:ea typeface="ヒラギノ角ゴ ProN W6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 Bold"/>
                <a:ea typeface="ヒラギノ角ゴ ProN W6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 Bold"/>
                <a:ea typeface="ヒラギノ角ゴ ProN W6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 Bold"/>
                <a:ea typeface="ヒラギノ角ゴ ProN W6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 Bold"/>
              </a:rPr>
              <a:t>Sin factores de riesgo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523" name="Group 3"/>
          <p:cNvGrpSpPr/>
          <p:nvPr/>
        </p:nvGrpSpPr>
        <p:grpSpPr>
          <a:xfrm>
            <a:off x="685080" y="2819520"/>
            <a:ext cx="1524240" cy="685800"/>
            <a:chOff x="685080" y="2819520"/>
            <a:chExt cx="1524240" cy="685800"/>
          </a:xfrm>
        </p:grpSpPr>
        <p:sp>
          <p:nvSpPr>
            <p:cNvPr id="524" name="Rectangle 4"/>
            <p:cNvSpPr/>
            <p:nvPr/>
          </p:nvSpPr>
          <p:spPr>
            <a:xfrm>
              <a:off x="760320" y="2819520"/>
              <a:ext cx="13716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5"/>
            <p:cNvSpPr/>
            <p:nvPr/>
          </p:nvSpPr>
          <p:spPr>
            <a:xfrm>
              <a:off x="685080" y="285768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T &gt; 40 °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Petequ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Patologia de ba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Estado general afec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6"/>
          <p:cNvGrpSpPr/>
          <p:nvPr/>
        </p:nvGrpSpPr>
        <p:grpSpPr>
          <a:xfrm>
            <a:off x="6477120" y="3124080"/>
            <a:ext cx="1295280" cy="838080"/>
            <a:chOff x="6477120" y="3124080"/>
            <a:chExt cx="1295280" cy="838080"/>
          </a:xfrm>
        </p:grpSpPr>
        <p:sp>
          <p:nvSpPr>
            <p:cNvPr id="527" name="Rectangle 7"/>
            <p:cNvSpPr/>
            <p:nvPr/>
          </p:nvSpPr>
          <p:spPr>
            <a:xfrm>
              <a:off x="6477120" y="3124080"/>
              <a:ext cx="1295280" cy="8380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8"/>
            <p:cNvSpPr/>
            <p:nvPr/>
          </p:nvSpPr>
          <p:spPr>
            <a:xfrm>
              <a:off x="6534000" y="3130920"/>
              <a:ext cx="11800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Antipiret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Alt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Control en 24 hr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9"/>
          <p:cNvGrpSpPr/>
          <p:nvPr/>
        </p:nvGrpSpPr>
        <p:grpSpPr>
          <a:xfrm>
            <a:off x="711360" y="3809880"/>
            <a:ext cx="1546920" cy="609480"/>
            <a:chOff x="711360" y="3809880"/>
            <a:chExt cx="1546920" cy="609480"/>
          </a:xfrm>
        </p:grpSpPr>
        <p:sp>
          <p:nvSpPr>
            <p:cNvPr id="530" name="Rectangle 10"/>
            <p:cNvSpPr/>
            <p:nvPr/>
          </p:nvSpPr>
          <p:spPr>
            <a:xfrm>
              <a:off x="760320" y="3809880"/>
              <a:ext cx="1449360" cy="6094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1"/>
            <p:cNvSpPr/>
            <p:nvPr/>
          </p:nvSpPr>
          <p:spPr>
            <a:xfrm>
              <a:off x="711360" y="3962160"/>
              <a:ext cx="1546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Valorar HG, PC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Orina, Rx. Torax, cultiv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2"/>
          <p:cNvGrpSpPr/>
          <p:nvPr/>
        </p:nvGrpSpPr>
        <p:grpSpPr>
          <a:xfrm>
            <a:off x="3087720" y="3276720"/>
            <a:ext cx="909360" cy="457200"/>
            <a:chOff x="3087720" y="3276720"/>
            <a:chExt cx="909360" cy="457200"/>
          </a:xfrm>
        </p:grpSpPr>
        <p:sp>
          <p:nvSpPr>
            <p:cNvPr id="533" name="AutoShape 13"/>
            <p:cNvSpPr/>
            <p:nvPr/>
          </p:nvSpPr>
          <p:spPr>
            <a:xfrm>
              <a:off x="3122640" y="3276720"/>
              <a:ext cx="838080" cy="45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73" y="0"/>
                  </a:moveTo>
                  <a:cubicBezTo>
                    <a:pt x="659" y="0"/>
                    <a:pt x="0" y="1209"/>
                    <a:pt x="0" y="2700"/>
                  </a:cubicBezTo>
                  <a:lnTo>
                    <a:pt x="0" y="18900"/>
                  </a:lnTo>
                  <a:cubicBezTo>
                    <a:pt x="0" y="20391"/>
                    <a:pt x="659" y="21600"/>
                    <a:pt x="1473" y="21600"/>
                  </a:cubicBezTo>
                  <a:lnTo>
                    <a:pt x="20127" y="21600"/>
                  </a:lnTo>
                  <a:cubicBezTo>
                    <a:pt x="20941" y="21600"/>
                    <a:pt x="21600" y="20391"/>
                    <a:pt x="21600" y="18900"/>
                  </a:cubicBezTo>
                  <a:lnTo>
                    <a:pt x="21600" y="2700"/>
                  </a:lnTo>
                  <a:cubicBezTo>
                    <a:pt x="21600" y="1209"/>
                    <a:pt x="20941" y="0"/>
                    <a:pt x="20127" y="0"/>
                  </a:cubicBezTo>
                  <a:lnTo>
                    <a:pt x="1473" y="0"/>
                  </a:lnTo>
                  <a:close/>
                  <a:moveTo>
                    <a:pt x="1473" y="0"/>
                  </a:move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14"/>
            <p:cNvSpPr/>
            <p:nvPr/>
          </p:nvSpPr>
          <p:spPr>
            <a:xfrm>
              <a:off x="3087720" y="3390840"/>
              <a:ext cx="9093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9640" tIns="38160" bIns="38160" anchor="ctr">
              <a:spAutoFit/>
            </a:bodyPr>
            <a:p>
              <a:pPr marL="12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Rx y orina (+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15"/>
          <p:cNvGrpSpPr/>
          <p:nvPr/>
        </p:nvGrpSpPr>
        <p:grpSpPr>
          <a:xfrm>
            <a:off x="2895480" y="4114800"/>
            <a:ext cx="1371600" cy="533520"/>
            <a:chOff x="2895480" y="4114800"/>
            <a:chExt cx="1371600" cy="533520"/>
          </a:xfrm>
        </p:grpSpPr>
        <p:sp>
          <p:nvSpPr>
            <p:cNvPr id="536" name="Rectangle 16"/>
            <p:cNvSpPr/>
            <p:nvPr/>
          </p:nvSpPr>
          <p:spPr>
            <a:xfrm>
              <a:off x="2895480" y="4114800"/>
              <a:ext cx="1371600" cy="5335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17"/>
            <p:cNvSpPr/>
            <p:nvPr/>
          </p:nvSpPr>
          <p:spPr>
            <a:xfrm>
              <a:off x="3079800" y="4228920"/>
              <a:ext cx="1001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Tto atb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Evaluar ingres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8"/>
          <p:cNvGrpSpPr/>
          <p:nvPr/>
        </p:nvGrpSpPr>
        <p:grpSpPr>
          <a:xfrm>
            <a:off x="990720" y="4648320"/>
            <a:ext cx="914400" cy="380880"/>
            <a:chOff x="990720" y="4648320"/>
            <a:chExt cx="914400" cy="380880"/>
          </a:xfrm>
        </p:grpSpPr>
        <p:sp>
          <p:nvSpPr>
            <p:cNvPr id="539" name="AutoShape 19"/>
            <p:cNvSpPr/>
            <p:nvPr/>
          </p:nvSpPr>
          <p:spPr>
            <a:xfrm>
              <a:off x="990720" y="4648320"/>
              <a:ext cx="914400" cy="3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5" y="0"/>
                  </a:moveTo>
                  <a:cubicBezTo>
                    <a:pt x="504" y="0"/>
                    <a:pt x="0" y="1209"/>
                    <a:pt x="0" y="2700"/>
                  </a:cubicBezTo>
                  <a:lnTo>
                    <a:pt x="0" y="18900"/>
                  </a:lnTo>
                  <a:cubicBezTo>
                    <a:pt x="0" y="20391"/>
                    <a:pt x="504" y="21600"/>
                    <a:pt x="1125" y="21600"/>
                  </a:cubicBezTo>
                  <a:lnTo>
                    <a:pt x="20475" y="21600"/>
                  </a:lnTo>
                  <a:cubicBezTo>
                    <a:pt x="21096" y="21600"/>
                    <a:pt x="21600" y="20391"/>
                    <a:pt x="21600" y="18900"/>
                  </a:cubicBezTo>
                  <a:lnTo>
                    <a:pt x="21600" y="2700"/>
                  </a:lnTo>
                  <a:cubicBezTo>
                    <a:pt x="21600" y="1209"/>
                    <a:pt x="21096" y="0"/>
                    <a:pt x="20475" y="0"/>
                  </a:cubicBezTo>
                  <a:lnTo>
                    <a:pt x="1125" y="0"/>
                  </a:lnTo>
                  <a:close/>
                  <a:moveTo>
                    <a:pt x="1125" y="0"/>
                  </a:move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20"/>
            <p:cNvSpPr/>
            <p:nvPr/>
          </p:nvSpPr>
          <p:spPr>
            <a:xfrm>
              <a:off x="1007640" y="4724280"/>
              <a:ext cx="8791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0000" tIns="38160" bIns="38160" anchor="ctr">
              <a:spAutoFit/>
            </a:bodyPr>
            <a:p>
              <a:pPr marL="12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Rx y orina (-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21"/>
          <p:cNvGrpSpPr/>
          <p:nvPr/>
        </p:nvGrpSpPr>
        <p:grpSpPr>
          <a:xfrm>
            <a:off x="1066680" y="5257800"/>
            <a:ext cx="762120" cy="457200"/>
            <a:chOff x="1066680" y="5257800"/>
            <a:chExt cx="762120" cy="457200"/>
          </a:xfrm>
        </p:grpSpPr>
        <p:sp>
          <p:nvSpPr>
            <p:cNvPr id="542" name="AutoShape 22"/>
            <p:cNvSpPr/>
            <p:nvPr/>
          </p:nvSpPr>
          <p:spPr>
            <a:xfrm>
              <a:off x="1066680" y="5257800"/>
              <a:ext cx="762120" cy="45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" y="0"/>
                  </a:moveTo>
                  <a:cubicBezTo>
                    <a:pt x="725" y="0"/>
                    <a:pt x="0" y="1209"/>
                    <a:pt x="0" y="2700"/>
                  </a:cubicBezTo>
                  <a:lnTo>
                    <a:pt x="0" y="18900"/>
                  </a:lnTo>
                  <a:cubicBezTo>
                    <a:pt x="0" y="20391"/>
                    <a:pt x="725" y="21600"/>
                    <a:pt x="1620" y="21600"/>
                  </a:cubicBezTo>
                  <a:lnTo>
                    <a:pt x="19980" y="21600"/>
                  </a:lnTo>
                  <a:cubicBezTo>
                    <a:pt x="20875" y="21600"/>
                    <a:pt x="21600" y="20391"/>
                    <a:pt x="21600" y="18900"/>
                  </a:cubicBezTo>
                  <a:lnTo>
                    <a:pt x="21600" y="2700"/>
                  </a:lnTo>
                  <a:cubicBezTo>
                    <a:pt x="21600" y="1209"/>
                    <a:pt x="20875" y="0"/>
                    <a:pt x="19980" y="0"/>
                  </a:cubicBezTo>
                  <a:lnTo>
                    <a:pt x="1620" y="0"/>
                  </a:lnTo>
                  <a:close/>
                  <a:moveTo>
                    <a:pt x="1620" y="0"/>
                  </a:move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23"/>
            <p:cNvSpPr/>
            <p:nvPr/>
          </p:nvSpPr>
          <p:spPr>
            <a:xfrm>
              <a:off x="1183680" y="5295960"/>
              <a:ext cx="526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9280" tIns="38160" bIns="38160" anchor="ctr">
              <a:spAutoFit/>
            </a:bodyPr>
            <a:p>
              <a:pPr marL="12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PCR (-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HG (-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24"/>
          <p:cNvGrpSpPr/>
          <p:nvPr/>
        </p:nvGrpSpPr>
        <p:grpSpPr>
          <a:xfrm>
            <a:off x="3200400" y="5257800"/>
            <a:ext cx="685800" cy="533520"/>
            <a:chOff x="3200400" y="5257800"/>
            <a:chExt cx="685800" cy="533520"/>
          </a:xfrm>
        </p:grpSpPr>
        <p:sp>
          <p:nvSpPr>
            <p:cNvPr id="545" name="AutoShape 25"/>
            <p:cNvSpPr/>
            <p:nvPr/>
          </p:nvSpPr>
          <p:spPr>
            <a:xfrm>
              <a:off x="3200400" y="5257800"/>
              <a:ext cx="685800" cy="53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00" y="0"/>
                  </a:moveTo>
                  <a:cubicBezTo>
                    <a:pt x="940" y="0"/>
                    <a:pt x="0" y="1209"/>
                    <a:pt x="0" y="2700"/>
                  </a:cubicBezTo>
                  <a:lnTo>
                    <a:pt x="0" y="18900"/>
                  </a:lnTo>
                  <a:cubicBezTo>
                    <a:pt x="0" y="20391"/>
                    <a:pt x="940" y="21600"/>
                    <a:pt x="2100" y="21600"/>
                  </a:cubicBezTo>
                  <a:lnTo>
                    <a:pt x="19500" y="21600"/>
                  </a:lnTo>
                  <a:cubicBezTo>
                    <a:pt x="20660" y="21600"/>
                    <a:pt x="21600" y="20391"/>
                    <a:pt x="21600" y="18900"/>
                  </a:cubicBezTo>
                  <a:lnTo>
                    <a:pt x="21600" y="2700"/>
                  </a:lnTo>
                  <a:cubicBezTo>
                    <a:pt x="21600" y="1209"/>
                    <a:pt x="20660" y="0"/>
                    <a:pt x="19500" y="0"/>
                  </a:cubicBezTo>
                  <a:lnTo>
                    <a:pt x="2100" y="0"/>
                  </a:lnTo>
                  <a:close/>
                  <a:moveTo>
                    <a:pt x="2100" y="0"/>
                  </a:move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26"/>
            <p:cNvSpPr/>
            <p:nvPr/>
          </p:nvSpPr>
          <p:spPr>
            <a:xfrm>
              <a:off x="3264840" y="5334120"/>
              <a:ext cx="555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892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PCR (+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HG (+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27"/>
          <p:cNvGrpSpPr/>
          <p:nvPr/>
        </p:nvGrpSpPr>
        <p:grpSpPr>
          <a:xfrm>
            <a:off x="6737400" y="4952880"/>
            <a:ext cx="1001520" cy="609480"/>
            <a:chOff x="6737400" y="4952880"/>
            <a:chExt cx="1001520" cy="609480"/>
          </a:xfrm>
        </p:grpSpPr>
        <p:sp>
          <p:nvSpPr>
            <p:cNvPr id="548" name="AutoShape 28"/>
            <p:cNvSpPr/>
            <p:nvPr/>
          </p:nvSpPr>
          <p:spPr>
            <a:xfrm>
              <a:off x="6780240" y="4952880"/>
              <a:ext cx="91440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29"/>
            <p:cNvSpPr/>
            <p:nvPr/>
          </p:nvSpPr>
          <p:spPr>
            <a:xfrm>
              <a:off x="6737400" y="5028840"/>
              <a:ext cx="1001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LC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Atb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Evaluar ingres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Line 30"/>
          <p:cNvSpPr/>
          <p:nvPr/>
        </p:nvSpPr>
        <p:spPr>
          <a:xfrm>
            <a:off x="1447920" y="3581280"/>
            <a:ext cx="1440" cy="152640"/>
          </a:xfrm>
          <a:prstGeom prst="line">
            <a:avLst/>
          </a:prstGeom>
          <a:ln w="38160">
            <a:solidFill>
              <a:srgbClr val="b26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31"/>
          <p:cNvSpPr/>
          <p:nvPr/>
        </p:nvSpPr>
        <p:spPr>
          <a:xfrm>
            <a:off x="1447920" y="4495680"/>
            <a:ext cx="1440" cy="76320"/>
          </a:xfrm>
          <a:prstGeom prst="line">
            <a:avLst/>
          </a:prstGeom>
          <a:ln w="38160">
            <a:solidFill>
              <a:srgbClr val="b26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32"/>
          <p:cNvSpPr/>
          <p:nvPr/>
        </p:nvSpPr>
        <p:spPr>
          <a:xfrm>
            <a:off x="1447920" y="5105520"/>
            <a:ext cx="1440" cy="759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AutoShape 33"/>
          <p:cNvCxnSpPr/>
          <p:nvPr/>
        </p:nvCxnSpPr>
        <p:spPr>
          <a:xfrm flipV="1">
            <a:off x="2268000" y="3644640"/>
            <a:ext cx="791640" cy="289440"/>
          </a:xfrm>
          <a:prstGeom prst="straightConnector1">
            <a:avLst/>
          </a:prstGeom>
          <a:ln w="28440">
            <a:solidFill>
              <a:srgbClr val="b26b02"/>
            </a:solidFill>
            <a:miter/>
            <a:tailEnd len="med" type="triangle" w="med"/>
          </a:ln>
        </p:spPr>
      </p:cxnSp>
      <p:sp>
        <p:nvSpPr>
          <p:cNvPr id="554" name="Line 34"/>
          <p:cNvSpPr/>
          <p:nvPr/>
        </p:nvSpPr>
        <p:spPr>
          <a:xfrm>
            <a:off x="3505320" y="3809880"/>
            <a:ext cx="1440" cy="304920"/>
          </a:xfrm>
          <a:prstGeom prst="line">
            <a:avLst/>
          </a:prstGeom>
          <a:ln w="38160">
            <a:solidFill>
              <a:srgbClr val="b26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5" name="AutoShape 35"/>
          <p:cNvCxnSpPr/>
          <p:nvPr/>
        </p:nvCxnSpPr>
        <p:spPr>
          <a:xfrm>
            <a:off x="1979280" y="4941720"/>
            <a:ext cx="1152720" cy="432720"/>
          </a:xfrm>
          <a:prstGeom prst="straightConnector1">
            <a:avLst/>
          </a:prstGeom>
          <a:ln w="28440">
            <a:solidFill>
              <a:srgbClr val="b26b02"/>
            </a:solidFill>
            <a:miter/>
            <a:tailEnd len="med" type="triangle" w="med"/>
          </a:ln>
        </p:spPr>
      </p:cxnSp>
      <p:cxnSp>
        <p:nvCxnSpPr>
          <p:cNvPr id="556" name="AutoShape 36"/>
          <p:cNvCxnSpPr/>
          <p:nvPr/>
        </p:nvCxnSpPr>
        <p:spPr>
          <a:xfrm flipV="1">
            <a:off x="4066920" y="5373360"/>
            <a:ext cx="2592720" cy="72000"/>
          </a:xfrm>
          <a:prstGeom prst="straightConnector1">
            <a:avLst/>
          </a:prstGeom>
          <a:ln w="28440">
            <a:solidFill>
              <a:srgbClr val="b26b02"/>
            </a:solidFill>
            <a:miter/>
            <a:tailEnd len="med" type="triangle" w="med"/>
          </a:ln>
        </p:spPr>
      </p:cxnSp>
      <p:grpSp>
        <p:nvGrpSpPr>
          <p:cNvPr id="557" name="Group 37"/>
          <p:cNvGrpSpPr/>
          <p:nvPr/>
        </p:nvGrpSpPr>
        <p:grpSpPr>
          <a:xfrm>
            <a:off x="723240" y="5943600"/>
            <a:ext cx="1524240" cy="762120"/>
            <a:chOff x="723240" y="5943600"/>
            <a:chExt cx="1524240" cy="762120"/>
          </a:xfrm>
        </p:grpSpPr>
        <p:sp>
          <p:nvSpPr>
            <p:cNvPr id="558" name="Rectangle 38"/>
            <p:cNvSpPr/>
            <p:nvPr/>
          </p:nvSpPr>
          <p:spPr>
            <a:xfrm>
              <a:off x="836640" y="5943600"/>
              <a:ext cx="1295280" cy="7621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39"/>
            <p:cNvSpPr/>
            <p:nvPr/>
          </p:nvSpPr>
          <p:spPr>
            <a:xfrm>
              <a:off x="723240" y="601992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Estado general afec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LC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Ingreso a observ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Valorar atb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Line 40"/>
          <p:cNvSpPr/>
          <p:nvPr/>
        </p:nvSpPr>
        <p:spPr>
          <a:xfrm>
            <a:off x="1447920" y="5791320"/>
            <a:ext cx="1440" cy="75960"/>
          </a:xfrm>
          <a:prstGeom prst="line">
            <a:avLst/>
          </a:prstGeom>
          <a:ln w="28440">
            <a:solidFill>
              <a:srgbClr val="b26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41"/>
          <p:cNvSpPr/>
          <p:nvPr/>
        </p:nvSpPr>
        <p:spPr>
          <a:xfrm>
            <a:off x="7086600" y="2743200"/>
            <a:ext cx="1440" cy="304920"/>
          </a:xfrm>
          <a:prstGeom prst="line">
            <a:avLst/>
          </a:prstGeom>
          <a:ln w="28440">
            <a:solidFill>
              <a:srgbClr val="b26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42"/>
          <p:cNvSpPr/>
          <p:nvPr/>
        </p:nvSpPr>
        <p:spPr>
          <a:xfrm flipH="1">
            <a:off x="1905120" y="2057400"/>
            <a:ext cx="1676160" cy="380880"/>
          </a:xfrm>
          <a:prstGeom prst="line">
            <a:avLst/>
          </a:prstGeom>
          <a:ln w="28440">
            <a:solidFill>
              <a:srgbClr val="b26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43"/>
          <p:cNvSpPr/>
          <p:nvPr/>
        </p:nvSpPr>
        <p:spPr>
          <a:xfrm>
            <a:off x="5486400" y="2057400"/>
            <a:ext cx="1447920" cy="380880"/>
          </a:xfrm>
          <a:prstGeom prst="line">
            <a:avLst/>
          </a:prstGeom>
          <a:ln w="28440">
            <a:solidFill>
              <a:srgbClr val="b26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TRATAMIENT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684360" y="1976400"/>
            <a:ext cx="7997760" cy="48816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Medidas general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Aporte extra de líquid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Ropa adecuad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Ventilación de la habitació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0" y="228600"/>
            <a:ext cx="275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 Bold"/>
                <a:ea typeface="ヒラギノ角ゴ ProN W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1700280"/>
            <a:ext cx="256068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TRATAMIENT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684360" y="1976400"/>
            <a:ext cx="7997760" cy="48816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Solo administrar antitérmicos  en caso d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iebre alta ( &gt; 39 °c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Riesgo de convulsión febri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Niño con molesti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iebre descompensa o altera la condición basal (ICC, anemia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TRATAMIENT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805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Que medicamentos utilizar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80000"/>
              </a:lnSpc>
              <a:spcBef>
                <a:spcPts val="550"/>
              </a:spcBef>
              <a:buClr>
                <a:srgbClr val="b26b0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 Bold"/>
              </a:rPr>
              <a:t>AINE:</a:t>
            </a:r>
            <a:r>
              <a:rPr b="0" lang="en-US" sz="24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Bloquean producción PGE2</a:t>
            </a:r>
            <a:r>
              <a:rPr b="0" lang="en-US" sz="24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 Bold"/>
              </a:rPr>
              <a:t>(IBUPROFENO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1826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Efecto antipirétic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1826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Efecto analgésic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1826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Efecto antiinflamatori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1826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Dosis: 5 – 10 mg/kg/dosis cada  8 hora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80000"/>
              </a:lnSpc>
              <a:spcBef>
                <a:spcPts val="550"/>
              </a:spcBef>
              <a:buClr>
                <a:srgbClr val="b26b0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 Bold"/>
              </a:rPr>
              <a:t>ACETAMINOFENO:</a:t>
            </a:r>
            <a:r>
              <a:rPr b="0" lang="en-US" sz="24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Inhibe  acción de pirógenos endógenos en centro termorregulador</a:t>
            </a:r>
            <a:r>
              <a:rPr b="0" lang="en-US" sz="24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 Bold"/>
              </a:rPr>
              <a:t>(PARACETAMOL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1826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Efecto antipirétic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1826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Efecto analgésic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TRATAMIENT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228600" y="2133360"/>
            <a:ext cx="5943600" cy="47242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Evitar el uso d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b26b0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Fricciones con alcohol .....</a:t>
            </a:r>
            <a:r>
              <a:rPr b="0" lang="en-US" sz="26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alibri Bold"/>
              </a:rPr>
              <a:t>Hipoglicemia, intoxicació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b26b0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Baños con agua fria ......</a:t>
            </a:r>
            <a:r>
              <a:rPr b="0" lang="en-US" sz="2600" spc="-1" strike="noStrike">
                <a:solidFill>
                  <a:srgbClr val="ff0000"/>
                </a:solidFill>
                <a:latin typeface="Calibri Bold"/>
              </a:rPr>
              <a:t>vasoconstricción y</a:t>
            </a:r>
            <a:r>
              <a:rPr b="0" lang="en-US" sz="26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↑</a:t>
            </a:r>
            <a:r>
              <a:rPr b="0" lang="en-US" sz="2600" spc="-1" strike="noStrike">
                <a:solidFill>
                  <a:srgbClr val="ff0000"/>
                </a:solidFill>
                <a:latin typeface="Calibri Bold"/>
              </a:rPr>
              <a:t> temp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b26b0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Aspirina ......</a:t>
            </a:r>
            <a:r>
              <a:rPr b="0" lang="en-US" sz="26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alibri Bold"/>
              </a:rPr>
              <a:t>Síndrome de Reyé, broncoconstricción, hemorrag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74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924280"/>
            <a:ext cx="2789280" cy="2412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CASO CLÍNICO 1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23b0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Acude al servicio de urgencias paciente de 15 dias de edad quien presenta cuadro desde hoy con fiebre de 38°c  y rinorrea serosa. Buen aspecto. EF es negativ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Enfoque diagnóstico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Conduc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Calibri Bold"/>
              </a:rPr>
              <a:t>GENERALIDADE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250920" y="2420640"/>
            <a:ext cx="7889760" cy="44370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lvl="1" marL="1030320" indent="-53352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1030320" indent="-53352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TEMPERATURA NORMAL: 36.8 c +/- 0.4 ° oral y axilar. La temp. rectal es 0.6 c  may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030320" indent="-53352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VARIACIÓN DE LA TEMPERATURA EN 24 HOR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Bold"/>
              </a:rPr>
              <a:t>Temperatura más baja : en la mañana temprano (02:00-04:00 hrs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Bold"/>
              </a:rPr>
              <a:t>Temperatura más alta: en la tarde (16:00-18:00 hrs.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2" name="Picture 3" descr=""/>
          <p:cNvPicPr/>
          <p:nvPr/>
        </p:nvPicPr>
        <p:blipFill>
          <a:blip r:embed="rId1"/>
          <a:stretch/>
        </p:blipFill>
        <p:spPr>
          <a:xfrm>
            <a:off x="6661080" y="189000"/>
            <a:ext cx="2239920" cy="244800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4"/>
          <p:cNvSpPr/>
          <p:nvPr/>
        </p:nvSpPr>
        <p:spPr>
          <a:xfrm>
            <a:off x="4344840" y="6388200"/>
            <a:ext cx="45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E925-42F9-4864-9E6D-73660F3C2FB1}" type="slidenum"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CASO CLÍNICO 2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Paciente de 10 meses de edad con cuadro de 1 día de evolución con fiebre 39 °c. Se alimenta adecuadamente. No otra sintomatología. Buen aspect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Enfoque diagnóstico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Conduc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CASO CLÍNICO 3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5400" y="1765440"/>
            <a:ext cx="8226360" cy="50925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Paciente de 3 años de edad con cuadro de 2 días de evolución con fiebre 38.5 ºc.  FC 170/ min  PA 90/45. Llene capilar 4-5 se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Enfoque diagnóstico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Conduc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DEFINICION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0" y="228600"/>
            <a:ext cx="275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 Bold"/>
                <a:ea typeface="ヒラギノ角ゴ ProN W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ヒラギノ角ゴ ProN W3"/>
              </a:rPr>
              <a:t>SÍNDROME FEB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2971800" cy="25146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2"/>
          <a:stretch/>
        </p:blipFill>
        <p:spPr>
          <a:xfrm>
            <a:off x="1219320" y="2133720"/>
            <a:ext cx="2398680" cy="32763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6"/>
          <p:cNvSpPr/>
          <p:nvPr/>
        </p:nvSpPr>
        <p:spPr>
          <a:xfrm>
            <a:off x="1295280" y="5562720"/>
            <a:ext cx="229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Oral: hasta 37.8 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5486400" y="4724280"/>
            <a:ext cx="229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Rectal: hasta 38 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5486400" y="5486400"/>
            <a:ext cx="229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Axilar: hasta 37.8 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9"/>
          <p:cNvSpPr/>
          <p:nvPr/>
        </p:nvSpPr>
        <p:spPr>
          <a:xfrm>
            <a:off x="6706440" y="2251080"/>
            <a:ext cx="1909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Calibri Bold"/>
              </a:rPr>
              <a:t>NUEVOS MÉTODOS DE MEDICIÓN DE TEMPERATURA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0" y="228600"/>
            <a:ext cx="275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 Bold"/>
                <a:ea typeface="ヒラギノ角ゴ ProN W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6706440" y="2251080"/>
            <a:ext cx="1909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5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1687680" cy="19051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"/>
          <p:cNvPicPr/>
          <p:nvPr/>
        </p:nvPicPr>
        <p:blipFill>
          <a:blip r:embed="rId2"/>
          <a:stretch/>
        </p:blipFill>
        <p:spPr>
          <a:xfrm>
            <a:off x="2590920" y="2286000"/>
            <a:ext cx="2514600" cy="19810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7" descr=""/>
          <p:cNvPicPr/>
          <p:nvPr/>
        </p:nvPicPr>
        <p:blipFill>
          <a:blip r:embed="rId3"/>
          <a:stretch/>
        </p:blipFill>
        <p:spPr>
          <a:xfrm>
            <a:off x="5672160" y="2362320"/>
            <a:ext cx="2671920" cy="32763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8" descr=""/>
          <p:cNvPicPr/>
          <p:nvPr/>
        </p:nvPicPr>
        <p:blipFill>
          <a:blip r:embed="rId4"/>
          <a:stretch/>
        </p:blipFill>
        <p:spPr>
          <a:xfrm>
            <a:off x="609480" y="4419720"/>
            <a:ext cx="4496040" cy="16351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9" descr=""/>
          <p:cNvPicPr/>
          <p:nvPr/>
        </p:nvPicPr>
        <p:blipFill>
          <a:blip r:embed="rId5"/>
          <a:stretch/>
        </p:blipFill>
        <p:spPr>
          <a:xfrm>
            <a:off x="826920" y="2421000"/>
            <a:ext cx="2089440" cy="2016000"/>
          </a:xfrm>
          <a:prstGeom prst="rect">
            <a:avLst/>
          </a:prstGeom>
          <a:ln w="0">
            <a:noFill/>
          </a:ln>
        </p:spPr>
      </p:pic>
      <p:sp>
        <p:nvSpPr>
          <p:cNvPr id="460" name="Line 10"/>
          <p:cNvSpPr/>
          <p:nvPr/>
        </p:nvSpPr>
        <p:spPr>
          <a:xfrm flipH="1">
            <a:off x="826920" y="2421000"/>
            <a:ext cx="2089440" cy="201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1"/>
          <p:cNvSpPr/>
          <p:nvPr/>
        </p:nvSpPr>
        <p:spPr>
          <a:xfrm>
            <a:off x="826920" y="2421000"/>
            <a:ext cx="2089440" cy="201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DEFINICION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2627280"/>
            <a:ext cx="5184720" cy="42307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FIEBRE EN NEUTROPENIA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Neutropenia: se refiere a disminución de neutrófilos (leve &lt;1.500, moderado entre 500 y 1.000, severa &lt;500)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Fiebre: 38.3 c en una sola toma o 38º mantenidos en 1 hora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0" y="228600"/>
            <a:ext cx="275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 Bold"/>
                <a:ea typeface="ヒラギノ角ゴ ProN W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ヒラギノ角ゴ ProN W3"/>
              </a:rPr>
              <a:t>SÍNDROME FEB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"/>
          <p:cNvPicPr/>
          <p:nvPr/>
        </p:nvPicPr>
        <p:blipFill>
          <a:blip r:embed="rId1"/>
          <a:stretch/>
        </p:blipFill>
        <p:spPr>
          <a:xfrm>
            <a:off x="5286240" y="2637000"/>
            <a:ext cx="385776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5f55"/>
                </a:solidFill>
                <a:latin typeface="Calibri Bold"/>
              </a:rPr>
              <a:t>DEFINICIONES</a:t>
            </a:r>
            <a:endParaRPr b="0" lang="en-US" sz="37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 Bold"/>
              </a:rPr>
              <a:t>FIEBRE:</a:t>
            </a:r>
            <a:r>
              <a:rPr b="0" lang="en-US" sz="29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Elevación de la tº corporal a valores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≥</a:t>
            </a: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 38 ° c  recta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 Bold"/>
              </a:rPr>
              <a:t>HIPERPIREXIA:</a:t>
            </a:r>
            <a:r>
              <a:rPr b="0" lang="en-US" sz="29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Elevación de la t°a valores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≥</a:t>
            </a: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 41 ° c debida a fiebr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 Bold"/>
              </a:rPr>
              <a:t>HIPERTERMIA:</a:t>
            </a:r>
            <a:r>
              <a:rPr b="0" lang="en-US" sz="29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Elevación de la t° corporal sin que medien cambios en el set point  del centro termoregulador (alteración en el aporte, producción y/o  eliminación de calor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177840" y="190440"/>
            <a:ext cx="25416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ヒラギノ角ゴ ProN W3"/>
              </a:rPr>
              <a:t>SÍNDROME FEB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DEFINICION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 Bold"/>
              </a:rPr>
              <a:t>FIEBRE AGUDA:</a:t>
            </a:r>
            <a:r>
              <a:rPr b="0" lang="en-US" sz="24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Temperatura &gt; 38 °c  de menos de 7 días de evolució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 Bold"/>
              </a:rPr>
              <a:t>FIEBRE SIN FOCO:</a:t>
            </a:r>
            <a:r>
              <a:rPr b="0" lang="en-US" sz="24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iebre de &lt; 1 semana de evolución sin evidencia de foco claro en la anamnesis y exámen físico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 Bold"/>
              </a:rPr>
              <a:t>FIEBRE PROLONGADA:</a:t>
            </a:r>
            <a:r>
              <a:rPr b="0" lang="en-US" sz="24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iebre  &gt; 7 o 14 días de evolució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 Bold"/>
              </a:rPr>
              <a:t>FIEBRE DE ORIGEN DESCONOCIDO (FOD):</a:t>
            </a:r>
            <a:r>
              <a:rPr b="0" lang="en-US" sz="24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Proceso febril de al menos 14 días de duración con estudios de laboratorio de primera fas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0" y="228600"/>
            <a:ext cx="275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 Bold"/>
                <a:ea typeface="ヒラギノ角ゴ ProN W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ヒラギノ角ゴ ProN W3"/>
              </a:rPr>
              <a:t>SINDROME FEB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Rodrigo Vásquez</dc:creator>
  <dc:description/>
  <cp:keywords/>
  <dc:language>en-US</dc:language>
  <cp:lastModifiedBy>Rodrigo Vásquez De Kartzow</cp:lastModifiedBy>
  <dcterms:modified xsi:type="dcterms:W3CDTF">2022-04-04T11:56:16Z</dcterms:modified>
  <cp:revision>16</cp:revision>
  <dc:subject/>
  <dc:title>SÍNDROME MENINGEO</dc:title>
</cp:coreProperties>
</file>