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352F-01EC-47C0-9554-7490DE62A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2044-2346-4FCD-8D0F-AE11B43EE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4A7-059F-4F85-89A3-8C1D7A53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DA9-63ED-4E92-B463-3DF40C93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02D6-5033-44DA-9FE2-4098C1DE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F00-538C-45D7-973F-2C1F9CDF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A4F-3DC5-4AC5-9BD8-855B2BD6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752-9761-4303-BD52-E56B4E0C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071B-7049-47C1-AD99-BB9A1E52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F9E-FB92-4A94-A8AF-0D8DC49A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D91-656A-4649-B0D0-7A4B8631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6C1-4E6A-45CF-BAD9-B8384CE6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9CB-302D-477D-92AA-D10CB69F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9CE-484C-4715-B203-93C18E85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1D0D-B072-4F69-8469-431FB78055B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atologia Respiratoria alt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ac Cereb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Sin Contras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599840"/>
            <a:ext cx="40384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Con Contras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5 Imagen" descr=""/>
          <p:cNvPicPr/>
          <p:nvPr/>
        </p:nvPicPr>
        <p:blipFill>
          <a:blip r:embed="rId1"/>
          <a:srcRect l="65503" t="34213" r="4729" b="4887"/>
          <a:stretch/>
        </p:blipFill>
        <p:spPr>
          <a:xfrm>
            <a:off x="395280" y="836640"/>
            <a:ext cx="2952720" cy="3095640"/>
          </a:xfrm>
          <a:prstGeom prst="rect">
            <a:avLst/>
          </a:prstGeom>
          <a:ln w="0">
            <a:noFill/>
          </a:ln>
        </p:spPr>
      </p:pic>
      <p:pic>
        <p:nvPicPr>
          <p:cNvPr id="77" name="6 Imagen" descr=""/>
          <p:cNvPicPr/>
          <p:nvPr/>
        </p:nvPicPr>
        <p:blipFill>
          <a:blip r:embed="rId2"/>
          <a:srcRect l="32870" t="22559" r="32126" b="0"/>
          <a:stretch/>
        </p:blipFill>
        <p:spPr>
          <a:xfrm>
            <a:off x="5724360" y="2384280"/>
            <a:ext cx="2613240" cy="2951280"/>
          </a:xfrm>
          <a:prstGeom prst="rect">
            <a:avLst/>
          </a:prstGeom>
          <a:ln w="0">
            <a:noFill/>
          </a:ln>
        </p:spPr>
      </p:pic>
      <p:sp>
        <p:nvSpPr>
          <p:cNvPr id="78" name="1 Rectángulo"/>
          <p:cNvSpPr/>
          <p:nvPr/>
        </p:nvSpPr>
        <p:spPr>
          <a:xfrm>
            <a:off x="826920" y="4167360"/>
            <a:ext cx="45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e solicita TAC cerebro y cavidades paranasales con y sin contraste que muestra abscesos epidurales multilobulados bifrontales y pansinusitis, no se describen otras alteraci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aciente evoluciona estable, afebril, sin déficit ni focalidad neurológica, sin signos meníngeos. Posterior a HC se administra 1a dosis de ATB: ceftriaxona (50mg/kg) + metronidazol (10mg/kg) + vancomicina (15mg/kg).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No se realiza evaluación neuroquirúrgica en 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58849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4300560" cy="55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aringit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6 Marcador de contenido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3649680" cy="2724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ctante de 8 meses, con coriza sensación febril ,tos seca rechazo parcial de alim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agnóstic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tiolog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RS, VEB, V herpes, metaneumovir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aring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4 Marcador de contenido" descr=""/>
          <p:cNvPicPr/>
          <p:nvPr/>
        </p:nvPicPr>
        <p:blipFill>
          <a:blip r:embed="rId1"/>
          <a:srcRect l="10670" t="4490" r="12008" b="0"/>
          <a:stretch/>
        </p:blipFill>
        <p:spPr>
          <a:xfrm>
            <a:off x="1227240" y="2417760"/>
            <a:ext cx="2455920" cy="3032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aciente de 2 años 3meses con fiebre 39,2 tos escasa coriza, adenopatía cervical anterior, ojo roj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agnóst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tiolo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étodos Diagnóst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aringit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4 Marcador de contenido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4383000" cy="3000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aciente de 8 años, con odinofagia , febril 39ªC sin tos sin cori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agnóstic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étodos d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to, 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mplicacion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upurativas, No supurativ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aring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4 Marcador de contenido" descr=""/>
          <p:cNvPicPr/>
          <p:nvPr/>
        </p:nvPicPr>
        <p:blipFill>
          <a:blip r:embed="rId1"/>
          <a:stretch/>
        </p:blipFill>
        <p:spPr>
          <a:xfrm>
            <a:off x="457200" y="2503440"/>
            <a:ext cx="4038480" cy="271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aciente de 12 años febril 38,5ºC, adenopatías cervicales doloros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l examen : imagen mas hepatoesplenomegal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étodos diagnóstic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4 Marcador de contenido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652560" cy="3698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Paciente de 4 años, hace tres dias cursa con coriza y escasa tos  ; hoy febril hasta 38,6 otalgia derech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iagnostico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tiologia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 pneumoniae 4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H influenzae no capsulado29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 piogenes 7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Moraxella Catarrhalis 4%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ratamien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&lt;6meses v/s &gt;2 añ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mpli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evenció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4 Marcador de contenido" descr=""/>
          <p:cNvPicPr/>
          <p:nvPr/>
        </p:nvPicPr>
        <p:blipFill>
          <a:blip r:embed="rId1"/>
          <a:stretch/>
        </p:blipFill>
        <p:spPr>
          <a:xfrm>
            <a:off x="652320" y="2016000"/>
            <a:ext cx="364824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inusit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Nicolas 7años 3m  sin antecedentes mórbidos.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Sin sinusitis previas, sin rinitis alérgica ni atopia, sin inmunodeficienci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mo antecedente el 5/12 consulta por rinorrea, fiebre y cefalea, se diagnostica sinusitis aguda y se indica tratamiento con amoxicilina por 10 días, evoluciona favorable, afebril, asintomático. Termina tratamiento el 15/1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Desde ayer inicia cefalea y fiebre 38,2°c, sin coriza ni tos. Además aumento de volumen frontal, sin antecedente de traumatismo. Sin déficit ni focalidad neurológica, sin convulsion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nsulta hoy a SUI, al ex físico conciente, vigil, cooperador, en Glasgow 15 y en región frontal aumento de volumen sin signos de inflamación, de consistencia firme, no doloroso. Otoscopia y rinoscopia norm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xs generales: GB 11130 (pmn 74%, linfo 19%) Hb 9,7 Plaq 377 VHS 72 PCR 49. Perfil bioquimico normal. PT 45% (se sugiere repetir) y TTPK 30. HC I y II tomados.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13:49:36Z</dcterms:created>
  <dc:creator>Estar Pediatria</dc:creator>
  <dc:description/>
  <dc:language>en-US</dc:language>
  <cp:lastModifiedBy>usuario</cp:lastModifiedBy>
  <dcterms:modified xsi:type="dcterms:W3CDTF">2017-04-25T13:48:17Z</dcterms:modified>
  <cp:revision>19</cp:revision>
  <dc:subject/>
  <dc:title>Patologia Respiratoria alta</dc:title>
</cp:coreProperties>
</file>