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2E6-C488-4D3C-B877-6CA09F85FE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65AD-8623-4668-9C3C-4C7AC423E4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frecuente la tolerancia de efectos adversos a dosis mantenidas de opioides (sedación, náusea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tolerancia al efecto analgésico llevaría a un aumento de dosis para mantener control del d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AF6-060D-4BA8-9D1E-0B69F0C8BD0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de aparecer en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7 días de uso de opio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86A-6181-410C-AD47-737D8C3DAA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ecanismo noradrenérgico en locus ceruleu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018E-1AF6-4448-9D9E-58AFA4FDB90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445-27FF-4533-8F06-88589D13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0A0-DB41-4C66-BE6D-C74D0AD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F96-9231-4F8C-9BA5-F55A03CC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E5A-F430-4521-AE27-D09E510A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22A-BA88-4C92-B1A1-1F44A658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AD4-97BB-46D4-9B5E-77826F5C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38B-2075-4500-90DE-E4CC3901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D57-E14E-4BE9-9386-C676499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DC-5CF5-4F13-986C-021BBD34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904-AA56-4423-8AB5-1DCAF175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94F-14DD-41B9-BA29-9E00229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670-432E-47BA-9DF3-AF08F21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9443-2713-4E27-A943-250A23296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560" y="436572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d0d0d"/>
                </a:solidFill>
                <a:latin typeface="Calibri"/>
              </a:rPr>
              <a:t>Unidad de Cuidados Continuos y Pali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d0d0d"/>
                </a:solidFill>
                <a:latin typeface="Calibri"/>
              </a:rPr>
              <a:t>HOSPITAL CLÍNICO 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d0d0d"/>
                </a:solidFill>
                <a:latin typeface="Calibri"/>
              </a:rPr>
              <a:t>Dra. Alejandra Palma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Dolor Oncológico II</a:t>
            </a: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http://albaciudad.org/wp/wp-content/uploads/2014/09/url.gif"/>
          <p:cNvPicPr/>
          <p:nvPr/>
        </p:nvPicPr>
        <p:blipFill>
          <a:blip r:embed="rId1"/>
          <a:stretch/>
        </p:blipFill>
        <p:spPr>
          <a:xfrm>
            <a:off x="250920" y="333360"/>
            <a:ext cx="1836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1268280"/>
            <a:ext cx="8445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“creamos adictos” tratando el dolor a pacientes oncológ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í debemos pesquisar a aquellos pacientes con antecedentes o riesgo de adicción para adecuar su tratamiento (apoyo de salud ment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4 CuadroTexto"/>
          <p:cNvSpPr/>
          <p:nvPr/>
        </p:nvSpPr>
        <p:spPr>
          <a:xfrm>
            <a:off x="3443400" y="5732640"/>
            <a:ext cx="47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inozzi S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dictio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013 Apr;108(4):688-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riterios DSM V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Mayo 201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iminación términos de "abuso" y "dependencia” del DSM I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érmino actual: Trastornos por Consumo de Sustancias (Opioides entre much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agnóstico: ≥ 2/11 criterios totales, x ≥ 12 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SM V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stornos por Consumo de Sustancias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Opioides entre mucha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corpora nivel de severidad en relación al número de criterios diagnóstic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eve: 2-3 criterios 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(“Abuso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derado: 4-5 criteri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vero: 6 o más criterio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( “Adicción” “Fármaco-dependencia” “Dependencia psicológica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agnóstico de Trastorno por Consumo de Opioid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≥ 2/11 criterios totales, x ≥ 12 mes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     Consumo en &gt; cantidades y/o x &gt; tiempo que el previ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    Deseo persistente y/o fracaso en el intento de disminuir el consu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sivo tiempo invertido en el consu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av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 consumo afecta obligaciones importantes (trabajo, casa, et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umo apesar de repercusiones negativas sociales y/o interpersona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spensión de actividades sociales, laborales o recreacionales a causa del consu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o recurrente en situaciones de riesgo fís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o persistente apesar de problemas físicos y/o psicológicos recurrentes derivados del cosnu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lerancia 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d. Abstinencia 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* Presentar Criterios 10 y 11 durante consumo x indicación médica con  supervisión adecuada constituye una excepción y no configuran el diagnóstico de Trastorno por Consu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CuadroTexto"/>
          <p:cNvSpPr/>
          <p:nvPr/>
        </p:nvSpPr>
        <p:spPr>
          <a:xfrm>
            <a:off x="620280" y="5805360"/>
            <a:ext cx="78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do de: Diagnostic and Statistical Manual of Mental Disord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Edition (DSM-5), American Psychiatric Association, Arlington, VA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seudo-adi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Resultado de imagen para alaraco"/>
          <p:cNvPicPr/>
          <p:nvPr/>
        </p:nvPicPr>
        <p:blipFill>
          <a:blip r:embed="rId1"/>
          <a:stretch/>
        </p:blipFill>
        <p:spPr>
          <a:xfrm>
            <a:off x="1332000" y="1557360"/>
            <a:ext cx="6480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seudo-adi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ducta de búsqueda intensa de alivio del dolor a través de la administración de opioides. La conducta desaparece al lograr alivio sintomático y no se cumplen los criterios de adicción descr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934160" y="5877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ASP UPDATED REVIEW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71280" y="17002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dejar de tratar el dolor de nuestros pacientes por miedo a las adiccio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fectos adversos de los opi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Resultado de imagen para WARNING"/>
          <p:cNvPicPr/>
          <p:nvPr/>
        </p:nvPicPr>
        <p:blipFill>
          <a:blip r:embed="rId1"/>
          <a:stretch/>
        </p:blipFill>
        <p:spPr>
          <a:xfrm>
            <a:off x="2771640" y="2565360"/>
            <a:ext cx="31417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fectos adversos de Opi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1200" y="15573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a frecuen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a dispersión: confusión entre efectos adversos y síntomas propios de  la enferme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lación con mayores 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rfil similar entre distintos opio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mpacto en calidad de v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terminantes en adherencia a analgesia efe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Resultado de imagen para opioid adverse effects"/>
          <p:cNvPicPr/>
          <p:nvPr/>
        </p:nvPicPr>
        <p:blipFill>
          <a:blip r:embed="rId1"/>
          <a:srcRect l="0" t="8686" r="0" b="0"/>
          <a:stretch/>
        </p:blipFill>
        <p:spPr>
          <a:xfrm>
            <a:off x="1547640" y="907920"/>
            <a:ext cx="5977080" cy="57675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1979640" y="333360"/>
            <a:ext cx="5400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FECTOS SECUNDARIOS DE OPIO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 conceptos aplicados al uso de opioides, incluyendo: adicción, pseudo-adicción, tolerancia y dependencia. Explica su relevancia en el paciente paliati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scribe efectos adversos frecuentes de opioides y propone estrategias para su manej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xplica el concepto de rotación de opioides, describe sus indicaciones y pasos establecidos para realizar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eurotox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adversos secundarios a fármacos (opioides) con acción a nivel de SN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mnol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ucin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lir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vul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Perpetua"/>
              </a:rPr>
              <a:t>	</a:t>
            </a:r>
            <a:r>
              <a:rPr b="1" lang="es-ES" sz="2400" spc="-1" strike="noStrike">
                <a:solidFill>
                  <a:srgbClr val="1f497d"/>
                </a:solidFill>
                <a:latin typeface="Perpetua"/>
              </a:rPr>
              <a:t>	</a:t>
            </a:r>
            <a:r>
              <a:rPr b="1" lang="es-ES" sz="2400" spc="-1" strike="noStrike">
                <a:solidFill>
                  <a:srgbClr val="1f497d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jo de efectos adversos de Opio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mnolencia: compromiso le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xplicar tolerancia (desaparecerá pronto, 2-3 día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x diferencial en caso de compromiso severo y/o prolon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ctivantes: uso transitorio, AM tempr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tilfenidato 5 mg (≤ 60 mg/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odafinilo 100 mg (≤ 600 mg/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jo de efectos adversos de Opio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li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x Diferencial de factores reversibles asoci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ntipsicóticos horarios, 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aldol 0.5 – 2 mg c/6 h vo,sc,ev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NO i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speridona 0.25-0.5 mg c/12 h 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lanzapina 2.5-5 mg c/8 h 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OTACIÓN de OPIO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jo de efectos adversos de Opio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stip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didas generales: alimentación, hidratación, actividad fís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so precoz de laxantes: lactulosa, PEG, picosulfato, bisacodilo, etc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quiné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* Siempre tener en la mente obstrucción intestinal e hipercalcemia en el contexto oncológ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jo de efectos adversos de Opio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áus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x diferencial: constipación, QT, RDT, SNC, Ca, O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xplicar tolerancia (desaparecerá pronto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ntiemétic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 Anti-D: Metoclopramida, Haldol, Olanzap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 Central: Torec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. Setrones: Ondansetr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. Corticoides: Dexameta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¿Y si la Morfina le provoca una depresión respirator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Resultado de imagen para amenaza"/>
          <p:cNvPicPr/>
          <p:nvPr/>
        </p:nvPicPr>
        <p:blipFill>
          <a:blip r:embed="rId1"/>
          <a:stretch/>
        </p:blipFill>
        <p:spPr>
          <a:xfrm>
            <a:off x="539640" y="1557360"/>
            <a:ext cx="8001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jo de efectos adversos de Opio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presión respirato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SPECHA diagnóstic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mpromiso Conciencia + Frecuencia Respiratoria &lt;12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Resultado de imagen para naloxona Chile"/>
          <p:cNvPicPr/>
          <p:nvPr/>
        </p:nvPicPr>
        <p:blipFill>
          <a:blip r:embed="rId1"/>
          <a:stretch/>
        </p:blipFill>
        <p:spPr>
          <a:xfrm>
            <a:off x="971640" y="3500280"/>
            <a:ext cx="3389400" cy="2829240"/>
          </a:xfrm>
          <a:prstGeom prst="rect">
            <a:avLst/>
          </a:prstGeom>
          <a:ln w="0">
            <a:noFill/>
          </a:ln>
        </p:spPr>
      </p:pic>
      <p:sp>
        <p:nvSpPr>
          <p:cNvPr id="116" name="4 CuadroTexto"/>
          <p:cNvSpPr/>
          <p:nvPr/>
        </p:nvSpPr>
        <p:spPr>
          <a:xfrm>
            <a:off x="4572000" y="3860640"/>
            <a:ext cx="4262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luir 1 ampolla de 0.4 mg/ml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 ml de SF = Solución 1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r 1-2 ml (0.04-0.08 mg) c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-3 min hasta lograr respuesta (F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Opioides &amp; Dolor Crón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uscar la DOSIS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3098520" cy="2984760"/>
          </a:xfrm>
          <a:prstGeom prst="rect">
            <a:avLst/>
          </a:prstGeom>
          <a:ln w="0">
            <a:noFill/>
          </a:ln>
        </p:spPr>
      </p:pic>
      <p:sp>
        <p:nvSpPr>
          <p:cNvPr id="120" name="4 Rectángulo"/>
          <p:cNvSpPr/>
          <p:nvPr/>
        </p:nvSpPr>
        <p:spPr>
          <a:xfrm>
            <a:off x="2700360" y="3860640"/>
            <a:ext cx="1873080" cy="936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2f2f2"/>
                </a:solidFill>
                <a:latin typeface="Calibri"/>
              </a:rPr>
              <a:t>Control satisfactorio del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 Rectángulo"/>
          <p:cNvSpPr/>
          <p:nvPr/>
        </p:nvSpPr>
        <p:spPr>
          <a:xfrm>
            <a:off x="5076720" y="4221000"/>
            <a:ext cx="1798920" cy="863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2f2f2"/>
                </a:solidFill>
                <a:latin typeface="Calibri"/>
              </a:rPr>
              <a:t>Efectos adversos tol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anejo de efectos adversos de Opioides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RECUENTES, hay que manejarlos precozmen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63640" y="2420640"/>
            <a:ext cx="5329440" cy="33116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ctr">
            <a:normAutofit fontScale="96000"/>
          </a:bodyPr>
          <a:p>
            <a:pPr marL="493560" indent="-49356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minución de 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jo sintomático especí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otación de opio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otación de opi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mbio de un opioide por otro para lograr mejor analgesia y/o menos efectos adver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octor, si me da Morfina, ¿voy a  hacerme adicto? 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onsiderar cambiar de opioide cuand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secundarios impiden el ajuste adecuado de la dosis analgésic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secundarios intolerables y/o severos (neurotoxicid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lor persistente a pesar de altas d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ficultad práctica para dosificar o administrar una formul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s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CuadroTexto"/>
          <p:cNvSpPr/>
          <p:nvPr/>
        </p:nvSpPr>
        <p:spPr>
          <a:xfrm>
            <a:off x="5167440" y="623736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JCO 2014,32(16):1662-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os de una Rotación de Opioid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sos Rotación de opioi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lcular dosis Total diaria del opioide act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leccionar nuevo opioide a utiliz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lcular dosis equivalente de nuevo opioide según Tabla de conversión equianalgés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ducir la dosis calculada del nuevo opioide en 25-5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dicar nuevo opioide, dividiendo la dosis Total final calculada  en dosis horarias fij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lcular dosis de rescate para nuevo esquema de opioide (10%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nitorización y titulación de d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CuadroTexto"/>
          <p:cNvSpPr/>
          <p:nvPr/>
        </p:nvSpPr>
        <p:spPr>
          <a:xfrm>
            <a:off x="5312160" y="630864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JCO 2014,32(16):1662-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quivalencia aproximada de opioi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628640"/>
          <a:ext cx="4114800" cy="3775320"/>
        </p:xfrm>
        <a:graphic>
          <a:graphicData uri="http://schemas.openxmlformats.org/drawingml/2006/table">
            <a:tbl>
              <a:tblPr/>
              <a:tblGrid>
                <a:gridCol w="2521080"/>
                <a:gridCol w="1593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Morfina Oral/24 hrs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fina ev/im/sc/24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ntanyl 25mcg/hr (Parche Duroges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prenorfina 35 mcg/hr (Parche Transt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xicodona Oral/24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entadol Oral/24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adol Oral/24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ína Oral/24 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5" name="3 CuadroTexto"/>
          <p:cNvSpPr/>
          <p:nvPr/>
        </p:nvSpPr>
        <p:spPr>
          <a:xfrm>
            <a:off x="468360" y="6021360"/>
            <a:ext cx="91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aptado de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rtenoy JCO 2014,32(16):1662-1670 + EAPC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Lancet Oncol 2012,13:e58-68 + NCCN guidelines + Soc Española de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788000" y="2205000"/>
          <a:ext cx="4114800" cy="2494080"/>
        </p:xfrm>
        <a:graphic>
          <a:graphicData uri="http://schemas.openxmlformats.org/drawingml/2006/table">
            <a:tbl>
              <a:tblPr/>
              <a:tblGrid>
                <a:gridCol w="2520720"/>
                <a:gridCol w="159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roporción en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nver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fina vo : ev/sc/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fina vo : Oxicodona 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 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fina vo : Tapentadol 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fina vo : Tramadol 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fina vo : Codeína 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Opioides &amp; Dolor Crón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uscar la DOSIS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3098520" cy="2984760"/>
          </a:xfrm>
          <a:prstGeom prst="rect">
            <a:avLst/>
          </a:prstGeom>
          <a:ln w="0">
            <a:noFill/>
          </a:ln>
        </p:spPr>
      </p:pic>
      <p:sp>
        <p:nvSpPr>
          <p:cNvPr id="140" name="4 Rectángulo"/>
          <p:cNvSpPr/>
          <p:nvPr/>
        </p:nvSpPr>
        <p:spPr>
          <a:xfrm>
            <a:off x="2700360" y="3860640"/>
            <a:ext cx="1873080" cy="936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2f2f2"/>
                </a:solidFill>
                <a:latin typeface="Calibri"/>
              </a:rPr>
              <a:t>Control satisfactorio del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5076720" y="4221000"/>
            <a:ext cx="1798920" cy="863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2f2f2"/>
                </a:solidFill>
                <a:latin typeface="Calibri"/>
              </a:rPr>
              <a:t>Efectos adversos tol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alibri"/>
              </a:rPr>
              <a:t>GRACIAS x SU ATENCIÓ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Se aplican al uso de opioi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052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icc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seudo-adicc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leranc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pendenc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lera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70040"/>
            <a:ext cx="822960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de adaptación en el cual la exposición a una droga induce cambios que producen disminución de uno o más de sus efectos en el tiemp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14176" t="52064" r="39522" b="39520"/>
          <a:stretch/>
        </p:blipFill>
        <p:spPr>
          <a:xfrm>
            <a:off x="755640" y="5157720"/>
            <a:ext cx="7826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pendencia fís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ado de adaptación fisiológica secundario al uso mantenido de una droga, que se manifiesta por la aparición de u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índrome de abstinenc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pecíf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l suspender, reducir dosis y/o administrar un antagonista de la droga en cuest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4176" t="52064" r="39522" b="39520"/>
          <a:stretch/>
        </p:blipFill>
        <p:spPr>
          <a:xfrm>
            <a:off x="611280" y="5157720"/>
            <a:ext cx="7826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d. de Abstinencia de opi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sforia, irritabilidad, insomn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gitación psicomotora, piloe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grimeo, rinor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algias, artralg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áuseas, vómitos, cólicos abdominales, diar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icio variable: ≥ 6-12 hrs luego de suspensión opioides de liberación inmediata, 24-48 hrs luego de suspensión de  Metad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uración: días a seman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306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dición compleja que se manifiesta por el uso compulsivo de sustancias a pesar de sus consecuencias deleté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di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Resultado de imagen para American Psychiatric Association."/>
          <p:cNvPicPr/>
          <p:nvPr/>
        </p:nvPicPr>
        <p:blipFill>
          <a:blip r:embed="rId1"/>
          <a:stretch/>
        </p:blipFill>
        <p:spPr>
          <a:xfrm>
            <a:off x="250920" y="11592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icción: Modelo Biopsico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5"/>
          <p:cNvSpPr/>
          <p:nvPr/>
        </p:nvSpPr>
        <p:spPr>
          <a:xfrm>
            <a:off x="3708360" y="2997360"/>
            <a:ext cx="331164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3059280" y="4076640"/>
            <a:ext cx="331128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059280" y="1773360"/>
            <a:ext cx="331128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2124000" y="2997360"/>
            <a:ext cx="331164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926520" y="3645000"/>
            <a:ext cx="1310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511960" y="35002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cio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466720" y="35211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ic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855240" y="21337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23240" y="4797360"/>
            <a:ext cx="26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mo de susta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tificantes/ Condu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8:24:33Z</dcterms:created>
  <dc:creator>Urzula Hinojosa Jara</dc:creator>
  <dc:description/>
  <dc:language>en-US</dc:language>
  <cp:lastModifiedBy>cscott</cp:lastModifiedBy>
  <dcterms:modified xsi:type="dcterms:W3CDTF">2019-08-22T15:32:37Z</dcterms:modified>
  <cp:revision>541</cp:revision>
  <dc:subject/>
  <dc:title>ACTIVIDAD ASISTENCIAL EQUIPO MEDICINA PALIATIVA HOSPITALARIA</dc:title>
</cp:coreProperties>
</file>