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9.jpeg" ContentType="image/jpeg"/>
  <Override PartName="/ppt/media/image26.png" ContentType="image/png"/>
  <Override PartName="/ppt/media/image1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20.jpeg" ContentType="image/jpeg"/>
  <Override PartName="/ppt/media/image17.wmf" ContentType="image/x-wmf"/>
  <Override PartName="/ppt/media/image19.wmf" ContentType="image/x-wmf"/>
  <Override PartName="/ppt/media/image18.wmf" ContentType="image/x-wmf"/>
  <Override PartName="/ppt/media/image16.wmf" ContentType="image/x-wmf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05C1E-E0F4-4BB7-AB22-4475B101D182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2 tipos de receptor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)De umbral al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b)De codificacion de intensid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2 tipos de receptor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)De umbral al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b)De codificacion de intensid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7E745-11BF-41D7-B552-47C6DBEAFE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7039-0028-490A-8E5F-CB902EF93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7A37-C053-4265-A0B9-8AAF4A759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A29D-D121-404F-B981-F33E8EC34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C4C0-2E75-4131-AD64-49D43D265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3141-A6B8-424B-ADE1-2DA1AB4C1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7F03-26EE-4462-944E-28AA96D88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90E5-64F7-4AB0-A104-F0A725E6C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9989-6CD4-42F5-A02F-CA7505CA7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D512-18A2-4877-861D-953548AB5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BB78-13D3-4E57-A8C2-1B4E2C918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5015-CB98-483F-9B7D-F893F4F3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D6B5-F9AF-4C9C-9BD8-B1CF7FCC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5585F-D46C-4B2A-AD72-60EDF836B246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s://www.ncbi.nlm.nih.gov/pubmed/?term=Wiffen%20PJ[Author]&amp;cauthor=true&amp;cauthor_uid=28700092" TargetMode="External"/><Relationship Id="rId2" Type="http://schemas.openxmlformats.org/officeDocument/2006/relationships/hyperlink" Target="https://www.ncbi.nlm.nih.gov/pubmed/28700092" TargetMode="External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s://www.ncbi.nlm.nih.gov/pubmed?term=%22Palliative+medicine%22[Jour]+AND+2016[pdat]+AND+dipirone&amp;TransSchema=title&amp;cmd=detailssearch" TargetMode="Externa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628640"/>
            <a:ext cx="83487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Dolor Oncológico I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32000" y="3645000"/>
            <a:ext cx="6904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Dra. Alejandra Palma B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Unidad de Cuidados Continuos y Paliativ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Hospital Clínico Universidad de Ch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151128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384120" y="1141560"/>
            <a:ext cx="4896000" cy="52862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3"/>
          <p:cNvSpPr/>
          <p:nvPr/>
        </p:nvSpPr>
        <p:spPr>
          <a:xfrm>
            <a:off x="1714680" y="357120"/>
            <a:ext cx="60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1f497d"/>
                </a:solidFill>
                <a:latin typeface="Verdana"/>
              </a:rPr>
              <a:t>Nocicepción: Fisiolog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5572080" y="1928880"/>
            <a:ext cx="2928960" cy="4483080"/>
          </a:xfrm>
          <a:prstGeom prst="rect">
            <a:avLst/>
          </a:prstGeom>
          <a:solidFill>
            <a:srgbClr val="ffff66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 Unicode MS"/>
              </a:rPr>
              <a:t>NOCICEPT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 Unicode MS"/>
              </a:rPr>
              <a:t>Terminales nerviosas lib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 Unicode MS"/>
              </a:rPr>
              <a:t>que responden a estímulos mecánicos, térmicos y quím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 Unicode MS"/>
              </a:rPr>
              <a:t>Conducción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 Unicode MS"/>
              </a:rPr>
              <a:t>fibras C y A</a:t>
            </a:r>
            <a:r>
              <a:rPr b="1" lang="fr-BE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fr-B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1 Elipse"/>
          <p:cNvSpPr/>
          <p:nvPr/>
        </p:nvSpPr>
        <p:spPr>
          <a:xfrm>
            <a:off x="2268360" y="4846680"/>
            <a:ext cx="67968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5 Elipse"/>
          <p:cNvSpPr/>
          <p:nvPr/>
        </p:nvSpPr>
        <p:spPr>
          <a:xfrm>
            <a:off x="3348000" y="5229360"/>
            <a:ext cx="681120" cy="576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6 Elipse"/>
          <p:cNvSpPr/>
          <p:nvPr/>
        </p:nvSpPr>
        <p:spPr>
          <a:xfrm>
            <a:off x="2533680" y="3957480"/>
            <a:ext cx="68112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9680" y="2857680"/>
            <a:ext cx="7405560" cy="96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fr-BE" sz="3200" spc="-1" strike="noStrike">
                <a:solidFill>
                  <a:srgbClr val="000000"/>
                </a:solidFill>
                <a:latin typeface="Verdana"/>
              </a:rPr>
              <a:t>Nocicepción: </a:t>
            </a:r>
            <a:br>
              <a:rPr sz="3200"/>
            </a:br>
            <a:r>
              <a:rPr b="1" lang="fr-BE" sz="3200" spc="-1" strike="noStrike">
                <a:solidFill>
                  <a:srgbClr val="000000"/>
                </a:solidFill>
                <a:latin typeface="Verdana"/>
              </a:rPr>
              <a:t>Fisiología</a:t>
            </a:r>
            <a:br>
              <a:rPr sz="2400"/>
            </a:br>
            <a:br>
              <a:rPr sz="3200"/>
            </a:br>
            <a:r>
              <a:rPr b="1" lang="fr-BE" sz="3200" spc="-1" strike="noStrike">
                <a:solidFill>
                  <a:srgbClr val="000000"/>
                </a:solidFill>
                <a:latin typeface="Franklin Gothic Book"/>
              </a:rPr>
              <a:t>Vías de conducción </a:t>
            </a:r>
            <a:br>
              <a:rPr sz="3200"/>
            </a:br>
            <a:r>
              <a:rPr b="1" lang="fr-BE" sz="3200" spc="-1" strike="noStrike">
                <a:solidFill>
                  <a:srgbClr val="000000"/>
                </a:solidFill>
                <a:latin typeface="Franklin Gothic Book"/>
              </a:rPr>
              <a:t>desde nociceptores </a:t>
            </a:r>
            <a:br>
              <a:rPr sz="3200"/>
            </a:br>
            <a:r>
              <a:rPr b="1" lang="fr-BE" sz="3200" spc="-1" strike="noStrike">
                <a:solidFill>
                  <a:srgbClr val="000000"/>
                </a:solidFill>
                <a:latin typeface="Franklin Gothic Book"/>
              </a:rPr>
              <a:t>hasta SNC.</a:t>
            </a:r>
            <a:br>
              <a:rPr sz="3200"/>
            </a:br>
            <a:br>
              <a:rPr sz="3200"/>
            </a:br>
            <a:r>
              <a:rPr b="1" lang="fr-BE" sz="3200" spc="-1" strike="noStrike">
                <a:solidFill>
                  <a:srgbClr val="000000"/>
                </a:solidFill>
                <a:latin typeface="Franklin Gothic Book"/>
              </a:rPr>
              <a:t>Múltiples neurotransmi-</a:t>
            </a:r>
            <a:br>
              <a:rPr sz="3200"/>
            </a:br>
            <a:r>
              <a:rPr b="1" lang="fr-BE" sz="3200" spc="-1" strike="noStrike">
                <a:solidFill>
                  <a:srgbClr val="000000"/>
                </a:solidFill>
                <a:latin typeface="Franklin Gothic Book"/>
              </a:rPr>
              <a:t>sores involucrados</a:t>
            </a:r>
            <a:br>
              <a:rPr sz="3200"/>
            </a:br>
            <a:r>
              <a:rPr b="1" lang="fr-BE" sz="3200" spc="-1" strike="noStrike">
                <a:solidFill>
                  <a:srgbClr val="000000"/>
                </a:solidFill>
                <a:latin typeface="Franklin Gothic Book"/>
              </a:rPr>
              <a:t>(Excitatorios: Glutamato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3" descr="The Neural Pain Pathway"/>
          <p:cNvPicPr/>
          <p:nvPr/>
        </p:nvPicPr>
        <p:blipFill>
          <a:blip r:embed="rId1"/>
          <a:srcRect l="41985" t="1112" r="1197" b="391"/>
          <a:stretch/>
        </p:blipFill>
        <p:spPr>
          <a:xfrm>
            <a:off x="5435640" y="260280"/>
            <a:ext cx="331308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28800" y="356760"/>
            <a:ext cx="7772400" cy="58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Calibri"/>
              </a:rPr>
              <a:t>Vías Inhibitorias Descendent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2143080" y="1071720"/>
            <a:ext cx="4500720" cy="5449680"/>
          </a:xfrm>
          <a:prstGeom prst="rect">
            <a:avLst/>
          </a:prstGeom>
          <a:ln w="0">
            <a:noFill/>
          </a:ln>
        </p:spPr>
      </p:pic>
      <p:sp>
        <p:nvSpPr>
          <p:cNvPr id="110" name="5 Elipse"/>
          <p:cNvSpPr/>
          <p:nvPr/>
        </p:nvSpPr>
        <p:spPr>
          <a:xfrm>
            <a:off x="4786200" y="1500120"/>
            <a:ext cx="1857600" cy="928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6 Elipse"/>
          <p:cNvSpPr/>
          <p:nvPr/>
        </p:nvSpPr>
        <p:spPr>
          <a:xfrm>
            <a:off x="4929120" y="3071880"/>
            <a:ext cx="1357560" cy="5713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7 Elipse"/>
          <p:cNvSpPr/>
          <p:nvPr/>
        </p:nvSpPr>
        <p:spPr>
          <a:xfrm>
            <a:off x="3714840" y="5286240"/>
            <a:ext cx="785880" cy="357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8 CuadroTexto"/>
          <p:cNvSpPr/>
          <p:nvPr/>
        </p:nvSpPr>
        <p:spPr>
          <a:xfrm>
            <a:off x="5786280" y="4714920"/>
            <a:ext cx="2786400" cy="1313640"/>
          </a:xfrm>
          <a:prstGeom prst="rect">
            <a:avLst/>
          </a:prstGeom>
          <a:noFill/>
          <a:ln w="9360">
            <a:solidFill>
              <a:srgbClr val="31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Neurotransmisor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Seroton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Noradrena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Encefali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9 CuadroTexto"/>
          <p:cNvSpPr/>
          <p:nvPr/>
        </p:nvSpPr>
        <p:spPr>
          <a:xfrm>
            <a:off x="2340000" y="4292640"/>
            <a:ext cx="1511280" cy="459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orsolateral funicu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4667040" y="333360"/>
            <a:ext cx="375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DOLOR X Cán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Fisiopatolog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3"/>
          <p:cNvSpPr/>
          <p:nvPr/>
        </p:nvSpPr>
        <p:spPr>
          <a:xfrm>
            <a:off x="1066680" y="838080"/>
            <a:ext cx="2540160" cy="1500480"/>
          </a:xfrm>
          <a:custGeom>
            <a:avLst/>
            <a:gdLst>
              <a:gd name="textAreaLeft" fmla="*/ 0 w 2540160"/>
              <a:gd name="textAreaRight" fmla="*/ 2540160 w 2540160"/>
              <a:gd name="textAreaTop" fmla="*/ 0 h 1500480"/>
              <a:gd name="textAreaBottom" fmla="*/ 1500840 h 1500480"/>
            </a:gdLst>
            <a:ahLst/>
            <a:rect l="textAreaLeft" t="textAreaTop" r="textAreaRight" b="textAreaBottom"/>
            <a:pathLst>
              <a:path w="1600" h="945">
                <a:moveTo>
                  <a:pt x="1489" y="356"/>
                </a:moveTo>
                <a:cubicBezTo>
                  <a:pt x="1475" y="313"/>
                  <a:pt x="1466" y="303"/>
                  <a:pt x="1422" y="289"/>
                </a:cubicBezTo>
                <a:cubicBezTo>
                  <a:pt x="1393" y="260"/>
                  <a:pt x="1345" y="198"/>
                  <a:pt x="1300" y="178"/>
                </a:cubicBezTo>
                <a:cubicBezTo>
                  <a:pt x="1223" y="144"/>
                  <a:pt x="1245" y="164"/>
                  <a:pt x="1167" y="145"/>
                </a:cubicBezTo>
                <a:cubicBezTo>
                  <a:pt x="1105" y="130"/>
                  <a:pt x="1063" y="110"/>
                  <a:pt x="1000" y="100"/>
                </a:cubicBezTo>
                <a:cubicBezTo>
                  <a:pt x="902" y="34"/>
                  <a:pt x="782" y="18"/>
                  <a:pt x="667" y="0"/>
                </a:cubicBezTo>
                <a:cubicBezTo>
                  <a:pt x="552" y="4"/>
                  <a:pt x="437" y="2"/>
                  <a:pt x="322" y="12"/>
                </a:cubicBezTo>
                <a:cubicBezTo>
                  <a:pt x="246" y="19"/>
                  <a:pt x="169" y="128"/>
                  <a:pt x="111" y="167"/>
                </a:cubicBezTo>
                <a:cubicBezTo>
                  <a:pt x="89" y="201"/>
                  <a:pt x="78" y="234"/>
                  <a:pt x="55" y="267"/>
                </a:cubicBezTo>
                <a:cubicBezTo>
                  <a:pt x="23" y="428"/>
                  <a:pt x="68" y="229"/>
                  <a:pt x="22" y="367"/>
                </a:cubicBezTo>
                <a:cubicBezTo>
                  <a:pt x="12" y="396"/>
                  <a:pt x="0" y="456"/>
                  <a:pt x="0" y="456"/>
                </a:cubicBezTo>
                <a:cubicBezTo>
                  <a:pt x="4" y="508"/>
                  <a:pt x="3" y="560"/>
                  <a:pt x="11" y="611"/>
                </a:cubicBezTo>
                <a:cubicBezTo>
                  <a:pt x="21" y="674"/>
                  <a:pt x="146" y="753"/>
                  <a:pt x="200" y="789"/>
                </a:cubicBezTo>
                <a:cubicBezTo>
                  <a:pt x="241" y="845"/>
                  <a:pt x="286" y="906"/>
                  <a:pt x="344" y="945"/>
                </a:cubicBezTo>
                <a:cubicBezTo>
                  <a:pt x="426" y="941"/>
                  <a:pt x="508" y="940"/>
                  <a:pt x="589" y="934"/>
                </a:cubicBezTo>
                <a:cubicBezTo>
                  <a:pt x="621" y="931"/>
                  <a:pt x="667" y="878"/>
                  <a:pt x="667" y="878"/>
                </a:cubicBezTo>
                <a:cubicBezTo>
                  <a:pt x="686" y="820"/>
                  <a:pt x="666" y="866"/>
                  <a:pt x="711" y="811"/>
                </a:cubicBezTo>
                <a:cubicBezTo>
                  <a:pt x="791" y="714"/>
                  <a:pt x="795" y="755"/>
                  <a:pt x="978" y="745"/>
                </a:cubicBezTo>
                <a:cubicBezTo>
                  <a:pt x="1024" y="737"/>
                  <a:pt x="1068" y="731"/>
                  <a:pt x="1111" y="711"/>
                </a:cubicBezTo>
                <a:cubicBezTo>
                  <a:pt x="1156" y="690"/>
                  <a:pt x="1197" y="660"/>
                  <a:pt x="1244" y="645"/>
                </a:cubicBezTo>
                <a:cubicBezTo>
                  <a:pt x="1334" y="616"/>
                  <a:pt x="1387" y="608"/>
                  <a:pt x="1489" y="600"/>
                </a:cubicBezTo>
                <a:cubicBezTo>
                  <a:pt x="1559" y="582"/>
                  <a:pt x="1554" y="559"/>
                  <a:pt x="1600" y="511"/>
                </a:cubicBezTo>
                <a:cubicBezTo>
                  <a:pt x="1596" y="482"/>
                  <a:pt x="1599" y="451"/>
                  <a:pt x="1589" y="423"/>
                </a:cubicBezTo>
                <a:cubicBezTo>
                  <a:pt x="1576" y="387"/>
                  <a:pt x="1521" y="367"/>
                  <a:pt x="1489" y="356"/>
                </a:cubicBezTo>
                <a:close/>
              </a:path>
            </a:pathLst>
          </a:custGeom>
          <a:solidFill>
            <a:srgbClr val="6600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4"/>
          <p:cNvSpPr/>
          <p:nvPr/>
        </p:nvSpPr>
        <p:spPr>
          <a:xfrm>
            <a:off x="1763640" y="663480"/>
            <a:ext cx="1924200" cy="1028880"/>
          </a:xfrm>
          <a:custGeom>
            <a:avLst/>
            <a:gdLst>
              <a:gd name="textAreaLeft" fmla="*/ 0 w 1924200"/>
              <a:gd name="textAreaRight" fmla="*/ 1924560 w 1924200"/>
              <a:gd name="textAreaTop" fmla="*/ 0 h 1028880"/>
              <a:gd name="textAreaBottom" fmla="*/ 1029240 h 1028880"/>
            </a:gdLst>
            <a:ahLst/>
            <a:rect l="textAreaLeft" t="textAreaTop" r="textAreaRight" b="textAreaBottom"/>
            <a:pathLst>
              <a:path w="1212" h="648">
                <a:moveTo>
                  <a:pt x="0" y="126"/>
                </a:moveTo>
                <a:cubicBezTo>
                  <a:pt x="25" y="0"/>
                  <a:pt x="62" y="47"/>
                  <a:pt x="223" y="38"/>
                </a:cubicBezTo>
                <a:cubicBezTo>
                  <a:pt x="344" y="5"/>
                  <a:pt x="302" y="12"/>
                  <a:pt x="534" y="38"/>
                </a:cubicBezTo>
                <a:cubicBezTo>
                  <a:pt x="547" y="39"/>
                  <a:pt x="555" y="54"/>
                  <a:pt x="567" y="60"/>
                </a:cubicBezTo>
                <a:cubicBezTo>
                  <a:pt x="596" y="76"/>
                  <a:pt x="626" y="89"/>
                  <a:pt x="656" y="104"/>
                </a:cubicBezTo>
                <a:cubicBezTo>
                  <a:pt x="683" y="118"/>
                  <a:pt x="716" y="117"/>
                  <a:pt x="745" y="126"/>
                </a:cubicBezTo>
                <a:cubicBezTo>
                  <a:pt x="806" y="190"/>
                  <a:pt x="920" y="178"/>
                  <a:pt x="989" y="237"/>
                </a:cubicBezTo>
                <a:cubicBezTo>
                  <a:pt x="1078" y="313"/>
                  <a:pt x="990" y="253"/>
                  <a:pt x="1078" y="315"/>
                </a:cubicBezTo>
                <a:cubicBezTo>
                  <a:pt x="1100" y="330"/>
                  <a:pt x="1145" y="360"/>
                  <a:pt x="1145" y="360"/>
                </a:cubicBezTo>
                <a:cubicBezTo>
                  <a:pt x="1149" y="371"/>
                  <a:pt x="1149" y="384"/>
                  <a:pt x="1156" y="393"/>
                </a:cubicBezTo>
                <a:cubicBezTo>
                  <a:pt x="1164" y="403"/>
                  <a:pt x="1185" y="403"/>
                  <a:pt x="1189" y="415"/>
                </a:cubicBezTo>
                <a:cubicBezTo>
                  <a:pt x="1204" y="458"/>
                  <a:pt x="1212" y="549"/>
                  <a:pt x="1212" y="549"/>
                </a:cubicBezTo>
                <a:cubicBezTo>
                  <a:pt x="1207" y="570"/>
                  <a:pt x="1210" y="648"/>
                  <a:pt x="1156" y="593"/>
                </a:cubicBezTo>
                <a:cubicBezTo>
                  <a:pt x="1142" y="579"/>
                  <a:pt x="1144" y="555"/>
                  <a:pt x="1134" y="537"/>
                </a:cubicBezTo>
                <a:cubicBezTo>
                  <a:pt x="1095" y="466"/>
                  <a:pt x="1109" y="478"/>
                  <a:pt x="1056" y="460"/>
                </a:cubicBezTo>
                <a:cubicBezTo>
                  <a:pt x="1002" y="422"/>
                  <a:pt x="958" y="373"/>
                  <a:pt x="911" y="326"/>
                </a:cubicBezTo>
                <a:cubicBezTo>
                  <a:pt x="880" y="295"/>
                  <a:pt x="816" y="292"/>
                  <a:pt x="778" y="282"/>
                </a:cubicBezTo>
                <a:cubicBezTo>
                  <a:pt x="658" y="250"/>
                  <a:pt x="546" y="200"/>
                  <a:pt x="423" y="182"/>
                </a:cubicBezTo>
                <a:cubicBezTo>
                  <a:pt x="388" y="171"/>
                  <a:pt x="386" y="173"/>
                  <a:pt x="356" y="149"/>
                </a:cubicBezTo>
                <a:cubicBezTo>
                  <a:pt x="348" y="142"/>
                  <a:pt x="344" y="128"/>
                  <a:pt x="334" y="126"/>
                </a:cubicBezTo>
                <a:cubicBezTo>
                  <a:pt x="287" y="116"/>
                  <a:pt x="237" y="119"/>
                  <a:pt x="189" y="115"/>
                </a:cubicBezTo>
                <a:cubicBezTo>
                  <a:pt x="152" y="119"/>
                  <a:pt x="115" y="120"/>
                  <a:pt x="78" y="126"/>
                </a:cubicBezTo>
                <a:cubicBezTo>
                  <a:pt x="66" y="128"/>
                  <a:pt x="57" y="138"/>
                  <a:pt x="45" y="138"/>
                </a:cubicBezTo>
                <a:cubicBezTo>
                  <a:pt x="29" y="138"/>
                  <a:pt x="0" y="126"/>
                  <a:pt x="0" y="126"/>
                </a:cubicBezTo>
                <a:close/>
              </a:path>
            </a:pathLst>
          </a:custGeom>
          <a:solidFill>
            <a:srgbClr val="800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5"/>
          <p:cNvSpPr/>
          <p:nvPr/>
        </p:nvSpPr>
        <p:spPr>
          <a:xfrm>
            <a:off x="885960" y="1905120"/>
            <a:ext cx="682560" cy="715680"/>
          </a:xfrm>
          <a:custGeom>
            <a:avLst/>
            <a:gdLst>
              <a:gd name="textAreaLeft" fmla="*/ 0 w 682560"/>
              <a:gd name="textAreaRight" fmla="*/ 682920 w 682560"/>
              <a:gd name="textAreaTop" fmla="*/ 0 h 715680"/>
              <a:gd name="textAreaBottom" fmla="*/ 716040 h 715680"/>
            </a:gdLst>
            <a:ahLst/>
            <a:rect l="textAreaLeft" t="textAreaTop" r="textAreaRight" b="textAreaBottom"/>
            <a:pathLst>
              <a:path w="430" h="451">
                <a:moveTo>
                  <a:pt x="142" y="0"/>
                </a:moveTo>
                <a:cubicBezTo>
                  <a:pt x="116" y="4"/>
                  <a:pt x="88" y="0"/>
                  <a:pt x="64" y="11"/>
                </a:cubicBezTo>
                <a:cubicBezTo>
                  <a:pt x="36" y="23"/>
                  <a:pt x="18" y="121"/>
                  <a:pt x="9" y="155"/>
                </a:cubicBezTo>
                <a:cubicBezTo>
                  <a:pt x="13" y="203"/>
                  <a:pt x="0" y="256"/>
                  <a:pt x="20" y="300"/>
                </a:cubicBezTo>
                <a:cubicBezTo>
                  <a:pt x="27" y="316"/>
                  <a:pt x="162" y="403"/>
                  <a:pt x="187" y="411"/>
                </a:cubicBezTo>
                <a:cubicBezTo>
                  <a:pt x="430" y="397"/>
                  <a:pt x="357" y="451"/>
                  <a:pt x="398" y="289"/>
                </a:cubicBezTo>
                <a:cubicBezTo>
                  <a:pt x="376" y="176"/>
                  <a:pt x="411" y="267"/>
                  <a:pt x="353" y="222"/>
                </a:cubicBezTo>
                <a:cubicBezTo>
                  <a:pt x="328" y="203"/>
                  <a:pt x="309" y="177"/>
                  <a:pt x="287" y="155"/>
                </a:cubicBezTo>
                <a:cubicBezTo>
                  <a:pt x="279" y="147"/>
                  <a:pt x="264" y="133"/>
                  <a:pt x="264" y="133"/>
                </a:cubicBezTo>
                <a:cubicBezTo>
                  <a:pt x="252" y="96"/>
                  <a:pt x="229" y="78"/>
                  <a:pt x="198" y="55"/>
                </a:cubicBezTo>
                <a:cubicBezTo>
                  <a:pt x="131" y="4"/>
                  <a:pt x="111" y="31"/>
                  <a:pt x="142" y="0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6"/>
          <p:cNvSpPr/>
          <p:nvPr/>
        </p:nvSpPr>
        <p:spPr>
          <a:xfrm>
            <a:off x="1171440" y="2151000"/>
            <a:ext cx="1086120" cy="4640400"/>
          </a:xfrm>
          <a:custGeom>
            <a:avLst/>
            <a:gdLst>
              <a:gd name="textAreaLeft" fmla="*/ 0 w 1086120"/>
              <a:gd name="textAreaRight" fmla="*/ 1086480 w 1086120"/>
              <a:gd name="textAreaTop" fmla="*/ 0 h 4640400"/>
              <a:gd name="textAreaBottom" fmla="*/ 4640400 h 4640400"/>
            </a:gdLst>
            <a:ahLst/>
            <a:rect l="textAreaLeft" t="textAreaTop" r="textAreaRight" b="textAreaBottom"/>
            <a:pathLst>
              <a:path w="684" h="2923">
                <a:moveTo>
                  <a:pt x="640" y="0"/>
                </a:moveTo>
                <a:cubicBezTo>
                  <a:pt x="610" y="4"/>
                  <a:pt x="579" y="2"/>
                  <a:pt x="551" y="12"/>
                </a:cubicBezTo>
                <a:cubicBezTo>
                  <a:pt x="524" y="22"/>
                  <a:pt x="510" y="55"/>
                  <a:pt x="484" y="67"/>
                </a:cubicBezTo>
                <a:cubicBezTo>
                  <a:pt x="417" y="96"/>
                  <a:pt x="342" y="112"/>
                  <a:pt x="273" y="134"/>
                </a:cubicBezTo>
                <a:cubicBezTo>
                  <a:pt x="265" y="157"/>
                  <a:pt x="242" y="175"/>
                  <a:pt x="240" y="200"/>
                </a:cubicBezTo>
                <a:cubicBezTo>
                  <a:pt x="234" y="285"/>
                  <a:pt x="242" y="337"/>
                  <a:pt x="284" y="400"/>
                </a:cubicBezTo>
                <a:cubicBezTo>
                  <a:pt x="295" y="433"/>
                  <a:pt x="311" y="465"/>
                  <a:pt x="318" y="500"/>
                </a:cubicBezTo>
                <a:cubicBezTo>
                  <a:pt x="325" y="537"/>
                  <a:pt x="340" y="611"/>
                  <a:pt x="340" y="611"/>
                </a:cubicBezTo>
                <a:cubicBezTo>
                  <a:pt x="336" y="707"/>
                  <a:pt x="335" y="804"/>
                  <a:pt x="329" y="900"/>
                </a:cubicBezTo>
                <a:cubicBezTo>
                  <a:pt x="323" y="992"/>
                  <a:pt x="321" y="939"/>
                  <a:pt x="307" y="1000"/>
                </a:cubicBezTo>
                <a:cubicBezTo>
                  <a:pt x="286" y="1089"/>
                  <a:pt x="273" y="1178"/>
                  <a:pt x="251" y="1267"/>
                </a:cubicBezTo>
                <a:cubicBezTo>
                  <a:pt x="231" y="1350"/>
                  <a:pt x="194" y="1428"/>
                  <a:pt x="173" y="1511"/>
                </a:cubicBezTo>
                <a:cubicBezTo>
                  <a:pt x="137" y="1875"/>
                  <a:pt x="0" y="2309"/>
                  <a:pt x="218" y="2622"/>
                </a:cubicBezTo>
                <a:cubicBezTo>
                  <a:pt x="234" y="2670"/>
                  <a:pt x="260" y="2709"/>
                  <a:pt x="295" y="2745"/>
                </a:cubicBezTo>
                <a:cubicBezTo>
                  <a:pt x="326" y="2829"/>
                  <a:pt x="281" y="2721"/>
                  <a:pt x="340" y="2811"/>
                </a:cubicBezTo>
                <a:cubicBezTo>
                  <a:pt x="374" y="2862"/>
                  <a:pt x="321" y="2835"/>
                  <a:pt x="384" y="2856"/>
                </a:cubicBezTo>
                <a:cubicBezTo>
                  <a:pt x="424" y="2894"/>
                  <a:pt x="444" y="2923"/>
                  <a:pt x="395" y="2767"/>
                </a:cubicBezTo>
                <a:cubicBezTo>
                  <a:pt x="387" y="2742"/>
                  <a:pt x="351" y="2700"/>
                  <a:pt x="351" y="2700"/>
                </a:cubicBezTo>
                <a:cubicBezTo>
                  <a:pt x="338" y="2649"/>
                  <a:pt x="333" y="2603"/>
                  <a:pt x="295" y="2567"/>
                </a:cubicBezTo>
                <a:cubicBezTo>
                  <a:pt x="288" y="2545"/>
                  <a:pt x="280" y="2522"/>
                  <a:pt x="273" y="2500"/>
                </a:cubicBezTo>
                <a:cubicBezTo>
                  <a:pt x="269" y="2489"/>
                  <a:pt x="262" y="2467"/>
                  <a:pt x="262" y="2467"/>
                </a:cubicBezTo>
                <a:cubicBezTo>
                  <a:pt x="254" y="2248"/>
                  <a:pt x="235" y="2063"/>
                  <a:pt x="251" y="1845"/>
                </a:cubicBezTo>
                <a:cubicBezTo>
                  <a:pt x="256" y="1779"/>
                  <a:pt x="293" y="1711"/>
                  <a:pt x="307" y="1645"/>
                </a:cubicBezTo>
                <a:cubicBezTo>
                  <a:pt x="314" y="1569"/>
                  <a:pt x="316" y="1495"/>
                  <a:pt x="340" y="1423"/>
                </a:cubicBezTo>
                <a:cubicBezTo>
                  <a:pt x="365" y="1273"/>
                  <a:pt x="342" y="1329"/>
                  <a:pt x="384" y="1245"/>
                </a:cubicBezTo>
                <a:cubicBezTo>
                  <a:pt x="390" y="1219"/>
                  <a:pt x="404" y="1194"/>
                  <a:pt x="407" y="1167"/>
                </a:cubicBezTo>
                <a:cubicBezTo>
                  <a:pt x="432" y="938"/>
                  <a:pt x="397" y="1053"/>
                  <a:pt x="429" y="956"/>
                </a:cubicBezTo>
                <a:cubicBezTo>
                  <a:pt x="443" y="845"/>
                  <a:pt x="431" y="895"/>
                  <a:pt x="462" y="800"/>
                </a:cubicBezTo>
                <a:cubicBezTo>
                  <a:pt x="466" y="789"/>
                  <a:pt x="473" y="767"/>
                  <a:pt x="473" y="767"/>
                </a:cubicBezTo>
                <a:cubicBezTo>
                  <a:pt x="485" y="630"/>
                  <a:pt x="456" y="381"/>
                  <a:pt x="629" y="323"/>
                </a:cubicBezTo>
                <a:cubicBezTo>
                  <a:pt x="667" y="283"/>
                  <a:pt x="648" y="310"/>
                  <a:pt x="673" y="234"/>
                </a:cubicBezTo>
                <a:cubicBezTo>
                  <a:pt x="677" y="223"/>
                  <a:pt x="684" y="200"/>
                  <a:pt x="684" y="200"/>
                </a:cubicBezTo>
                <a:cubicBezTo>
                  <a:pt x="675" y="129"/>
                  <a:pt x="662" y="67"/>
                  <a:pt x="640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8"/>
          <p:cNvSpPr/>
          <p:nvPr/>
        </p:nvSpPr>
        <p:spPr>
          <a:xfrm>
            <a:off x="380880" y="4267080"/>
            <a:ext cx="6408720" cy="1911600"/>
          </a:xfrm>
          <a:custGeom>
            <a:avLst/>
            <a:gdLst>
              <a:gd name="textAreaLeft" fmla="*/ 0 w 6408720"/>
              <a:gd name="textAreaRight" fmla="*/ 6409080 w 6408720"/>
              <a:gd name="textAreaTop" fmla="*/ 0 h 1911600"/>
              <a:gd name="textAreaBottom" fmla="*/ 1911960 h 1911600"/>
            </a:gdLst>
            <a:ahLst/>
            <a:rect l="textAreaLeft" t="textAreaTop" r="textAreaRight" b="textAreaBottom"/>
            <a:pathLst>
              <a:path w="4037" h="1204">
                <a:moveTo>
                  <a:pt x="733" y="612"/>
                </a:moveTo>
                <a:cubicBezTo>
                  <a:pt x="696" y="587"/>
                  <a:pt x="659" y="581"/>
                  <a:pt x="622" y="556"/>
                </a:cubicBezTo>
                <a:cubicBezTo>
                  <a:pt x="608" y="515"/>
                  <a:pt x="602" y="481"/>
                  <a:pt x="578" y="445"/>
                </a:cubicBezTo>
                <a:cubicBezTo>
                  <a:pt x="582" y="423"/>
                  <a:pt x="580" y="399"/>
                  <a:pt x="589" y="378"/>
                </a:cubicBezTo>
                <a:cubicBezTo>
                  <a:pt x="595" y="364"/>
                  <a:pt x="610" y="355"/>
                  <a:pt x="622" y="345"/>
                </a:cubicBezTo>
                <a:cubicBezTo>
                  <a:pt x="680" y="297"/>
                  <a:pt x="795" y="303"/>
                  <a:pt x="555" y="323"/>
                </a:cubicBezTo>
                <a:cubicBezTo>
                  <a:pt x="529" y="403"/>
                  <a:pt x="546" y="370"/>
                  <a:pt x="511" y="423"/>
                </a:cubicBezTo>
                <a:cubicBezTo>
                  <a:pt x="489" y="419"/>
                  <a:pt x="465" y="421"/>
                  <a:pt x="444" y="412"/>
                </a:cubicBezTo>
                <a:cubicBezTo>
                  <a:pt x="420" y="401"/>
                  <a:pt x="404" y="364"/>
                  <a:pt x="389" y="345"/>
                </a:cubicBezTo>
                <a:cubicBezTo>
                  <a:pt x="372" y="324"/>
                  <a:pt x="355" y="316"/>
                  <a:pt x="333" y="301"/>
                </a:cubicBezTo>
                <a:cubicBezTo>
                  <a:pt x="315" y="305"/>
                  <a:pt x="295" y="305"/>
                  <a:pt x="278" y="312"/>
                </a:cubicBezTo>
                <a:cubicBezTo>
                  <a:pt x="268" y="316"/>
                  <a:pt x="245" y="331"/>
                  <a:pt x="255" y="334"/>
                </a:cubicBezTo>
                <a:cubicBezTo>
                  <a:pt x="294" y="347"/>
                  <a:pt x="337" y="341"/>
                  <a:pt x="378" y="345"/>
                </a:cubicBezTo>
                <a:cubicBezTo>
                  <a:pt x="402" y="416"/>
                  <a:pt x="432" y="505"/>
                  <a:pt x="344" y="534"/>
                </a:cubicBezTo>
                <a:cubicBezTo>
                  <a:pt x="311" y="556"/>
                  <a:pt x="282" y="588"/>
                  <a:pt x="244" y="601"/>
                </a:cubicBezTo>
                <a:cubicBezTo>
                  <a:pt x="222" y="608"/>
                  <a:pt x="178" y="623"/>
                  <a:pt x="178" y="623"/>
                </a:cubicBezTo>
                <a:cubicBezTo>
                  <a:pt x="141" y="619"/>
                  <a:pt x="103" y="619"/>
                  <a:pt x="66" y="612"/>
                </a:cubicBezTo>
                <a:cubicBezTo>
                  <a:pt x="43" y="608"/>
                  <a:pt x="0" y="590"/>
                  <a:pt x="0" y="590"/>
                </a:cubicBezTo>
                <a:cubicBezTo>
                  <a:pt x="58" y="676"/>
                  <a:pt x="120" y="679"/>
                  <a:pt x="222" y="690"/>
                </a:cubicBezTo>
                <a:cubicBezTo>
                  <a:pt x="215" y="701"/>
                  <a:pt x="206" y="711"/>
                  <a:pt x="200" y="723"/>
                </a:cubicBezTo>
                <a:cubicBezTo>
                  <a:pt x="195" y="733"/>
                  <a:pt x="197" y="748"/>
                  <a:pt x="189" y="756"/>
                </a:cubicBezTo>
                <a:cubicBezTo>
                  <a:pt x="170" y="775"/>
                  <a:pt x="144" y="786"/>
                  <a:pt x="122" y="801"/>
                </a:cubicBezTo>
                <a:cubicBezTo>
                  <a:pt x="111" y="808"/>
                  <a:pt x="89" y="823"/>
                  <a:pt x="89" y="823"/>
                </a:cubicBezTo>
                <a:cubicBezTo>
                  <a:pt x="81" y="834"/>
                  <a:pt x="75" y="846"/>
                  <a:pt x="66" y="856"/>
                </a:cubicBezTo>
                <a:cubicBezTo>
                  <a:pt x="56" y="868"/>
                  <a:pt x="33" y="874"/>
                  <a:pt x="33" y="890"/>
                </a:cubicBezTo>
                <a:cubicBezTo>
                  <a:pt x="33" y="902"/>
                  <a:pt x="55" y="882"/>
                  <a:pt x="66" y="878"/>
                </a:cubicBezTo>
                <a:cubicBezTo>
                  <a:pt x="77" y="874"/>
                  <a:pt x="89" y="871"/>
                  <a:pt x="100" y="867"/>
                </a:cubicBezTo>
                <a:cubicBezTo>
                  <a:pt x="134" y="844"/>
                  <a:pt x="149" y="818"/>
                  <a:pt x="178" y="790"/>
                </a:cubicBezTo>
                <a:cubicBezTo>
                  <a:pt x="204" y="712"/>
                  <a:pt x="178" y="730"/>
                  <a:pt x="233" y="712"/>
                </a:cubicBezTo>
                <a:cubicBezTo>
                  <a:pt x="252" y="716"/>
                  <a:pt x="273" y="713"/>
                  <a:pt x="289" y="723"/>
                </a:cubicBezTo>
                <a:cubicBezTo>
                  <a:pt x="294" y="727"/>
                  <a:pt x="308" y="789"/>
                  <a:pt x="311" y="801"/>
                </a:cubicBezTo>
                <a:cubicBezTo>
                  <a:pt x="332" y="873"/>
                  <a:pt x="319" y="852"/>
                  <a:pt x="355" y="890"/>
                </a:cubicBezTo>
                <a:cubicBezTo>
                  <a:pt x="351" y="927"/>
                  <a:pt x="356" y="966"/>
                  <a:pt x="344" y="1001"/>
                </a:cubicBezTo>
                <a:cubicBezTo>
                  <a:pt x="333" y="1036"/>
                  <a:pt x="244" y="1045"/>
                  <a:pt x="244" y="1045"/>
                </a:cubicBezTo>
                <a:cubicBezTo>
                  <a:pt x="285" y="1049"/>
                  <a:pt x="326" y="1049"/>
                  <a:pt x="366" y="1056"/>
                </a:cubicBezTo>
                <a:cubicBezTo>
                  <a:pt x="389" y="1060"/>
                  <a:pt x="411" y="1071"/>
                  <a:pt x="433" y="1078"/>
                </a:cubicBezTo>
                <a:cubicBezTo>
                  <a:pt x="444" y="1082"/>
                  <a:pt x="466" y="1089"/>
                  <a:pt x="466" y="1089"/>
                </a:cubicBezTo>
                <a:cubicBezTo>
                  <a:pt x="466" y="1089"/>
                  <a:pt x="444" y="1067"/>
                  <a:pt x="433" y="1056"/>
                </a:cubicBezTo>
                <a:cubicBezTo>
                  <a:pt x="424" y="1047"/>
                  <a:pt x="411" y="1041"/>
                  <a:pt x="400" y="1034"/>
                </a:cubicBezTo>
                <a:cubicBezTo>
                  <a:pt x="364" y="980"/>
                  <a:pt x="344" y="916"/>
                  <a:pt x="422" y="890"/>
                </a:cubicBezTo>
                <a:cubicBezTo>
                  <a:pt x="498" y="897"/>
                  <a:pt x="568" y="881"/>
                  <a:pt x="611" y="945"/>
                </a:cubicBezTo>
                <a:cubicBezTo>
                  <a:pt x="600" y="1036"/>
                  <a:pt x="577" y="1070"/>
                  <a:pt x="678" y="1045"/>
                </a:cubicBezTo>
                <a:cubicBezTo>
                  <a:pt x="656" y="1038"/>
                  <a:pt x="609" y="1046"/>
                  <a:pt x="611" y="1023"/>
                </a:cubicBezTo>
                <a:cubicBezTo>
                  <a:pt x="616" y="971"/>
                  <a:pt x="611" y="889"/>
                  <a:pt x="655" y="845"/>
                </a:cubicBezTo>
                <a:cubicBezTo>
                  <a:pt x="687" y="814"/>
                  <a:pt x="686" y="830"/>
                  <a:pt x="722" y="812"/>
                </a:cubicBezTo>
                <a:cubicBezTo>
                  <a:pt x="758" y="794"/>
                  <a:pt x="771" y="767"/>
                  <a:pt x="811" y="756"/>
                </a:cubicBezTo>
                <a:cubicBezTo>
                  <a:pt x="840" y="748"/>
                  <a:pt x="900" y="734"/>
                  <a:pt x="900" y="734"/>
                </a:cubicBezTo>
                <a:cubicBezTo>
                  <a:pt x="1205" y="741"/>
                  <a:pt x="1357" y="751"/>
                  <a:pt x="1622" y="767"/>
                </a:cubicBezTo>
                <a:cubicBezTo>
                  <a:pt x="1716" y="797"/>
                  <a:pt x="1825" y="804"/>
                  <a:pt x="1922" y="812"/>
                </a:cubicBezTo>
                <a:cubicBezTo>
                  <a:pt x="2005" y="832"/>
                  <a:pt x="2093" y="844"/>
                  <a:pt x="2178" y="856"/>
                </a:cubicBezTo>
                <a:cubicBezTo>
                  <a:pt x="2288" y="893"/>
                  <a:pt x="2407" y="912"/>
                  <a:pt x="2522" y="923"/>
                </a:cubicBezTo>
                <a:cubicBezTo>
                  <a:pt x="2644" y="953"/>
                  <a:pt x="2776" y="950"/>
                  <a:pt x="2900" y="956"/>
                </a:cubicBezTo>
                <a:cubicBezTo>
                  <a:pt x="3056" y="952"/>
                  <a:pt x="3211" y="952"/>
                  <a:pt x="3367" y="945"/>
                </a:cubicBezTo>
                <a:cubicBezTo>
                  <a:pt x="3402" y="944"/>
                  <a:pt x="3459" y="922"/>
                  <a:pt x="3489" y="912"/>
                </a:cubicBezTo>
                <a:cubicBezTo>
                  <a:pt x="3500" y="908"/>
                  <a:pt x="3522" y="901"/>
                  <a:pt x="3522" y="901"/>
                </a:cubicBezTo>
                <a:cubicBezTo>
                  <a:pt x="3606" y="817"/>
                  <a:pt x="3693" y="834"/>
                  <a:pt x="3767" y="723"/>
                </a:cubicBezTo>
                <a:cubicBezTo>
                  <a:pt x="3800" y="727"/>
                  <a:pt x="3835" y="723"/>
                  <a:pt x="3867" y="734"/>
                </a:cubicBezTo>
                <a:cubicBezTo>
                  <a:pt x="3902" y="746"/>
                  <a:pt x="3909" y="799"/>
                  <a:pt x="3934" y="823"/>
                </a:cubicBezTo>
                <a:cubicBezTo>
                  <a:pt x="3954" y="884"/>
                  <a:pt x="4001" y="929"/>
                  <a:pt x="4023" y="989"/>
                </a:cubicBezTo>
                <a:cubicBezTo>
                  <a:pt x="4019" y="1048"/>
                  <a:pt x="4017" y="1108"/>
                  <a:pt x="4011" y="1167"/>
                </a:cubicBezTo>
                <a:cubicBezTo>
                  <a:pt x="4010" y="1179"/>
                  <a:pt x="4011" y="1197"/>
                  <a:pt x="4000" y="1201"/>
                </a:cubicBezTo>
                <a:cubicBezTo>
                  <a:pt x="3990" y="1204"/>
                  <a:pt x="3985" y="1186"/>
                  <a:pt x="3978" y="1178"/>
                </a:cubicBezTo>
                <a:cubicBezTo>
                  <a:pt x="4000" y="1144"/>
                  <a:pt x="4022" y="1128"/>
                  <a:pt x="4034" y="1089"/>
                </a:cubicBezTo>
                <a:cubicBezTo>
                  <a:pt x="4030" y="1034"/>
                  <a:pt x="4037" y="977"/>
                  <a:pt x="4023" y="923"/>
                </a:cubicBezTo>
                <a:cubicBezTo>
                  <a:pt x="4018" y="902"/>
                  <a:pt x="3990" y="896"/>
                  <a:pt x="3978" y="878"/>
                </a:cubicBezTo>
                <a:cubicBezTo>
                  <a:pt x="3928" y="803"/>
                  <a:pt x="3953" y="830"/>
                  <a:pt x="3911" y="790"/>
                </a:cubicBezTo>
                <a:cubicBezTo>
                  <a:pt x="3907" y="771"/>
                  <a:pt x="3908" y="751"/>
                  <a:pt x="3900" y="734"/>
                </a:cubicBezTo>
                <a:cubicBezTo>
                  <a:pt x="3889" y="710"/>
                  <a:pt x="3864" y="692"/>
                  <a:pt x="3856" y="667"/>
                </a:cubicBezTo>
                <a:cubicBezTo>
                  <a:pt x="3852" y="656"/>
                  <a:pt x="3849" y="645"/>
                  <a:pt x="3845" y="634"/>
                </a:cubicBezTo>
                <a:cubicBezTo>
                  <a:pt x="3850" y="516"/>
                  <a:pt x="3824" y="399"/>
                  <a:pt x="3889" y="301"/>
                </a:cubicBezTo>
                <a:cubicBezTo>
                  <a:pt x="3896" y="279"/>
                  <a:pt x="3904" y="256"/>
                  <a:pt x="3911" y="234"/>
                </a:cubicBezTo>
                <a:cubicBezTo>
                  <a:pt x="3915" y="223"/>
                  <a:pt x="3922" y="201"/>
                  <a:pt x="3922" y="201"/>
                </a:cubicBezTo>
                <a:cubicBezTo>
                  <a:pt x="3918" y="160"/>
                  <a:pt x="3925" y="117"/>
                  <a:pt x="3911" y="78"/>
                </a:cubicBezTo>
                <a:cubicBezTo>
                  <a:pt x="3910" y="75"/>
                  <a:pt x="3844" y="28"/>
                  <a:pt x="3834" y="23"/>
                </a:cubicBezTo>
                <a:cubicBezTo>
                  <a:pt x="3823" y="18"/>
                  <a:pt x="3800" y="0"/>
                  <a:pt x="3800" y="12"/>
                </a:cubicBezTo>
                <a:cubicBezTo>
                  <a:pt x="3800" y="25"/>
                  <a:pt x="3824" y="25"/>
                  <a:pt x="3834" y="34"/>
                </a:cubicBezTo>
                <a:cubicBezTo>
                  <a:pt x="3884" y="78"/>
                  <a:pt x="3882" y="79"/>
                  <a:pt x="3911" y="123"/>
                </a:cubicBezTo>
                <a:cubicBezTo>
                  <a:pt x="3905" y="220"/>
                  <a:pt x="3940" y="313"/>
                  <a:pt x="3845" y="345"/>
                </a:cubicBezTo>
                <a:cubicBezTo>
                  <a:pt x="3837" y="352"/>
                  <a:pt x="3827" y="358"/>
                  <a:pt x="3822" y="367"/>
                </a:cubicBezTo>
                <a:cubicBezTo>
                  <a:pt x="3811" y="388"/>
                  <a:pt x="3800" y="434"/>
                  <a:pt x="3800" y="434"/>
                </a:cubicBezTo>
                <a:cubicBezTo>
                  <a:pt x="3784" y="595"/>
                  <a:pt x="3779" y="776"/>
                  <a:pt x="3600" y="834"/>
                </a:cubicBezTo>
                <a:cubicBezTo>
                  <a:pt x="3558" y="862"/>
                  <a:pt x="3512" y="870"/>
                  <a:pt x="3467" y="890"/>
                </a:cubicBezTo>
                <a:cubicBezTo>
                  <a:pt x="3428" y="907"/>
                  <a:pt x="3397" y="931"/>
                  <a:pt x="3356" y="945"/>
                </a:cubicBezTo>
                <a:cubicBezTo>
                  <a:pt x="3197" y="941"/>
                  <a:pt x="3037" y="940"/>
                  <a:pt x="2878" y="934"/>
                </a:cubicBezTo>
                <a:cubicBezTo>
                  <a:pt x="2814" y="931"/>
                  <a:pt x="2752" y="910"/>
                  <a:pt x="2689" y="901"/>
                </a:cubicBezTo>
                <a:cubicBezTo>
                  <a:pt x="2594" y="888"/>
                  <a:pt x="2436" y="882"/>
                  <a:pt x="2356" y="878"/>
                </a:cubicBezTo>
                <a:cubicBezTo>
                  <a:pt x="2155" y="853"/>
                  <a:pt x="2235" y="875"/>
                  <a:pt x="2111" y="834"/>
                </a:cubicBezTo>
                <a:cubicBezTo>
                  <a:pt x="2086" y="826"/>
                  <a:pt x="2070" y="796"/>
                  <a:pt x="2044" y="790"/>
                </a:cubicBezTo>
                <a:cubicBezTo>
                  <a:pt x="2020" y="785"/>
                  <a:pt x="1769" y="768"/>
                  <a:pt x="1756" y="767"/>
                </a:cubicBezTo>
                <a:cubicBezTo>
                  <a:pt x="1658" y="743"/>
                  <a:pt x="1569" y="732"/>
                  <a:pt x="1467" y="723"/>
                </a:cubicBezTo>
                <a:cubicBezTo>
                  <a:pt x="1363" y="697"/>
                  <a:pt x="1251" y="700"/>
                  <a:pt x="1144" y="690"/>
                </a:cubicBezTo>
                <a:cubicBezTo>
                  <a:pt x="1039" y="670"/>
                  <a:pt x="939" y="646"/>
                  <a:pt x="833" y="634"/>
                </a:cubicBezTo>
                <a:cubicBezTo>
                  <a:pt x="809" y="626"/>
                  <a:pt x="655" y="573"/>
                  <a:pt x="733" y="612"/>
                </a:cubicBez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9"/>
          <p:cNvSpPr/>
          <p:nvPr/>
        </p:nvSpPr>
        <p:spPr>
          <a:xfrm>
            <a:off x="958680" y="5213520"/>
            <a:ext cx="357480" cy="360360"/>
          </a:xfrm>
          <a:custGeom>
            <a:avLst/>
            <a:gdLst>
              <a:gd name="textAreaLeft" fmla="*/ 0 w 357480"/>
              <a:gd name="textAreaRight" fmla="*/ 357480 w 35748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25" h="227">
                <a:moveTo>
                  <a:pt x="214" y="82"/>
                </a:moveTo>
                <a:cubicBezTo>
                  <a:pt x="199" y="21"/>
                  <a:pt x="193" y="24"/>
                  <a:pt x="136" y="5"/>
                </a:cubicBezTo>
                <a:cubicBezTo>
                  <a:pt x="95" y="9"/>
                  <a:pt x="52" y="0"/>
                  <a:pt x="14" y="16"/>
                </a:cubicBezTo>
                <a:cubicBezTo>
                  <a:pt x="0" y="22"/>
                  <a:pt x="2" y="45"/>
                  <a:pt x="2" y="60"/>
                </a:cubicBezTo>
                <a:cubicBezTo>
                  <a:pt x="2" y="180"/>
                  <a:pt x="14" y="202"/>
                  <a:pt x="114" y="227"/>
                </a:cubicBezTo>
                <a:cubicBezTo>
                  <a:pt x="203" y="214"/>
                  <a:pt x="225" y="218"/>
                  <a:pt x="225" y="116"/>
                </a:cubicBezTo>
                <a:cubicBezTo>
                  <a:pt x="225" y="104"/>
                  <a:pt x="218" y="93"/>
                  <a:pt x="214" y="82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1377000" y="1341360"/>
            <a:ext cx="1768680" cy="459720"/>
          </a:xfrm>
          <a:prstGeom prst="rect">
            <a:avLst/>
          </a:prstGeom>
          <a:solidFill>
            <a:srgbClr val="ffcc66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ercep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1765440" y="4603680"/>
            <a:ext cx="1866240" cy="459720"/>
          </a:xfrm>
          <a:prstGeom prst="rect">
            <a:avLst/>
          </a:prstGeom>
          <a:solidFill>
            <a:srgbClr val="ffcc66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odu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3031560" y="6005520"/>
            <a:ext cx="1945440" cy="459720"/>
          </a:xfrm>
          <a:prstGeom prst="rect">
            <a:avLst/>
          </a:prstGeom>
          <a:solidFill>
            <a:srgbClr val="ffcc66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Transm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3"/>
          <p:cNvSpPr/>
          <p:nvPr/>
        </p:nvSpPr>
        <p:spPr>
          <a:xfrm>
            <a:off x="6690960" y="4876920"/>
            <a:ext cx="2103840" cy="459720"/>
          </a:xfrm>
          <a:prstGeom prst="rect">
            <a:avLst/>
          </a:prstGeom>
          <a:solidFill>
            <a:srgbClr val="ffcc66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Trans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4"/>
          <p:cNvSpPr/>
          <p:nvPr/>
        </p:nvSpPr>
        <p:spPr>
          <a:xfrm>
            <a:off x="3141360" y="2565360"/>
            <a:ext cx="5603040" cy="642600"/>
          </a:xfrm>
          <a:prstGeom prst="rect">
            <a:avLst/>
          </a:prstGeom>
          <a:solidFill>
            <a:srgbClr val="ffcc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0000"/>
                </a:solidFill>
                <a:latin typeface="Arial Unicode MS"/>
              </a:rPr>
              <a:t>ADAPTACIÓN AL ME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5"/>
          <p:cNvSpPr/>
          <p:nvPr/>
        </p:nvSpPr>
        <p:spPr>
          <a:xfrm flipH="1">
            <a:off x="4284720" y="2276640"/>
            <a:ext cx="2819520" cy="13716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6"/>
          <p:cNvSpPr/>
          <p:nvPr/>
        </p:nvSpPr>
        <p:spPr>
          <a:xfrm>
            <a:off x="4500720" y="2060640"/>
            <a:ext cx="2361960" cy="1981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7"/>
          <p:cNvSpPr/>
          <p:nvPr/>
        </p:nvSpPr>
        <p:spPr>
          <a:xfrm>
            <a:off x="3059280" y="2349360"/>
            <a:ext cx="5843520" cy="1191240"/>
          </a:xfrm>
          <a:prstGeom prst="rect">
            <a:avLst/>
          </a:prstGeom>
          <a:solidFill>
            <a:srgbClr val="ffcc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3366"/>
                </a:solidFill>
                <a:latin typeface="Arial"/>
              </a:rPr>
              <a:t>DOLOR ONCOLÓG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3366"/>
                </a:solidFill>
                <a:latin typeface="Arial"/>
              </a:rPr>
              <a:t>NO tiene un rol adaptati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"/>
          <p:cNvPicPr/>
          <p:nvPr/>
        </p:nvPicPr>
        <p:blipFill>
          <a:blip r:embed="rId1"/>
          <a:srcRect l="21969" t="14282" r="23223" b="14320"/>
          <a:stretch/>
        </p:blipFill>
        <p:spPr>
          <a:xfrm>
            <a:off x="324000" y="333360"/>
            <a:ext cx="8351640" cy="6120000"/>
          </a:xfrm>
          <a:prstGeom prst="rect">
            <a:avLst/>
          </a:prstGeom>
          <a:ln w="0">
            <a:noFill/>
          </a:ln>
        </p:spPr>
      </p:pic>
      <p:sp>
        <p:nvSpPr>
          <p:cNvPr id="131" name="3 CuadroTexto"/>
          <p:cNvSpPr/>
          <p:nvPr/>
        </p:nvSpPr>
        <p:spPr>
          <a:xfrm>
            <a:off x="254880" y="6308640"/>
            <a:ext cx="2690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.Kuner, Pain April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55640" y="263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Características clínicas del dolor oncológico.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0000"/>
                </a:solidFill>
                <a:latin typeface="Franklin Gothic Book"/>
              </a:rPr>
              <a:t>Prevalencia de Dolor </a:t>
            </a:r>
            <a:br>
              <a:rPr sz="3600"/>
            </a:br>
            <a:r>
              <a:rPr b="1" lang="fr-BE" sz="3600" spc="-1" strike="noStrike">
                <a:solidFill>
                  <a:srgbClr val="000000"/>
                </a:solidFill>
                <a:latin typeface="Franklin Gothic Book"/>
              </a:rPr>
              <a:t>en pacientes oncológico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7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fr-BE" sz="3600" spc="-1" strike="noStrike">
                <a:solidFill>
                  <a:srgbClr val="000000"/>
                </a:solidFill>
                <a:latin typeface="Perpetua"/>
              </a:rPr>
              <a:t>30% al momento del diagnóstic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fr-BE" sz="3600" spc="-1" strike="noStrike">
                <a:solidFill>
                  <a:srgbClr val="000000"/>
                </a:solidFill>
                <a:latin typeface="Perpetua"/>
              </a:rPr>
              <a:t>80 - 90 % en fases avanzad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fr-BE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fr-BE" sz="3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fr-BE" sz="3600" spc="-1" strike="noStrike">
                <a:solidFill>
                  <a:srgbClr val="000000"/>
                </a:solidFill>
                <a:latin typeface="Perpetua"/>
              </a:rPr>
              <a:t>25% pacientes mueren con dolo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5092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fr-BE" sz="4000" spc="-1" strike="noStrike">
                <a:solidFill>
                  <a:srgbClr val="000000"/>
                </a:solidFill>
                <a:latin typeface="Franklin Gothic Book"/>
              </a:rPr>
              <a:t>Causas de Dolor </a:t>
            </a:r>
            <a:br>
              <a:rPr sz="4000"/>
            </a:br>
            <a:r>
              <a:rPr b="1" lang="fr-BE" sz="4000" spc="-1" strike="noStrike">
                <a:solidFill>
                  <a:srgbClr val="000000"/>
                </a:solidFill>
                <a:latin typeface="Franklin Gothic Book"/>
              </a:rPr>
              <a:t>en pacientes oncológicos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26560" y="1773360"/>
            <a:ext cx="7277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Calibri"/>
              </a:rPr>
              <a:t>65-85% invasión tumoral direc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BE" sz="3200" spc="-1" strike="noStrike">
                <a:solidFill>
                  <a:srgbClr val="000000"/>
                </a:solidFill>
                <a:latin typeface="Calibri"/>
              </a:rPr>
              <a:t>15-25% tratamientos oncológic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BE" sz="3200" spc="-1" strike="noStrike">
                <a:solidFill>
                  <a:srgbClr val="000000"/>
                </a:solidFill>
                <a:latin typeface="Calibri"/>
              </a:rPr>
              <a:t>3-10% no relacionados al cánc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3 CuadroTexto"/>
          <p:cNvSpPr/>
          <p:nvPr/>
        </p:nvSpPr>
        <p:spPr>
          <a:xfrm>
            <a:off x="1576440" y="5300640"/>
            <a:ext cx="631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BE" sz="3200" spc="-1" strike="noStrike">
                <a:solidFill>
                  <a:srgbClr val="000000"/>
                </a:solidFill>
                <a:latin typeface="Arial"/>
              </a:rPr>
              <a:t>Frecuentemente causas mix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85880" y="71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s-CL" sz="4400" spc="-1" strike="noStrike">
                <a:solidFill>
                  <a:srgbClr val="000000"/>
                </a:solidFill>
                <a:latin typeface="Franklin Gothic Book"/>
              </a:rPr>
              <a:t>Clasificación clínica del dolor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395280" y="2924280"/>
            <a:ext cx="3960720" cy="1439640"/>
          </a:xfrm>
          <a:prstGeom prst="rect">
            <a:avLst/>
          </a:prstGeom>
          <a:solidFill>
            <a:srgbClr val="ffcc66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Dolor Nocicepti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4859280" y="2924280"/>
            <a:ext cx="3960720" cy="1439640"/>
          </a:xfrm>
          <a:prstGeom prst="rect">
            <a:avLst/>
          </a:prstGeom>
          <a:solidFill>
            <a:srgbClr val="ffcc66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Dolor Neuropát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2971800" y="457200"/>
            <a:ext cx="5645160" cy="609588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3"/>
          <p:cNvSpPr/>
          <p:nvPr/>
        </p:nvSpPr>
        <p:spPr>
          <a:xfrm>
            <a:off x="615600" y="228600"/>
            <a:ext cx="3850560" cy="764280"/>
          </a:xfrm>
          <a:prstGeom prst="rect">
            <a:avLst/>
          </a:prstGeom>
          <a:solidFill>
            <a:srgbClr val="bfdbdf"/>
          </a:soli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Verdana"/>
              </a:rPr>
              <a:t>Fisiopatolog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468360" y="1197000"/>
            <a:ext cx="3960720" cy="1944720"/>
          </a:xfrm>
          <a:prstGeom prst="rect">
            <a:avLst/>
          </a:prstGeom>
          <a:solidFill>
            <a:srgbClr val="ffcc6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Dolor Nociceptivo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MÁT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VISCE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6 Elipse"/>
          <p:cNvSpPr/>
          <p:nvPr/>
        </p:nvSpPr>
        <p:spPr>
          <a:xfrm>
            <a:off x="5219640" y="4724280"/>
            <a:ext cx="68112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7 Elipse"/>
          <p:cNvSpPr/>
          <p:nvPr/>
        </p:nvSpPr>
        <p:spPr>
          <a:xfrm>
            <a:off x="6443640" y="5141880"/>
            <a:ext cx="68112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8 Elipse"/>
          <p:cNvSpPr/>
          <p:nvPr/>
        </p:nvSpPr>
        <p:spPr>
          <a:xfrm>
            <a:off x="5560920" y="3716280"/>
            <a:ext cx="68112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1619280" y="3441600"/>
            <a:ext cx="6013440" cy="3385800"/>
          </a:xfrm>
          <a:prstGeom prst="rect">
            <a:avLst/>
          </a:prstGeom>
          <a:solidFill>
            <a:srgbClr val="1f497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OLOR SOMÁTICO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romiso musculoesquelético  y/o de partes bland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en localizado , superficial o profun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scrito como: punzante, palpitante, compres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Temas a trat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11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Concepto de “dolor total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Fisiología básica del dolor de causa orgánic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Características clínicas del dolor oncológic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Manejo farmacológico general del dolor oncológico basado en la escala de la O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Características farmacológicas y bases del uso clínico de analgésicos opioid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22360" y="625320"/>
            <a:ext cx="4500720" cy="8128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lor Somátic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693200" cy="40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20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sión tejidos blandos: esguince de tobil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20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siones óseas: fractura de cade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20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siones mixtas: artriti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20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En pacientes oncológicos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actura en hueso patológico, infiltración tumoral de músculo o partes blandas, mucosit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2971800" y="457200"/>
            <a:ext cx="5645160" cy="60958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3"/>
          <p:cNvSpPr/>
          <p:nvPr/>
        </p:nvSpPr>
        <p:spPr>
          <a:xfrm>
            <a:off x="615600" y="228600"/>
            <a:ext cx="3850560" cy="764280"/>
          </a:xfrm>
          <a:prstGeom prst="rect">
            <a:avLst/>
          </a:prstGeom>
          <a:solidFill>
            <a:srgbClr val="bfdbdf"/>
          </a:soli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Verdana"/>
              </a:rPr>
              <a:t>Fisiopatolog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1332000" y="3357720"/>
            <a:ext cx="6786360" cy="3385800"/>
          </a:xfrm>
          <a:prstGeom prst="rect">
            <a:avLst/>
          </a:prstGeom>
          <a:solidFill>
            <a:srgbClr val="1f497d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OLOR VISCER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usas: mecánicas, isquemia, inflam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l localizado, irradiado o refer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scrito como: espasmos, cólicos, sordo, compresivo, punz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íntomas neurovegetativos asoci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468360" y="1197000"/>
            <a:ext cx="3960720" cy="1944720"/>
          </a:xfrm>
          <a:prstGeom prst="rect">
            <a:avLst/>
          </a:prstGeom>
          <a:solidFill>
            <a:srgbClr val="ffcc6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Dolor Nociceptivo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MÁT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VISCE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322360" y="625320"/>
            <a:ext cx="4500720" cy="8128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lor Visc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00000" y="2205000"/>
            <a:ext cx="7693200" cy="40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20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tension de órgano hueco: globo vesic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20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quemia: infarto miocárdi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20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lamación: peritoni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20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pasmo muscular: cólico intesti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20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En pacientes oncológicos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lor abdominal en faja por cáncer de páncr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2971800" y="457200"/>
            <a:ext cx="5645160" cy="609588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6"/>
          <p:cNvSpPr/>
          <p:nvPr/>
        </p:nvSpPr>
        <p:spPr>
          <a:xfrm>
            <a:off x="550440" y="404640"/>
            <a:ext cx="3850560" cy="764280"/>
          </a:xfrm>
          <a:prstGeom prst="rect">
            <a:avLst/>
          </a:prstGeom>
          <a:solidFill>
            <a:srgbClr val="bfdbdf"/>
          </a:soli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Verdana"/>
              </a:rPr>
              <a:t>Fisiopatolog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1476360" y="1773360"/>
            <a:ext cx="6480360" cy="4319640"/>
          </a:xfrm>
          <a:prstGeom prst="rect">
            <a:avLst/>
          </a:prstGeom>
          <a:solidFill>
            <a:srgbClr val="ffcc6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DOLOR NEUROPÁT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ormecimiento, parestesias, urent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madura, electricidad, ramalazo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ujas, puñalad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fícil de localizar : utilidad  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en neurológ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fícil de  tratar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71760" y="588600"/>
            <a:ext cx="6000480" cy="8938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lor Neuropátic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920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20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siones medulares, neuropatías, dolor fantasma, neuralgia postherpética,post-AV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20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20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 pacientes oncológicos: metástasis leptomeníngeas, compresión medular, plexopatías braquiales o lumbosacras, sd. postquirúrgicos, neuropatía por quimioterap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0" algn="just">
              <a:lnSpc>
                <a:spcPct val="100000"/>
              </a:lnSpc>
              <a:spcBef>
                <a:spcPts val="850"/>
              </a:spcBef>
              <a:buNone/>
              <a:tabLst>
                <a:tab algn="l" pos="920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 algn="just">
              <a:lnSpc>
                <a:spcPct val="100000"/>
              </a:lnSpc>
              <a:spcBef>
                <a:spcPts val="850"/>
              </a:spcBef>
              <a:buNone/>
              <a:tabLst>
                <a:tab algn="l" pos="920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395280" y="1700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SIEMPRE:  HISTORIA CLÍNICA y EXAMEN FÍSICO COMPLE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642920" y="1341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Nemotecnia en inglé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800" spc="-1" strike="noStrike">
                <a:solidFill>
                  <a:srgbClr val="ff0000"/>
                </a:solidFill>
                <a:latin typeface="Calibri"/>
              </a:rPr>
              <a:t>L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o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800" spc="-1" strike="noStrike">
                <a:solidFill>
                  <a:srgbClr val="ff0000"/>
                </a:solidFill>
                <a:latin typeface="Calibri"/>
              </a:rPr>
              <a:t>M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edical treat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s-ES" sz="2800" spc="-1" strike="noStrike">
                <a:solidFill>
                  <a:srgbClr val="ff0000"/>
                </a:solidFill>
                <a:latin typeface="Calibri"/>
              </a:rPr>
              <a:t>N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umber of episo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s-ES" sz="2800" spc="-1" strike="noStrike">
                <a:solidFill>
                  <a:srgbClr val="ff0000"/>
                </a:solidFill>
                <a:latin typeface="Calibri"/>
              </a:rPr>
              <a:t>O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ns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s-ES" sz="2800" spc="-1" strike="noStrike">
                <a:solidFill>
                  <a:srgbClr val="ff0000"/>
                </a:solidFill>
                <a:latin typeface="Calibri"/>
              </a:rPr>
              <a:t>P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os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s-ES" sz="2800" spc="-1" strike="noStrike">
                <a:solidFill>
                  <a:srgbClr val="ff0000"/>
                </a:solidFill>
                <a:latin typeface="Calibri"/>
              </a:rPr>
              <a:t>Q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ua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s-ES" sz="2800" spc="-1" strike="noStrike">
                <a:solidFill>
                  <a:srgbClr val="ff0000"/>
                </a:solidFill>
                <a:latin typeface="Calibri"/>
              </a:rPr>
              <a:t>R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s-ES" sz="2800" spc="-1" strike="noStrike">
                <a:solidFill>
                  <a:srgbClr val="ff0000"/>
                </a:solidFill>
                <a:latin typeface="Calibri"/>
              </a:rPr>
              <a:t>S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ever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s-ES" sz="2800" spc="-1" strike="noStrike">
                <a:solidFill>
                  <a:srgbClr val="ff0000"/>
                </a:solidFill>
                <a:latin typeface="Calibri"/>
              </a:rPr>
              <a:t>T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rigg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1 Título"/>
          <p:cNvSpPr/>
          <p:nvPr/>
        </p:nvSpPr>
        <p:spPr>
          <a:xfrm>
            <a:off x="611280" y="1159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Evaluación del paciente con dol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1"/>
          <a:srcRect l="30241" t="8399" r="33853" b="9281"/>
          <a:stretch/>
        </p:blipFill>
        <p:spPr>
          <a:xfrm>
            <a:off x="2556000" y="836640"/>
            <a:ext cx="4174920" cy="5384880"/>
          </a:xfrm>
          <a:prstGeom prst="rect">
            <a:avLst/>
          </a:prstGeom>
          <a:ln w="0">
            <a:noFill/>
          </a:ln>
        </p:spPr>
      </p:pic>
      <p:sp>
        <p:nvSpPr>
          <p:cNvPr id="165" name="2 CuadroTexto"/>
          <p:cNvSpPr/>
          <p:nvPr/>
        </p:nvSpPr>
        <p:spPr>
          <a:xfrm>
            <a:off x="1908000" y="4221000"/>
            <a:ext cx="1151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DEREC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3 CuadroTexto"/>
          <p:cNvSpPr/>
          <p:nvPr/>
        </p:nvSpPr>
        <p:spPr>
          <a:xfrm>
            <a:off x="6084720" y="4149720"/>
            <a:ext cx="1295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IZQUIER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6 CuadroTexto"/>
          <p:cNvSpPr/>
          <p:nvPr/>
        </p:nvSpPr>
        <p:spPr>
          <a:xfrm>
            <a:off x="479880" y="549360"/>
            <a:ext cx="2442240" cy="581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UBIC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1"/>
          <a:srcRect l="39690" t="52921" r="43302" b="37001"/>
          <a:stretch/>
        </p:blipFill>
        <p:spPr>
          <a:xfrm>
            <a:off x="3924360" y="1844640"/>
            <a:ext cx="4103640" cy="1368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"/>
          <p:cNvPicPr/>
          <p:nvPr/>
        </p:nvPicPr>
        <p:blipFill>
          <a:blip r:embed="rId2"/>
          <a:srcRect l="39690" t="61840" r="43302" b="27241"/>
          <a:stretch/>
        </p:blipFill>
        <p:spPr>
          <a:xfrm>
            <a:off x="971640" y="4149720"/>
            <a:ext cx="3987720" cy="1440000"/>
          </a:xfrm>
          <a:prstGeom prst="rect">
            <a:avLst/>
          </a:prstGeom>
          <a:ln w="0">
            <a:noFill/>
          </a:ln>
        </p:spPr>
      </p:pic>
      <p:sp>
        <p:nvSpPr>
          <p:cNvPr id="170" name="3 CuadroTexto"/>
          <p:cNvSpPr/>
          <p:nvPr/>
        </p:nvSpPr>
        <p:spPr>
          <a:xfrm>
            <a:off x="4057920" y="1341360"/>
            <a:ext cx="38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CALA VISUAL ANÁLOGA “EV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4 CuadroTexto"/>
          <p:cNvSpPr/>
          <p:nvPr/>
        </p:nvSpPr>
        <p:spPr>
          <a:xfrm>
            <a:off x="960840" y="3645000"/>
            <a:ext cx="392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CALA VISUAL NUMÉRICA “EV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6 CuadroTexto"/>
          <p:cNvSpPr/>
          <p:nvPr/>
        </p:nvSpPr>
        <p:spPr>
          <a:xfrm>
            <a:off x="552240" y="620640"/>
            <a:ext cx="2644920" cy="581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INTENS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6 CuadroTexto"/>
          <p:cNvSpPr/>
          <p:nvPr/>
        </p:nvSpPr>
        <p:spPr>
          <a:xfrm>
            <a:off x="5239800" y="3933720"/>
            <a:ext cx="3388680" cy="2014200"/>
          </a:xfrm>
          <a:prstGeom prst="rect">
            <a:avLst/>
          </a:prstGeom>
          <a:noFill/>
          <a:ln w="9360">
            <a:solidFill>
              <a:srgbClr val="1e1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uto-administr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ermite uso regular consist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monitor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Resultado de imagen para incidental pain"/>
          <p:cNvPicPr/>
          <p:nvPr/>
        </p:nvPicPr>
        <p:blipFill>
          <a:blip r:embed="rId1"/>
          <a:stretch/>
        </p:blipFill>
        <p:spPr>
          <a:xfrm>
            <a:off x="684360" y="114300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75" name="2 CuadroTexto"/>
          <p:cNvSpPr/>
          <p:nvPr/>
        </p:nvSpPr>
        <p:spPr>
          <a:xfrm>
            <a:off x="1437840" y="620640"/>
            <a:ext cx="61761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volución del dolor en el transcurso del dí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Dolor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pisódico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? ¿Crisis de dol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Tipos de dolor episódic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914400" y="220464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Causado por un gatillo (“dolor incidental”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Repentino (“irruptivo”, dolor neuropático?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De fin de dosis (“brecha analgésica”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3 CuadroTexto"/>
          <p:cNvSpPr/>
          <p:nvPr/>
        </p:nvSpPr>
        <p:spPr>
          <a:xfrm>
            <a:off x="4986360" y="6093000"/>
            <a:ext cx="36795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ra-Solares A., 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Pain Manag 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17375e"/>
                </a:solidFill>
                <a:latin typeface="Calibri"/>
              </a:rPr>
              <a:t>DOLOR SOMÁTICO SEVERO 9/10 EN PACIENTE PORTADOR DE UN HIPERNEFROMA METASTÁSI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" descr="weber4"/>
          <p:cNvPicPr/>
          <p:nvPr/>
        </p:nvPicPr>
        <p:blipFill>
          <a:blip r:embed="rId1"/>
          <a:stretch/>
        </p:blipFill>
        <p:spPr>
          <a:xfrm>
            <a:off x="2050920" y="2133720"/>
            <a:ext cx="5113440" cy="42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Enfrentamiento dolor oncológic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5" descr="weber4"/>
          <p:cNvPicPr/>
          <p:nvPr/>
        </p:nvPicPr>
        <p:blipFill>
          <a:blip r:embed="rId1"/>
          <a:stretch/>
        </p:blipFill>
        <p:spPr>
          <a:xfrm>
            <a:off x="2340000" y="2492280"/>
            <a:ext cx="4343400" cy="3579840"/>
          </a:xfrm>
          <a:prstGeom prst="rect">
            <a:avLst/>
          </a:prstGeom>
          <a:ln w="0">
            <a:noFill/>
          </a:ln>
        </p:spPr>
      </p:pic>
      <p:sp>
        <p:nvSpPr>
          <p:cNvPr id="181" name="7 Rectángulo"/>
          <p:cNvSpPr/>
          <p:nvPr/>
        </p:nvSpPr>
        <p:spPr>
          <a:xfrm>
            <a:off x="250920" y="1844640"/>
            <a:ext cx="4392360" cy="151128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TRATAMIENTO DEL CÁN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4646520" y="1589040"/>
            <a:ext cx="3718080" cy="202248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Arial"/>
                <a:ea typeface="Arial"/>
              </a:rPr>
              <a:t>MANEJO FARMACOÓG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Arial"/>
                <a:ea typeface="Arial"/>
              </a:rPr>
              <a:t>ANALGÉS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7"/>
          <p:cNvSpPr/>
          <p:nvPr/>
        </p:nvSpPr>
        <p:spPr>
          <a:xfrm>
            <a:off x="0" y="3213000"/>
            <a:ext cx="4608360" cy="3311640"/>
          </a:xfrm>
          <a:prstGeom prst="ellipse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RADIOTERAP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QUIMIOTERAP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HORMO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BISFOSFON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TERAPIAS BIOLÓG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CIRU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2"/>
          <p:cNvSpPr/>
          <p:nvPr/>
        </p:nvSpPr>
        <p:spPr>
          <a:xfrm>
            <a:off x="4738680" y="4062240"/>
            <a:ext cx="3718080" cy="202104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Arial"/>
                <a:ea typeface="Arial"/>
              </a:rPr>
              <a:t>MANEJO FACT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Arial"/>
                <a:ea typeface="Arial"/>
              </a:rPr>
              <a:t>MODUL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Manejo farmacológico del dolor oncológico</a:t>
            </a:r>
            <a:br>
              <a:rPr sz="4400"/>
            </a:b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Indicado siempre que la intensidad sea considerada significativa por el paciente o 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cuantificado en ≥ 4/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Manejo farmacológico general del dolor oncológico basado en la escala de la OM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90720" y="610200"/>
            <a:ext cx="734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189" name="Object 2"/>
          <p:cNvGraphicFramePr/>
          <p:nvPr/>
        </p:nvGraphicFramePr>
        <p:xfrm>
          <a:off x="382680" y="457200"/>
          <a:ext cx="8489880" cy="58816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680" y="457200"/>
                    <a:ext cx="8489880" cy="5881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720" y="610200"/>
            <a:ext cx="734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192" name="Object 2"/>
          <p:cNvGraphicFramePr/>
          <p:nvPr/>
        </p:nvGraphicFramePr>
        <p:xfrm>
          <a:off x="428760" y="571680"/>
          <a:ext cx="8297640" cy="57466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571680"/>
                    <a:ext cx="8297640" cy="5746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Calibri"/>
              </a:rPr>
              <a:t>Aplicación general Escala 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4000" y="2133360"/>
            <a:ext cx="871200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alibri"/>
              </a:rPr>
              <a:t>Escalón I</a:t>
            </a: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: Dolor le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alibri"/>
              </a:rPr>
              <a:t>Escalón II</a:t>
            </a: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: Dolor leve a moderado o no respondedor a Escalón 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alibri"/>
              </a:rPr>
              <a:t>Escalón III</a:t>
            </a: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: Dolor moderado a sever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236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Analgésicos adyuvantes</a:t>
            </a:r>
            <a:br>
              <a:rPr sz="2900"/>
            </a:br>
            <a:r>
              <a:rPr b="0" lang="es-CL" sz="2900" spc="-1" strike="noStrike">
                <a:solidFill>
                  <a:srgbClr val="ffff00"/>
                </a:solidFill>
                <a:latin typeface="Calibri"/>
              </a:rPr>
              <a:t> </a:t>
            </a:r>
            <a:br>
              <a:rPr sz="2900"/>
            </a:br>
            <a:br>
              <a:rPr sz="2200"/>
            </a:br>
            <a:br>
              <a:rPr sz="32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Son fármacos que tienen propiedades farmacológicas primarias no analgésicas, pero que pueden producir efecto analgésico en algunos síndromes de dolor oncológic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236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r>
              <a:rPr b="1" lang="es-CL" sz="2900" spc="-1" strike="noStrike">
                <a:solidFill>
                  <a:srgbClr val="000000"/>
                </a:solidFill>
                <a:latin typeface="Calibri"/>
              </a:rPr>
              <a:t>Analgésicos adyuvantes</a:t>
            </a:r>
            <a:br>
              <a:rPr sz="2900"/>
            </a:br>
            <a:br>
              <a:rPr sz="2900"/>
            </a:br>
            <a:br>
              <a:rPr sz="2200"/>
            </a:br>
            <a:br>
              <a:rPr sz="32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1332000" y="1628640"/>
          <a:ext cx="6672240" cy="4087800"/>
        </p:xfrm>
        <a:graphic>
          <a:graphicData uri="http://schemas.openxmlformats.org/drawingml/2006/table">
            <a:tbl>
              <a:tblPr/>
              <a:tblGrid>
                <a:gridCol w="3336840"/>
                <a:gridCol w="3335400"/>
              </a:tblGrid>
              <a:tr h="725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Adyuva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Indic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872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. Tricíclico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loqueadores Ca Calci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lor neuropát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25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sfosfonato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nosuma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ástasis óse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3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tisecretor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rticoid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strucción intestinal malig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25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rticoid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pertensión endocrane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resión med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720" y="610200"/>
            <a:ext cx="734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201" name="Object 2"/>
          <p:cNvGraphicFramePr/>
          <p:nvPr/>
        </p:nvGraphicFramePr>
        <p:xfrm>
          <a:off x="428760" y="571680"/>
          <a:ext cx="8297640" cy="57466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571680"/>
                    <a:ext cx="8297640" cy="5746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03" name="3 Rectángulo"/>
          <p:cNvSpPr/>
          <p:nvPr/>
        </p:nvSpPr>
        <p:spPr>
          <a:xfrm>
            <a:off x="4500720" y="4797360"/>
            <a:ext cx="2232000" cy="7192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1128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fr-BE" sz="4000" spc="-1" strike="noStrike">
                <a:solidFill>
                  <a:srgbClr val="000000"/>
                </a:solidFill>
                <a:latin typeface="Franklin Gothic Book"/>
              </a:rPr>
              <a:t>Escalón I OMS: Dolor Leve</a:t>
            </a:r>
            <a:br>
              <a:rPr sz="2800"/>
            </a:br>
            <a:br>
              <a:rPr sz="2800"/>
            </a:b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Acetaminofeno (Paracetamol) y AINEs</a:t>
            </a:r>
            <a:br>
              <a:rPr sz="2800"/>
            </a:br>
            <a:br>
              <a:rPr sz="2800"/>
            </a:b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 EFECTIVOS</a:t>
            </a:r>
            <a:br>
              <a:rPr sz="2800"/>
            </a:b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 EFECTO POTENCIADOR DE OPIOIDES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Oval 2"/>
          <p:cNvSpPr/>
          <p:nvPr/>
        </p:nvSpPr>
        <p:spPr>
          <a:xfrm>
            <a:off x="2743200" y="2847960"/>
            <a:ext cx="3200400" cy="1647720"/>
          </a:xfrm>
          <a:prstGeom prst="ellipse">
            <a:avLst/>
          </a:prstGeom>
          <a:solidFill>
            <a:srgbClr val="1f497d"/>
          </a:solidFill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Symbol"/>
                <a:ea typeface="Symbol"/>
              </a:rPr>
              <a:t></a:t>
            </a:r>
            <a:r>
              <a:rPr b="1" lang="en-US" sz="3200" spc="-1" strike="noStrike">
                <a:solidFill>
                  <a:srgbClr val="eeece1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eeece1"/>
                </a:solidFill>
                <a:latin typeface="Arial Black"/>
              </a:rPr>
              <a:t>P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Arial Black"/>
              </a:rPr>
              <a:t>Inten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3"/>
          <p:cNvSpPr/>
          <p:nvPr/>
        </p:nvSpPr>
        <p:spPr>
          <a:xfrm flipH="1" flipV="1">
            <a:off x="3580920" y="1828440"/>
            <a:ext cx="381240" cy="10191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4"/>
          <p:cNvSpPr/>
          <p:nvPr/>
        </p:nvSpPr>
        <p:spPr>
          <a:xfrm flipH="1">
            <a:off x="3123720" y="4495680"/>
            <a:ext cx="685800" cy="10670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5"/>
          <p:cNvSpPr/>
          <p:nvPr/>
        </p:nvSpPr>
        <p:spPr>
          <a:xfrm flipH="1">
            <a:off x="2057400" y="4114800"/>
            <a:ext cx="914400" cy="6094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6"/>
          <p:cNvSpPr/>
          <p:nvPr/>
        </p:nvSpPr>
        <p:spPr>
          <a:xfrm>
            <a:off x="2286000" y="2514600"/>
            <a:ext cx="914400" cy="595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380880" y="4525920"/>
            <a:ext cx="1752840" cy="649080"/>
          </a:xfrm>
          <a:prstGeom prst="rect">
            <a:avLst/>
          </a:prstGeom>
          <a:solidFill>
            <a:srgbClr val="002060"/>
          </a:solidFill>
          <a:ln w="316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 Black"/>
              </a:rPr>
              <a:t>Chem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 Black"/>
              </a:rPr>
              <a:t>Co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228600" y="2209680"/>
            <a:ext cx="1981080" cy="398880"/>
          </a:xfrm>
          <a:prstGeom prst="rect">
            <a:avLst/>
          </a:prstGeom>
          <a:solidFill>
            <a:srgbClr val="333333"/>
          </a:solidFill>
          <a:ln w="316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 Black"/>
              </a:rPr>
              <a:t>Ischem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2438280" y="1371600"/>
            <a:ext cx="2362320" cy="398880"/>
          </a:xfrm>
          <a:prstGeom prst="rect">
            <a:avLst/>
          </a:prstGeom>
          <a:solidFill>
            <a:srgbClr val="00b050"/>
          </a:solidFill>
          <a:ln w="316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eece1"/>
                </a:solidFill>
                <a:latin typeface="Arial Black"/>
              </a:rPr>
              <a:t>Tumor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5486400" y="1523880"/>
            <a:ext cx="1523880" cy="398880"/>
          </a:xfrm>
          <a:prstGeom prst="rect">
            <a:avLst/>
          </a:prstGeom>
          <a:solidFill>
            <a:srgbClr val="002060"/>
          </a:solidFill>
          <a:ln w="316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 Black"/>
              </a:rPr>
              <a:t>Inf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4800600" y="5410080"/>
            <a:ext cx="1676520" cy="703800"/>
          </a:xfrm>
          <a:prstGeom prst="rect">
            <a:avLst/>
          </a:prstGeom>
          <a:solidFill>
            <a:srgbClr val="c00000"/>
          </a:solidFill>
          <a:ln w="316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 Black"/>
              </a:rPr>
              <a:t>Opioid Tole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1981080" y="5562720"/>
            <a:ext cx="1981440" cy="398880"/>
          </a:xfrm>
          <a:prstGeom prst="rect">
            <a:avLst/>
          </a:prstGeom>
          <a:solidFill>
            <a:srgbClr val="660066"/>
          </a:solidFill>
          <a:ln w="316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 Black"/>
              </a:rPr>
              <a:t>Delir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3"/>
          <p:cNvSpPr/>
          <p:nvPr/>
        </p:nvSpPr>
        <p:spPr>
          <a:xfrm flipH="1">
            <a:off x="5028840" y="1981080"/>
            <a:ext cx="10666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4"/>
          <p:cNvSpPr/>
          <p:nvPr/>
        </p:nvSpPr>
        <p:spPr>
          <a:xfrm flipH="1" flipV="1">
            <a:off x="4876920" y="4495320"/>
            <a:ext cx="380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5"/>
          <p:cNvSpPr/>
          <p:nvPr/>
        </p:nvSpPr>
        <p:spPr>
          <a:xfrm>
            <a:off x="7162920" y="2438280"/>
            <a:ext cx="1523880" cy="398880"/>
          </a:xfrm>
          <a:prstGeom prst="rect">
            <a:avLst/>
          </a:prstGeom>
          <a:solidFill>
            <a:srgbClr val="660066"/>
          </a:solidFill>
          <a:ln w="316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 Black"/>
              </a:rPr>
              <a:t>Fra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6"/>
          <p:cNvSpPr/>
          <p:nvPr/>
        </p:nvSpPr>
        <p:spPr>
          <a:xfrm flipH="1">
            <a:off x="5791320" y="2590920"/>
            <a:ext cx="129528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7"/>
          <p:cNvSpPr/>
          <p:nvPr/>
        </p:nvSpPr>
        <p:spPr>
          <a:xfrm>
            <a:off x="6705720" y="4495680"/>
            <a:ext cx="1676160" cy="679320"/>
          </a:xfrm>
          <a:prstGeom prst="rect">
            <a:avLst/>
          </a:prstGeom>
          <a:solidFill>
            <a:srgbClr val="009900"/>
          </a:solidFill>
          <a:ln w="316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 Black"/>
              </a:rPr>
              <a:t>M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 Black"/>
              </a:rPr>
              <a:t>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8"/>
          <p:cNvSpPr/>
          <p:nvPr/>
        </p:nvSpPr>
        <p:spPr>
          <a:xfrm flipH="1" flipV="1">
            <a:off x="5562360" y="4266720"/>
            <a:ext cx="114300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9"/>
          <p:cNvSpPr/>
          <p:nvPr/>
        </p:nvSpPr>
        <p:spPr>
          <a:xfrm>
            <a:off x="5943600" y="3619440"/>
            <a:ext cx="3200400" cy="0"/>
          </a:xfrm>
          <a:prstGeom prst="line">
            <a:avLst/>
          </a:prstGeom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0"/>
          <p:cNvSpPr/>
          <p:nvPr/>
        </p:nvSpPr>
        <p:spPr>
          <a:xfrm>
            <a:off x="0" y="3619440"/>
            <a:ext cx="2743200" cy="0"/>
          </a:xfrm>
          <a:prstGeom prst="line">
            <a:avLst/>
          </a:prstGeom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1"/>
          <p:cNvSpPr/>
          <p:nvPr/>
        </p:nvSpPr>
        <p:spPr>
          <a:xfrm>
            <a:off x="2556000" y="1159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Cancer Rel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2"/>
          <p:cNvSpPr/>
          <p:nvPr/>
        </p:nvSpPr>
        <p:spPr>
          <a:xfrm>
            <a:off x="2987640" y="623736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Patient Rel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24 CuadroTexto"/>
          <p:cNvSpPr/>
          <p:nvPr/>
        </p:nvSpPr>
        <p:spPr>
          <a:xfrm>
            <a:off x="5724360" y="6308640"/>
            <a:ext cx="3419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Gentileza Dr.E.Bruera,MD Anderson 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2"/>
          <p:cNvSpPr/>
          <p:nvPr/>
        </p:nvSpPr>
        <p:spPr>
          <a:xfrm>
            <a:off x="2411280" y="4762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Cancer Rel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6080" y="1149480"/>
            <a:ext cx="77641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Calibri"/>
              </a:rPr>
              <a:t>PARACETAMOL </a:t>
            </a:r>
            <a:r>
              <a:rPr b="1" lang="es-CL" sz="2800" spc="-1" strike="noStrike">
                <a:solidFill>
                  <a:srgbClr val="000000"/>
                </a:solidFill>
                <a:latin typeface="Calibri"/>
              </a:rPr>
              <a:t>es un analgésico efectivo y seguro, pero: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Dosis recomendadas: 650-1000 mg c/6 hrs (≤ 3g/día en A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Interactúa con otros fármacos:  Inductores P450, Isoniazida y Warfarina (prolongación IN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En daño hepático leve o sustitución tumoral extensa: máximo 2-3 g/dí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Contraindicado en daño hepático seve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Sin un rol claro en dolor oncológico moderado a severo junto a opioi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Calibri"/>
              </a:rPr>
              <a:t>* Precaución con formulaciones combinadas  X Ejemplo: Zaldiar con tramal 37.5 + acetaminofeno 325/do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Box 3"/>
          <p:cNvSpPr/>
          <p:nvPr/>
        </p:nvSpPr>
        <p:spPr>
          <a:xfrm>
            <a:off x="3079800" y="59389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Wiffen PJ</a:t>
            </a:r>
            <a:r>
              <a:rPr b="0" lang="en-CA" sz="18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0" lang="en-CA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Cochrane Database Syst Rev.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 2017 Jul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6 CuadroTexto"/>
          <p:cNvSpPr/>
          <p:nvPr/>
        </p:nvSpPr>
        <p:spPr>
          <a:xfrm>
            <a:off x="756720" y="6310440"/>
            <a:ext cx="80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National Comprehensive Cancer Network. Adult Cancer Pain, Version 2.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11280" y="62244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Calibri"/>
              </a:rPr>
              <a:t>AIN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85800" y="23493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Son analgésicos efectiv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Dolor óseo y tejidos inflamados</a:t>
            </a:r>
            <a:br>
              <a:rPr sz="2200"/>
            </a:br>
            <a:br>
              <a:rPr sz="2200"/>
            </a:br>
            <a:r>
              <a:rPr b="0" lang="fr-BE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Box 5"/>
          <p:cNvSpPr/>
          <p:nvPr/>
        </p:nvSpPr>
        <p:spPr>
          <a:xfrm>
            <a:off x="3422520" y="4941720"/>
            <a:ext cx="497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isenberg E.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J Clin Oncol. 19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cNicol E.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Cochrane Database Syst Rev.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abal M.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Palliat Med.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Calibri"/>
              </a:rPr>
              <a:t>AINE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300" spc="-1" strike="noStrike">
                <a:solidFill>
                  <a:srgbClr val="000000"/>
                </a:solidFill>
                <a:latin typeface="Calibri"/>
              </a:rPr>
              <a:t>Su uso está limitado por: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Calibri"/>
              </a:rPr>
              <a:t>Efecto techo según dosis máxima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Calibri"/>
              </a:rPr>
              <a:t>Riesgo de efectos adversos significativos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Cardiovascula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Gastrointestin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Ren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22160" y="692280"/>
            <a:ext cx="79963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Calibri"/>
              </a:rPr>
              <a:t>Efectos Adversos por AINES se asocian a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88880" y="263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BE" sz="3600" spc="-1" strike="noStrike">
                <a:solidFill>
                  <a:srgbClr val="000000"/>
                </a:solidFill>
                <a:latin typeface="Calibri"/>
              </a:rPr>
              <a:t>Selectividad COX 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BE" sz="3600" spc="-1" strike="noStrike">
                <a:solidFill>
                  <a:srgbClr val="000000"/>
                </a:solidFill>
                <a:latin typeface="Calibri"/>
              </a:rPr>
              <a:t>Dos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BE" sz="3600" spc="-1" strike="noStrike">
                <a:solidFill>
                  <a:srgbClr val="000000"/>
                </a:solidFill>
                <a:latin typeface="Calibri"/>
              </a:rPr>
              <a:t>Tiempo de uso </a:t>
            </a:r>
            <a:r>
              <a:rPr b="0" lang="fr-BE" sz="29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700" spc="-1" strike="noStrike">
                <a:solidFill>
                  <a:srgbClr val="000000"/>
                </a:solidFill>
                <a:latin typeface="Calibri"/>
              </a:rPr>
              <a:t>*Muy pocos datos en uso agud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8920" y="836280"/>
            <a:ext cx="8728200" cy="18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Calibri"/>
              </a:rPr>
              <a:t>Riesgo CardioVascular AINES</a:t>
            </a:r>
            <a:r>
              <a:rPr b="0" lang="es-CL" sz="36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3600"/>
            </a:br>
            <a:r>
              <a:rPr b="0" lang="es-CL" sz="3600" spc="-1" strike="noStrike">
                <a:solidFill>
                  <a:srgbClr val="000000"/>
                </a:solidFill>
                <a:latin typeface="Calibri"/>
              </a:rPr>
              <a:t> Insuf.Cardíaca,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CL" sz="3600" spc="-1" strike="noStrike">
                <a:solidFill>
                  <a:srgbClr val="000000"/>
                </a:solidFill>
                <a:latin typeface="Calibri"/>
              </a:rPr>
              <a:t>IAM, AVE, fallecimiento</a:t>
            </a:r>
            <a:r>
              <a:rPr b="0" lang="es-CL" sz="4800" spc="-1" strike="noStrike">
                <a:solidFill>
                  <a:srgbClr val="000000"/>
                </a:solidFill>
                <a:latin typeface="Calibri"/>
              </a:rPr>
              <a:t> cv</a:t>
            </a:r>
            <a:br>
              <a:rPr sz="3200"/>
            </a:br>
            <a:br>
              <a:rPr sz="32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11280" y="2349360"/>
            <a:ext cx="8229600" cy="23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Riesgo CV significativ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Celecoxib tendría riesgo similar a otros AI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Naproxeno también tiene riesgo CV asocia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Box 3"/>
          <p:cNvSpPr/>
          <p:nvPr/>
        </p:nvSpPr>
        <p:spPr>
          <a:xfrm>
            <a:off x="4132440" y="5494320"/>
            <a:ext cx="375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Michelle B, BMJ 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Bhala N , Lancet.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3"/>
          <p:cNvSpPr/>
          <p:nvPr/>
        </p:nvSpPr>
        <p:spPr>
          <a:xfrm>
            <a:off x="4132440" y="6060960"/>
            <a:ext cx="43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issen SE , N Eng J Med 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98600" y="475920"/>
            <a:ext cx="8229600" cy="18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Calibri"/>
              </a:rPr>
              <a:t>Riesgo Gastrointestinal x AINES:</a:t>
            </a:r>
            <a:r>
              <a:rPr b="0" lang="es-CL" sz="3600" spc="-1" strike="noStrike">
                <a:solidFill>
                  <a:srgbClr val="ffff00"/>
                </a:solidFill>
                <a:latin typeface="Calibri"/>
              </a:rPr>
              <a:t> </a:t>
            </a:r>
            <a:br>
              <a:rPr sz="3600"/>
            </a:br>
            <a:r>
              <a:rPr b="0" lang="es-CL" sz="3600" spc="-1" strike="noStrike">
                <a:solidFill>
                  <a:srgbClr val="000000"/>
                </a:solidFill>
                <a:latin typeface="Calibri"/>
              </a:rPr>
              <a:t>dispepsia, úlcera péptica, hemorragia digestiv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826920" y="2852640"/>
            <a:ext cx="8229600" cy="23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Riesgo &gt; con AINES NS que con COX 2 y con uso crónico (1-2% añ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Box 3"/>
          <p:cNvSpPr/>
          <p:nvPr/>
        </p:nvSpPr>
        <p:spPr>
          <a:xfrm>
            <a:off x="4924440" y="556416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issen SE , N Eng J Med 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3"/>
          <p:cNvSpPr/>
          <p:nvPr/>
        </p:nvSpPr>
        <p:spPr>
          <a:xfrm>
            <a:off x="2540520" y="5977080"/>
            <a:ext cx="579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oldstein JL, Drug, Healthcare and Patient Safety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8964720" cy="18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Calibri"/>
              </a:rPr>
              <a:t>Toxicidad Renal x AINES:</a:t>
            </a:r>
            <a:r>
              <a:rPr b="0" lang="es-CL" sz="3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600"/>
            </a:br>
            <a:r>
              <a:rPr b="0" lang="es-CL" sz="3600" spc="-1" strike="noStrike">
                <a:solidFill>
                  <a:srgbClr val="000000"/>
                </a:solidFill>
                <a:latin typeface="Calibri"/>
              </a:rPr>
              <a:t>AKI, ATN, Nefritis insterticial, nefropatía crónic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71600" y="276048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CL" sz="3600" spc="-1" strike="noStrike">
                <a:solidFill>
                  <a:srgbClr val="000000"/>
                </a:solidFill>
                <a:latin typeface="Calibri"/>
              </a:rPr>
              <a:t>Afecta a 1-5% de usuarios de AIN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Calibri"/>
              </a:rPr>
              <a:t>Tantos con AINES NS como con COX-2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Box 3"/>
          <p:cNvSpPr/>
          <p:nvPr/>
        </p:nvSpPr>
        <p:spPr>
          <a:xfrm>
            <a:off x="3935160" y="5964120"/>
            <a:ext cx="443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Whelton A., Am J Med. 1999;106(5B):13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Escalón I: Metamizol (Dipiron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826920" y="231300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Es una alternativa a los AINES en el manejo de dolor oncológico, por efectividad analgésica y un posible major perfil de efectos adverso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Box 3"/>
          <p:cNvSpPr/>
          <p:nvPr/>
        </p:nvSpPr>
        <p:spPr>
          <a:xfrm>
            <a:off x="3591360" y="5373720"/>
            <a:ext cx="4886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Gaertner J., Palliat Med.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 2017 Jan;31(1):26-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tsch Arztebl Int 2015; 112: 863–7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Características farmacológicas y bases del uso clínico de analgésicos opioides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Object 2"/>
          <p:cNvGraphicFramePr/>
          <p:nvPr/>
        </p:nvGraphicFramePr>
        <p:xfrm>
          <a:off x="971640" y="836640"/>
          <a:ext cx="7238880" cy="50133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836640"/>
                    <a:ext cx="7238880" cy="50133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34" name="1 Elipse"/>
          <p:cNvSpPr/>
          <p:nvPr/>
        </p:nvSpPr>
        <p:spPr>
          <a:xfrm>
            <a:off x="4140360" y="2133720"/>
            <a:ext cx="3673440" cy="23032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2 CuadroTexto"/>
          <p:cNvSpPr/>
          <p:nvPr/>
        </p:nvSpPr>
        <p:spPr>
          <a:xfrm>
            <a:off x="4244040" y="2754360"/>
            <a:ext cx="349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ff0000"/>
                </a:solidFill>
                <a:latin typeface="Arial"/>
              </a:rPr>
              <a:t>OPIOID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Resultado de imagen para dolor total"/>
          <p:cNvPicPr/>
          <p:nvPr/>
        </p:nvPicPr>
        <p:blipFill>
          <a:blip r:embed="rId1"/>
          <a:srcRect l="0" t="0" r="0" b="5478"/>
          <a:stretch/>
        </p:blipFill>
        <p:spPr>
          <a:xfrm>
            <a:off x="900000" y="836640"/>
            <a:ext cx="7128000" cy="5040360"/>
          </a:xfrm>
          <a:prstGeom prst="rect">
            <a:avLst/>
          </a:prstGeom>
          <a:ln w="0">
            <a:noFill/>
          </a:ln>
        </p:spPr>
      </p:pic>
      <p:sp>
        <p:nvSpPr>
          <p:cNvPr id="79" name="2 CuadroTexto"/>
          <p:cNvSpPr/>
          <p:nvPr/>
        </p:nvSpPr>
        <p:spPr>
          <a:xfrm>
            <a:off x="6024240" y="544500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icely Saun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90720" y="533520"/>
            <a:ext cx="73404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Franklin Gothic Book"/>
              </a:rPr>
              <a:t>Manejo farmacológico del dolor oncológi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7" name="Object 2"/>
          <p:cNvGraphicFramePr/>
          <p:nvPr/>
        </p:nvGraphicFramePr>
        <p:xfrm>
          <a:off x="990720" y="1447920"/>
          <a:ext cx="7238880" cy="50133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3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447920"/>
                    <a:ext cx="7238880" cy="50133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39" name="3 Rectángulo"/>
          <p:cNvSpPr/>
          <p:nvPr/>
        </p:nvSpPr>
        <p:spPr>
          <a:xfrm>
            <a:off x="5003640" y="4149720"/>
            <a:ext cx="2000520" cy="64296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Mecanismo de acción mixto: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 Tramadol y Tapentad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84360" y="270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Agonismo Mu centr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Inhibición de recaptura de monoaminas (serotonina/noradrenalin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Tramadol/Tapentadol: Evidencia limita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95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No está claro el rol de estos fármacos en el manejo de pacientes con dolor oncológico moderado a sever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Tramadol, Wiffen PJ, 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Cochrane Database Syst Rev. 2017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Tapentadol, Wiffen PJ, 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Cochrane Database Syst Rev.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1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i="1" lang="en-CA" sz="2900" spc="-1" strike="noStrike">
                <a:solidFill>
                  <a:srgbClr val="000000"/>
                </a:solidFill>
                <a:latin typeface="Calibri"/>
              </a:rPr>
              <a:t>Randomized Trial of Low-Dose Morphine Versus Weak Opioids in Moderate Cancer Pain.</a:t>
            </a:r>
            <a:br>
              <a:rPr sz="32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73512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Outcome 1°: ↓ ≥ 20% dol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Resultado: &gt; respuesta en grupo Morfina (≤ 30 mg/dí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88 % Morfina vs 58% Opioides débi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OR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= 6.18 (95% CI, 3.12 to 12.24) P&lt;0.0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* Sin diferencia en efectos advers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extBox 3"/>
          <p:cNvSpPr/>
          <p:nvPr/>
        </p:nvSpPr>
        <p:spPr>
          <a:xfrm>
            <a:off x="1055160" y="6210360"/>
            <a:ext cx="758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andieri E. Et al. J Clin Oncol. 2016 Feb;34(5):436-42. Epub 2015 Dec 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CL" sz="4000" spc="-1" strike="noStrike">
                <a:solidFill>
                  <a:srgbClr val="000000"/>
                </a:solidFill>
                <a:latin typeface="Calibri"/>
              </a:rPr>
              <a:t>Conclusión</a:t>
            </a: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735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En pacientes con cáncer y dolor moderado, bajas dosis de Morfina pueden ser igual o más efectivas que opioides débiles (codeína/tramal), con una tolerabilidad simil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Box 3"/>
          <p:cNvSpPr/>
          <p:nvPr/>
        </p:nvSpPr>
        <p:spPr>
          <a:xfrm>
            <a:off x="1055160" y="5802480"/>
            <a:ext cx="7588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andieri E. Et al. J Clin Oncol. 2016 Feb;34(5):436-42. Epub 2015 Dec 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720" y="533520"/>
            <a:ext cx="73404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Franklin Gothic Book"/>
              </a:rPr>
              <a:t>Manejo farmacológico del dolor oncológi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1" name="Object 2"/>
          <p:cNvGraphicFramePr/>
          <p:nvPr/>
        </p:nvGraphicFramePr>
        <p:xfrm>
          <a:off x="990720" y="1447920"/>
          <a:ext cx="7238880" cy="50133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447920"/>
                    <a:ext cx="7238880" cy="50133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53" name="3 Rectángulo"/>
          <p:cNvSpPr/>
          <p:nvPr/>
        </p:nvSpPr>
        <p:spPr>
          <a:xfrm>
            <a:off x="5219640" y="3141720"/>
            <a:ext cx="2000160" cy="64296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9" descr=""/>
          <p:cNvPicPr/>
          <p:nvPr/>
        </p:nvPicPr>
        <p:blipFill>
          <a:blip r:embed="rId1"/>
          <a:stretch/>
        </p:blipFill>
        <p:spPr>
          <a:xfrm>
            <a:off x="1692360" y="333360"/>
            <a:ext cx="5962680" cy="59626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</p:pic>
      <p:sp>
        <p:nvSpPr>
          <p:cNvPr id="259" name="6 Proceso"/>
          <p:cNvSpPr/>
          <p:nvPr/>
        </p:nvSpPr>
        <p:spPr>
          <a:xfrm>
            <a:off x="4788000" y="1989000"/>
            <a:ext cx="1512720" cy="3095640"/>
          </a:xfrm>
          <a:prstGeom prst="flowChartProcess">
            <a:avLst/>
          </a:prstGeom>
          <a:solidFill>
            <a:srgbClr val="4a452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Morf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Metad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Oxicod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Fentany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Perpetua"/>
              </a:rPr>
              <a:t>*</a:t>
            </a:r>
            <a:r>
              <a:rPr b="0" lang="fr-BE" sz="1800" spc="-1" strike="noStrike">
                <a:solidFill>
                  <a:srgbClr val="ffffff"/>
                </a:solidFill>
                <a:latin typeface="Perpetua"/>
              </a:rPr>
              <a:t>Buprenorf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7 Franja diagonal"/>
          <p:cNvSpPr/>
          <p:nvPr/>
        </p:nvSpPr>
        <p:spPr>
          <a:xfrm>
            <a:off x="1692360" y="333360"/>
            <a:ext cx="1800000" cy="1727280"/>
          </a:xfrm>
          <a:prstGeom prst="pie">
            <a:avLst/>
          </a:prstGeom>
          <a:solidFill>
            <a:srgbClr val="ddd9c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Rece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-339840" y="4222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Opioides Escalón I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53964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Son la base del manejo de dolor oncológico moderado a sever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Metanálisis han demostrado que su efectividad y perfil general de efectos adversos es comparab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xtBox 3"/>
          <p:cNvSpPr/>
          <p:nvPr/>
        </p:nvSpPr>
        <p:spPr>
          <a:xfrm>
            <a:off x="4088520" y="5002200"/>
            <a:ext cx="4618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tsch Arztebl Int 2015; 112: 863–7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raceni A.,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Palliat Med 2011; 25: 402–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King SJ.,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Palliat Med 2011; 25: 454–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igni A.,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Palliat Med 2011; 25: 471–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Caraceni A, Lancet Oncol 2012; 13: e58–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2" descr=""/>
          <p:cNvPicPr/>
          <p:nvPr/>
        </p:nvPicPr>
        <p:blipFill>
          <a:blip r:embed="rId1"/>
          <a:stretch/>
        </p:blipFill>
        <p:spPr>
          <a:xfrm>
            <a:off x="6613560" y="480960"/>
            <a:ext cx="1920960" cy="1440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Adormidera </a:t>
            </a:r>
            <a:br>
              <a:rPr sz="4400"/>
            </a:b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“Papaver somniferum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6191280" cy="4645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"/>
          <p:cNvPicPr/>
          <p:nvPr/>
        </p:nvPicPr>
        <p:blipFill>
          <a:blip r:embed="rId1"/>
          <a:srcRect l="22252" t="18125" r="19494" b="16156"/>
          <a:stretch/>
        </p:blipFill>
        <p:spPr>
          <a:xfrm>
            <a:off x="250920" y="549360"/>
            <a:ext cx="8591400" cy="5815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Fisiología básica del dolor de causa orgánic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RECEPTOR OPIOIDE: </a:t>
            </a:r>
            <a:br>
              <a:rPr sz="3200"/>
            </a:b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Receptor transmembrana acoplado a proteína 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5580000" y="1700280"/>
            <a:ext cx="3276720" cy="43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LOCALIZADOS en SISTEMA NERVIOSO CENTRAL  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PERIFÉRI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0" name="Picture 2" descr=""/>
          <p:cNvPicPr/>
          <p:nvPr/>
        </p:nvPicPr>
        <p:blipFill>
          <a:blip r:embed="rId1"/>
          <a:srcRect l="52127" t="20832" r="13261" b="19641"/>
          <a:stretch/>
        </p:blipFill>
        <p:spPr>
          <a:xfrm>
            <a:off x="971640" y="1557360"/>
            <a:ext cx="4579920" cy="4132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</p:pic>
      <p:sp>
        <p:nvSpPr>
          <p:cNvPr id="271" name="2 CuadroTexto"/>
          <p:cNvSpPr/>
          <p:nvPr/>
        </p:nvSpPr>
        <p:spPr>
          <a:xfrm>
            <a:off x="4160160" y="6093000"/>
            <a:ext cx="455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pioid Pharmacology, Pain Physician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5 CuadroTexto"/>
          <p:cNvSpPr/>
          <p:nvPr/>
        </p:nvSpPr>
        <p:spPr>
          <a:xfrm>
            <a:off x="980280" y="5732640"/>
            <a:ext cx="250164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PCR: Recep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oplado a proteína 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3" descr=""/>
          <p:cNvPicPr/>
          <p:nvPr/>
        </p:nvPicPr>
        <p:blipFill>
          <a:blip r:embed="rId1"/>
          <a:srcRect l="51501" t="13381" r="12800" b="11152"/>
          <a:stretch/>
        </p:blipFill>
        <p:spPr>
          <a:xfrm>
            <a:off x="2325600" y="476280"/>
            <a:ext cx="4353120" cy="5521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</p:pic>
      <p:pic>
        <p:nvPicPr>
          <p:cNvPr id="274" name="Picture 4" descr=""/>
          <p:cNvPicPr/>
          <p:nvPr/>
        </p:nvPicPr>
        <p:blipFill>
          <a:blip r:embed="rId2"/>
          <a:stretch/>
        </p:blipFill>
        <p:spPr>
          <a:xfrm>
            <a:off x="3995640" y="6165720"/>
            <a:ext cx="4657680" cy="493920"/>
          </a:xfrm>
          <a:prstGeom prst="rect">
            <a:avLst/>
          </a:prstGeom>
          <a:ln w="0">
            <a:noFill/>
          </a:ln>
        </p:spPr>
      </p:pic>
      <p:sp>
        <p:nvSpPr>
          <p:cNvPr id="275" name="3 Rectángulo redondeado"/>
          <p:cNvSpPr/>
          <p:nvPr/>
        </p:nvSpPr>
        <p:spPr>
          <a:xfrm>
            <a:off x="6156360" y="2708280"/>
            <a:ext cx="2496960" cy="180036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alibri"/>
              </a:rPr>
              <a:t>INHIBICIÓN TRANSMISIÓN NOCICEPTI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2" descr="Resultado de imagen para opioids mechanism of action"/>
          <p:cNvPicPr/>
          <p:nvPr/>
        </p:nvPicPr>
        <p:blipFill>
          <a:blip r:embed="rId1"/>
          <a:stretch/>
        </p:blipFill>
        <p:spPr>
          <a:xfrm>
            <a:off x="1979640" y="404640"/>
            <a:ext cx="5002200" cy="5666040"/>
          </a:xfrm>
          <a:prstGeom prst="rect">
            <a:avLst/>
          </a:prstGeom>
          <a:ln w="0">
            <a:noFill/>
          </a:ln>
        </p:spPr>
      </p:pic>
      <p:sp>
        <p:nvSpPr>
          <p:cNvPr id="277" name="2 CuadroTexto"/>
          <p:cNvSpPr/>
          <p:nvPr/>
        </p:nvSpPr>
        <p:spPr>
          <a:xfrm>
            <a:off x="4065840" y="6237360"/>
            <a:ext cx="47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esthesiology 12 2011, Vol.115, 1363-138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8507160" cy="5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Franklin Gothic Book"/>
              </a:rPr>
              <a:t>Opioides disponibles en Ch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4038480" cy="4525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1f497d"/>
                </a:solidFill>
                <a:latin typeface="Perpetua"/>
              </a:rPr>
              <a:t>Liberación inmedi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Perpetua"/>
              </a:rPr>
              <a:t>Inicio de tratamien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Perpetua"/>
              </a:rPr>
              <a:t>Crisis de dol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1640" y="1773360"/>
            <a:ext cx="4398840" cy="4525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1f497d"/>
                </a:solidFill>
                <a:latin typeface="Perpetua"/>
              </a:rPr>
              <a:t>Liberación prolonga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Perpetua"/>
              </a:rPr>
              <a:t>Dolor estable, controla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Perpetua"/>
              </a:rPr>
              <a:t>Usar en conjunto con liberación inmedi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6920" y="83664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Franklin Gothic Book"/>
              </a:rPr>
              <a:t>Opioides disponibles en Ch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4038480" cy="4525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1f497d"/>
                </a:solidFill>
                <a:latin typeface="Perpetua"/>
              </a:rPr>
              <a:t>Liberación inmedi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2060"/>
                </a:solidFill>
                <a:latin typeface="Perpetua"/>
              </a:rPr>
              <a:t>Morfina:</a:t>
            </a:r>
            <a:r>
              <a:rPr b="0" lang="es-CL" sz="2800" spc="-1" strike="noStrike">
                <a:solidFill>
                  <a:srgbClr val="000000"/>
                </a:solidFill>
                <a:latin typeface="Perpetua"/>
              </a:rPr>
              <a:t> ampollas y solución or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2060"/>
                </a:solidFill>
                <a:latin typeface="Perpetua"/>
              </a:rPr>
              <a:t>Metadona: </a:t>
            </a:r>
            <a:r>
              <a:rPr b="0" lang="es-CL" sz="2800" spc="-1" strike="noStrike">
                <a:solidFill>
                  <a:srgbClr val="000000"/>
                </a:solidFill>
                <a:latin typeface="Perpetua"/>
              </a:rPr>
              <a:t>ampollas y comprimid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2060"/>
                </a:solidFill>
                <a:latin typeface="Perpetua"/>
              </a:rPr>
              <a:t>Fentanyl: </a:t>
            </a:r>
            <a:r>
              <a:rPr b="0" lang="es-CL" sz="2800" spc="-1" strike="noStrike">
                <a:solidFill>
                  <a:srgbClr val="000000"/>
                </a:solidFill>
                <a:latin typeface="Perpetua"/>
              </a:rPr>
              <a:t>ampoll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643280" y="1916280"/>
            <a:ext cx="4183200" cy="4525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1f497d"/>
                </a:solidFill>
                <a:latin typeface="Perpetua"/>
              </a:rPr>
              <a:t>Liberación prolonga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2060"/>
                </a:solidFill>
                <a:latin typeface="Perpetua"/>
              </a:rPr>
              <a:t>Morfina:</a:t>
            </a: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 comprimidos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(M-Eslón c/12 hr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2060"/>
                </a:solidFill>
                <a:latin typeface="Perpetua"/>
              </a:rPr>
              <a:t>Oxicodona: </a:t>
            </a: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comprimidos (Oxycontin c/12 hr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2060"/>
                </a:solidFill>
                <a:latin typeface="Perpetua"/>
              </a:rPr>
              <a:t>Fentanyl : </a:t>
            </a: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parche</a:t>
            </a:r>
            <a:r>
              <a:rPr b="1" lang="es-CL" sz="2400" spc="-1" strike="noStrike">
                <a:solidFill>
                  <a:srgbClr val="002060"/>
                </a:solidFill>
                <a:latin typeface="Perpetu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2060"/>
                </a:solidFill>
                <a:latin typeface="Perpetua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(Durogesic 25 c/72 hr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2060"/>
                </a:solidFill>
                <a:latin typeface="Perpetua"/>
              </a:rPr>
              <a:t>Buprenorfina: </a:t>
            </a: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parche</a:t>
            </a:r>
            <a:r>
              <a:rPr b="1" lang="es-CL" sz="2400" spc="-1" strike="noStrike">
                <a:solidFill>
                  <a:srgbClr val="002060"/>
                </a:solidFill>
                <a:latin typeface="Perpetua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(Transtec 35 c/72hr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00"/>
                </a:solidFill>
                <a:latin typeface="Franklin Gothic Book"/>
              </a:rPr>
              <a:t>Escalón III OMS: MORFIN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539640" y="14842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Biodisponibilidad 30% aprox. (variable)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alibri"/>
              </a:rPr>
              <a:t>Relación vo:ev/sc ═ 3: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Disponible para uso: vo, ev, sc, 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Excreción renal: contraindicado en Insuf. Re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alibri"/>
              </a:rPr>
              <a:t>Dosis inicial en adultos 5 mg c/4 hrs v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684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fectiva y barata, pero riesgosa p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Vida media larga e impredecible (15 – 130 hr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Dificultad en estimar equi-analgesia con otros opioid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Interacción con otras drogas (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iesgo prolongación QT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Recomendación: dosis bajas iniciales monitorizando 7-14 días,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no usarla como dosis de rescate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, considerarla elección en casos de insuficiencia ren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1 Título"/>
          <p:cNvSpPr/>
          <p:nvPr/>
        </p:nvSpPr>
        <p:spPr>
          <a:xfrm>
            <a:off x="611280" y="189000"/>
            <a:ext cx="83534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00"/>
                </a:solidFill>
                <a:latin typeface="Franklin Gothic Book"/>
                <a:ea typeface="ＭＳ Ｐゴシック"/>
              </a:rPr>
              <a:t>Escalón III OMS: METADONA *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813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00"/>
                </a:solidFill>
                <a:latin typeface="Franklin Gothic Book"/>
              </a:rPr>
              <a:t>Escalón III OMS: Dolor Moderado/Severo </a:t>
            </a:r>
            <a:br>
              <a:rPr sz="3200"/>
            </a:br>
            <a:r>
              <a:rPr b="1" lang="fr-BE" sz="3200" spc="-1" strike="noStrike">
                <a:solidFill>
                  <a:srgbClr val="000000"/>
                </a:solidFill>
                <a:latin typeface="Franklin Gothic Book"/>
              </a:rPr>
              <a:t>SIN uso previo de opioides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26920" y="2924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Iniciar tratamiento con la menor dosis horaria recomendada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1447920" y="2895480"/>
            <a:ext cx="63244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1" name=""/>
          <p:cNvGraphicFramePr/>
          <p:nvPr/>
        </p:nvGraphicFramePr>
        <p:xfrm>
          <a:off x="1476360" y="1916280"/>
          <a:ext cx="6553080" cy="2952720"/>
        </p:xfrm>
        <a:graphic>
          <a:graphicData uri="http://schemas.openxmlformats.org/drawingml/2006/table">
            <a:tbl>
              <a:tblPr/>
              <a:tblGrid>
                <a:gridCol w="1538280"/>
                <a:gridCol w="1622520"/>
                <a:gridCol w="1230120"/>
                <a:gridCol w="825480"/>
                <a:gridCol w="1336680"/>
              </a:tblGrid>
              <a:tr h="574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000" spc="-1" strike="noStrike">
                          <a:solidFill>
                            <a:srgbClr val="000000"/>
                          </a:solidFill>
                          <a:latin typeface="Avenir Roman"/>
                          <a:ea typeface="Times New Roman"/>
                        </a:rPr>
                        <a:t>FÁRMA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000" spc="-1" strike="noStrike">
                          <a:solidFill>
                            <a:srgbClr val="000000"/>
                          </a:solidFill>
                          <a:latin typeface="Avenir Roman"/>
                          <a:ea typeface="Times New Roman"/>
                        </a:rPr>
                        <a:t>FÓRMULAS DISPONIB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000" spc="-1" strike="noStrike">
                          <a:solidFill>
                            <a:srgbClr val="000000"/>
                          </a:solidFill>
                          <a:latin typeface="Avenir Roman"/>
                          <a:ea typeface="Times New Roman"/>
                        </a:rPr>
                        <a:t>EN CHI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000" spc="-1" strike="noStrike">
                          <a:solidFill>
                            <a:srgbClr val="000000"/>
                          </a:solidFill>
                          <a:latin typeface="Avenir Roman"/>
                          <a:ea typeface="Times New Roman"/>
                        </a:rPr>
                        <a:t>DOSIS INICI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000" spc="-1" strike="noStrike">
                          <a:solidFill>
                            <a:srgbClr val="000000"/>
                          </a:solidFill>
                          <a:latin typeface="Avenir Roman"/>
                          <a:ea typeface="Times New Roman"/>
                        </a:rPr>
                        <a:t>DOSIS MÁXIMA DIA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000" spc="-1" strike="noStrike">
                          <a:solidFill>
                            <a:srgbClr val="000000"/>
                          </a:solidFill>
                          <a:latin typeface="Avenir Roman"/>
                          <a:ea typeface="Times New Roman"/>
                        </a:rPr>
                        <a:t>ELIMINACIÓN REN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957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000" spc="-1" strike="noStrike">
                          <a:solidFill>
                            <a:srgbClr val="000000"/>
                          </a:solidFill>
                          <a:latin typeface="Avenir Roman"/>
                          <a:ea typeface="Times New Roman"/>
                        </a:rPr>
                        <a:t>CODEÍ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venir Roman"/>
                          <a:ea typeface="Times New Roman"/>
                        </a:rPr>
                        <a:t>Comprimidos: 30-60 mg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venir Roman"/>
                          <a:ea typeface="Times New Roman"/>
                        </a:rPr>
                        <a:t>(Asociado Paracetamol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venir Roman"/>
                          <a:ea typeface="Times New Roman"/>
                        </a:rPr>
                        <a:t>Solución al 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venir Roman"/>
                          <a:ea typeface="Times New Roman"/>
                        </a:rPr>
                        <a:t>15 mg c/6 hrs v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venir Roman"/>
                          <a:ea typeface="Times New Roman"/>
                        </a:rPr>
                        <a:t>360 m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venir Roman"/>
                          <a:ea typeface="Times New Roman"/>
                        </a:rPr>
                        <a:t>Contraindicado en Insuficiencia ren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958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000" spc="-1" strike="noStrike">
                          <a:solidFill>
                            <a:srgbClr val="000000"/>
                          </a:solidFill>
                          <a:latin typeface="Avenir Roman"/>
                          <a:ea typeface="Times New Roman"/>
                        </a:rPr>
                        <a:t>TRAMADOL acción inmedia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venir Roman"/>
                          <a:ea typeface="Times New Roman"/>
                        </a:rPr>
                        <a:t>Gotas (100 mg/m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venir Roman"/>
                          <a:ea typeface="Times New Roman"/>
                        </a:rPr>
                        <a:t>Comprimidos: 50 mg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venir Roman"/>
                          <a:ea typeface="Times New Roman"/>
                        </a:rPr>
                        <a:t>Asociaciones con PCT: 37.5 mg + PCT 325 mg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venir Roman"/>
                          <a:ea typeface="Times New Roman"/>
                        </a:rPr>
                        <a:t>25 mg c/6 hrs v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venir Roman"/>
                          <a:ea typeface="Times New Roman"/>
                        </a:rPr>
                        <a:t>400 m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venir Roman"/>
                          <a:ea typeface="Times New Roman"/>
                        </a:rPr>
                        <a:t>Contraindicado en Insuficiencia ren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000" spc="-1" strike="noStrike">
                          <a:solidFill>
                            <a:srgbClr val="000000"/>
                          </a:solidFill>
                          <a:latin typeface="Avenir Roman"/>
                          <a:ea typeface="Times New Roman"/>
                        </a:rPr>
                        <a:t>TRAMADOL L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venir Roman"/>
                          <a:ea typeface="Times New Roman"/>
                        </a:rPr>
                        <a:t>Comprimido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venir Roman"/>
                          <a:ea typeface="Times New Roman"/>
                        </a:rPr>
                        <a:t>50- 100-150-200 mg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venir Roman"/>
                          <a:ea typeface="Times New Roman"/>
                        </a:rPr>
                        <a:t>50 mg c/12 hrs v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venir Roman"/>
                          <a:ea typeface="Times New Roman"/>
                        </a:rPr>
                        <a:t>400 mg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venir Roman"/>
                          <a:ea typeface="Times New Roman"/>
                        </a:rPr>
                        <a:t>Contraindicado en Insuficiencia ren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292" name="4 Título"/>
          <p:cNvSpPr/>
          <p:nvPr/>
        </p:nvSpPr>
        <p:spPr>
          <a:xfrm>
            <a:off x="395280" y="26028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olor moderad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osis iniciales recomendadas de opio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"/>
          <p:cNvSpPr/>
          <p:nvPr/>
        </p:nvSpPr>
        <p:spPr>
          <a:xfrm>
            <a:off x="579600" y="5758560"/>
            <a:ext cx="7622280" cy="55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000" spc="-1" strike="noStrike">
                <a:solidFill>
                  <a:srgbClr val="000000"/>
                </a:solidFill>
                <a:latin typeface="Avenir Roman"/>
              </a:rPr>
              <a:t>                                                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000" spc="-1" strike="noStrike">
                <a:solidFill>
                  <a:srgbClr val="000000"/>
                </a:solidFill>
                <a:latin typeface="Avenir Roman"/>
              </a:rPr>
              <a:t>                                                                                                                </a:t>
            </a:r>
            <a:r>
              <a:rPr b="0" i="1" lang="en-US" sz="1000" spc="-1" strike="noStrike">
                <a:solidFill>
                  <a:srgbClr val="000000"/>
                </a:solidFill>
                <a:latin typeface="Avenir Roman"/>
              </a:rPr>
              <a:t>Adaptado ESMO Guidelines for management of cancer pain 2018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4" name=""/>
          <p:cNvGraphicFramePr/>
          <p:nvPr/>
        </p:nvGraphicFramePr>
        <p:xfrm>
          <a:off x="1116000" y="1268280"/>
          <a:ext cx="6624720" cy="4392720"/>
        </p:xfrm>
        <a:graphic>
          <a:graphicData uri="http://schemas.openxmlformats.org/drawingml/2006/table">
            <a:tbl>
              <a:tblPr/>
              <a:tblGrid>
                <a:gridCol w="1398600"/>
                <a:gridCol w="2062080"/>
                <a:gridCol w="1960560"/>
                <a:gridCol w="1203480"/>
              </a:tblGrid>
              <a:tr h="538200"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000" spc="-1" strike="noStrike">
                          <a:solidFill>
                            <a:srgbClr val="000000"/>
                          </a:solidFill>
                          <a:latin typeface="Avenir Roman"/>
                          <a:ea typeface="Times New Roman"/>
                        </a:rPr>
                        <a:t>FÁRMA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000" spc="-1" strike="noStrike">
                          <a:solidFill>
                            <a:srgbClr val="000000"/>
                          </a:solidFill>
                          <a:latin typeface="Avenir Roman"/>
                          <a:ea typeface="Times New Roman"/>
                        </a:rPr>
                        <a:t>FORMULACIO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000" spc="-1" strike="noStrike">
                          <a:solidFill>
                            <a:srgbClr val="000000"/>
                          </a:solidFill>
                          <a:latin typeface="Avenir Roman"/>
                          <a:ea typeface="Times New Roman"/>
                        </a:rPr>
                        <a:t>DOSIS INICI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000" spc="-1" strike="noStrike">
                          <a:solidFill>
                            <a:srgbClr val="000000"/>
                          </a:solidFill>
                          <a:latin typeface="Avenir Roman"/>
                          <a:ea typeface="Times New Roman"/>
                        </a:rPr>
                        <a:t>INSUFICIENCIA REN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000" spc="-1" strike="noStrike">
                          <a:solidFill>
                            <a:srgbClr val="000000"/>
                          </a:solidFill>
                          <a:latin typeface="Avenir Roman"/>
                          <a:ea typeface="Times New Roman"/>
                        </a:rPr>
                        <a:t>MORFINA ACCIÓN RÁPI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venir Roman"/>
                          <a:ea typeface="Times New Roman"/>
                        </a:rPr>
                        <a:t>Ampollas 10 y 20  mg/m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venir Roman"/>
                          <a:ea typeface="Times New Roman"/>
                        </a:rPr>
                        <a:t>Jarabe 2% (20 mg/m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venir Roman"/>
                          <a:ea typeface="Times New Roman"/>
                        </a:rPr>
                        <a:t>Formulaciones magistra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venir Roman"/>
                          <a:ea typeface="Times New Roman"/>
                        </a:rPr>
                        <a:t>2 mg cada 4 hrs ev/sc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venir Roman"/>
                          <a:ea typeface="Times New Roman"/>
                        </a:rPr>
                        <a:t>5 mg c/4 hrs v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venir Roman"/>
                          <a:ea typeface="Times New Roman"/>
                        </a:rPr>
                        <a:t>Contraindic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80960"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000" spc="-1" strike="noStrike">
                          <a:solidFill>
                            <a:srgbClr val="000000"/>
                          </a:solidFill>
                          <a:latin typeface="Avenir Roman"/>
                          <a:ea typeface="Times New Roman"/>
                        </a:rPr>
                        <a:t>MORFINA ACCIÓN PROLONGAD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venir Roman"/>
                          <a:ea typeface="Times New Roman"/>
                        </a:rPr>
                        <a:t>Comprimidos 10-30-60 m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venir Roman"/>
                          <a:ea typeface="Times New Roman"/>
                        </a:rPr>
                        <a:t>10 mg c/12 hrs v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venir Roman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venir Roman"/>
                          <a:ea typeface="Times New Roman"/>
                        </a:rPr>
                        <a:t>Contraindic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000" spc="-1" strike="noStrike">
                          <a:solidFill>
                            <a:srgbClr val="000000"/>
                          </a:solidFill>
                          <a:latin typeface="Avenir Roman"/>
                          <a:ea typeface="Times New Roman"/>
                        </a:rPr>
                        <a:t>OXICODONA ACCIÓN PROLONGA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venir Roman"/>
                          <a:ea typeface="Times New Roman"/>
                        </a:rPr>
                        <a:t>Comprimidos 10-20 mg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venir Roman"/>
                          <a:ea typeface="Times New Roman"/>
                        </a:rPr>
                        <a:t>10 mg c/12 hrs v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venir Roman"/>
                          <a:ea typeface="Times New Roman"/>
                        </a:rPr>
                        <a:t>Contraindic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80960"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000" spc="-1" strike="noStrike">
                          <a:solidFill>
                            <a:srgbClr val="000000"/>
                          </a:solidFill>
                          <a:latin typeface="Avenir Roman"/>
                          <a:ea typeface="Times New Roman"/>
                        </a:rPr>
                        <a:t>FENTANILO TRANSDÉRMI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venir Roman"/>
                          <a:ea typeface="Times New Roman"/>
                        </a:rPr>
                        <a:t>Ampollas 100-500 mc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venir Roman"/>
                          <a:ea typeface="Times New Roman"/>
                        </a:rPr>
                        <a:t>Parches Durogesic 25-50 mc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venir Roman"/>
                          <a:ea typeface="Times New Roman"/>
                        </a:rPr>
                        <a:t>12,5 ug/h x B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venir Roman"/>
                          <a:ea typeface="Times New Roman"/>
                        </a:rPr>
                        <a:t>1/2 parche cada 72 h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venir Roman"/>
                          <a:ea typeface="Times New Roman"/>
                        </a:rPr>
                        <a:t>Se puede administr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000" spc="-1" strike="noStrike">
                          <a:solidFill>
                            <a:srgbClr val="000000"/>
                          </a:solidFill>
                          <a:latin typeface="Avenir Roman"/>
                          <a:ea typeface="Times New Roman"/>
                        </a:rPr>
                        <a:t>BUPRENORF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000" spc="-1" strike="noStrike">
                          <a:solidFill>
                            <a:srgbClr val="000000"/>
                          </a:solidFill>
                          <a:latin typeface="Avenir Roman"/>
                          <a:ea typeface="Times New Roman"/>
                        </a:rPr>
                        <a:t>TRANSDÉRM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venir Roman"/>
                          <a:ea typeface="Times New Roman"/>
                        </a:rPr>
                        <a:t>Parches Transtec 35 mc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venir Roman"/>
                          <a:ea typeface="Times New Roman"/>
                        </a:rPr>
                        <a:t>1/2 parche cada 72 h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venir Roman"/>
                          <a:ea typeface="Times New Roman"/>
                        </a:rPr>
                        <a:t>Se puede administr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41160"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000" spc="-1" strike="noStrike">
                          <a:solidFill>
                            <a:srgbClr val="000000"/>
                          </a:solidFill>
                          <a:latin typeface="Avenir Roman"/>
                          <a:ea typeface="Times New Roman"/>
                        </a:rPr>
                        <a:t>METADO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venir Roman"/>
                          <a:ea typeface="Times New Roman"/>
                        </a:rPr>
                        <a:t>Ampollas 10 mg/2 m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venir Roman"/>
                          <a:ea typeface="Times New Roman"/>
                        </a:rPr>
                        <a:t>Comprimidos 10 m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venir Roman"/>
                          <a:ea typeface="Times New Roman"/>
                        </a:rPr>
                        <a:t>Jarabes (discontinuad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venir Roman"/>
                          <a:ea typeface="Times New Roman"/>
                        </a:rPr>
                        <a:t>2-2.5 mg mg cada 8 hrs  e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venir Roman"/>
                          <a:ea typeface="Times New Roman"/>
                        </a:rPr>
                        <a:t>2-2.5 mg mg cada 8 hrs v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venir Roman"/>
                          <a:ea typeface="Times New Roman"/>
                        </a:rPr>
                        <a:t>Se puede administr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 gridSpan="4"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95" name="Rectangle 1"/>
          <p:cNvSpPr/>
          <p:nvPr/>
        </p:nvSpPr>
        <p:spPr>
          <a:xfrm>
            <a:off x="579600" y="5758560"/>
            <a:ext cx="7622280" cy="55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000" spc="-1" strike="noStrike">
                <a:solidFill>
                  <a:srgbClr val="000000"/>
                </a:solidFill>
                <a:latin typeface="Avenir Roman"/>
              </a:rPr>
              <a:t>                                                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000" spc="-1" strike="noStrike">
                <a:solidFill>
                  <a:srgbClr val="000000"/>
                </a:solidFill>
                <a:latin typeface="Avenir Roman"/>
              </a:rPr>
              <a:t>                                                                                                                </a:t>
            </a:r>
            <a:r>
              <a:rPr b="0" i="1" lang="en-US" sz="1000" spc="-1" strike="noStrike">
                <a:solidFill>
                  <a:srgbClr val="000000"/>
                </a:solidFill>
                <a:latin typeface="Avenir Roman"/>
              </a:rPr>
              <a:t>Adaptado ESMO Guidelines for management of cancer pain 2018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4 Título"/>
          <p:cNvSpPr/>
          <p:nvPr/>
        </p:nvSpPr>
        <p:spPr>
          <a:xfrm>
            <a:off x="395280" y="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olor moderado a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vero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osis iniciales recomendadas de opio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rcRect l="18900" t="15122" r="46609" b="16394"/>
          <a:stretch/>
        </p:blipFill>
        <p:spPr>
          <a:xfrm>
            <a:off x="1979640" y="476280"/>
            <a:ext cx="4707000" cy="5256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rcRect l="29684" t="69722" r="27057" b="26179"/>
          <a:stretch/>
        </p:blipFill>
        <p:spPr>
          <a:xfrm>
            <a:off x="1908000" y="5877000"/>
            <a:ext cx="5400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Franklin Gothic Book"/>
              </a:rPr>
              <a:t>Ejemplos de Dosis iniciales </a:t>
            </a:r>
            <a:br>
              <a:rPr sz="3600"/>
            </a:br>
            <a:r>
              <a:rPr b="0" lang="es-CL" sz="3600" spc="-1" strike="noStrike">
                <a:solidFill>
                  <a:srgbClr val="000000"/>
                </a:solidFill>
                <a:latin typeface="Franklin Gothic Book"/>
              </a:rPr>
              <a:t>con Formulaciones disponibles en Chi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Morfin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Oramorph: jarabe 20 mg/ml (16 gts)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5 mg (4 gts) cada 4 hrs vo (30 mg/día v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M-Eslón: 10 mg cada 12 hrs vo (20 mg/día v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Oxicodon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Oxycontin 10 mg cada 12 hrs v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Fentany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Durogesic 25, ½ parche cada 72 h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539640" y="256536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osis inicial en pacientes “vírgenes de opioides”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2 mg c/8 hrs v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No aumentar dosis antes de 5-7 dí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Aumentos de dosis ≤ 5 mg/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0" name="Picture 2" descr=""/>
          <p:cNvPicPr/>
          <p:nvPr/>
        </p:nvPicPr>
        <p:blipFill>
          <a:blip r:embed="rId1"/>
          <a:srcRect l="22207" t="24361" r="8336" b="45404"/>
          <a:stretch/>
        </p:blipFill>
        <p:spPr>
          <a:xfrm>
            <a:off x="539640" y="0"/>
            <a:ext cx="84250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Opioides de elección en PACIENTES ONCOLÓGCIOS CON Insuficiencia Re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25092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Metadon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Fentany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Rutas alternativas de administración a VO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arenteral EV/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SubCutánea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: efectivas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s-ES" sz="2800" spc="-1" strike="noStrike">
                <a:solidFill>
                  <a:srgbClr val="000000"/>
                </a:solidFill>
                <a:latin typeface="Calibri"/>
              </a:rPr>
              <a:t>Ejemplo: equivalencia </a:t>
            </a:r>
            <a:r>
              <a:rPr b="1" i="1" lang="es-ES" sz="2800" spc="-1" strike="noStrike">
                <a:solidFill>
                  <a:srgbClr val="000000"/>
                </a:solidFill>
                <a:latin typeface="Calibri"/>
              </a:rPr>
              <a:t>Morfina VO : EV/SC = 1:3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11160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NDICACION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olor severo: titulación rápi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isfag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Náuseas/vómit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ompromiso de concienc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Fin de vi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3 CuadroTexto"/>
          <p:cNvSpPr/>
          <p:nvPr/>
        </p:nvSpPr>
        <p:spPr>
          <a:xfrm>
            <a:off x="3511080" y="6021360"/>
            <a:ext cx="518256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* NO SE RECOMIENDA VÍA INTRAMUS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Titulación de opioides: 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Cuánto necesita mi paciente?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Dosis por horario regular + Dosis de resc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Dosis de rescate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10 % de la dosis total diaria de opioi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FORMULACIÓN DE ACCIÓN RÁPI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0000"/>
                </a:solidFill>
                <a:latin typeface="Franklin Gothic Book"/>
              </a:rPr>
              <a:t>Escalón III OMS: </a:t>
            </a:r>
            <a:br>
              <a:rPr sz="3600"/>
            </a:br>
            <a:r>
              <a:rPr b="1" lang="fr-BE" sz="3600" spc="-1" strike="noStrike">
                <a:solidFill>
                  <a:srgbClr val="000000"/>
                </a:solidFill>
                <a:latin typeface="Franklin Gothic Book"/>
              </a:rPr>
              <a:t>Opioides para Dolor Moderado/Severo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AutoShape 4"/>
          <p:cNvSpPr/>
          <p:nvPr/>
        </p:nvSpPr>
        <p:spPr>
          <a:xfrm>
            <a:off x="468360" y="1844640"/>
            <a:ext cx="8136000" cy="4191120"/>
          </a:xfrm>
          <a:prstGeom prst="horizontalScroll">
            <a:avLst>
              <a:gd name="adj" fmla="val 125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1f497d"/>
                </a:solidFill>
                <a:latin typeface="Baskerville Old Face"/>
              </a:rPr>
              <a:t>Buscar la Dosis correcta = Dosis 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1f497d"/>
                </a:solidFill>
                <a:latin typeface="Baskerville Old Face"/>
              </a:rPr>
              <a:t> </a:t>
            </a:r>
            <a:r>
              <a:rPr b="1" lang="es-ES" sz="3600" spc="-1" strike="noStrike">
                <a:solidFill>
                  <a:srgbClr val="1f497d"/>
                </a:solidFill>
                <a:latin typeface="Baskerville Old Face"/>
              </a:rPr>
              <a:t>fondo + dosis de rescate para encontr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1f497d"/>
                </a:solidFill>
                <a:latin typeface="Baskerville Old Face"/>
              </a:rPr>
              <a:t>los requerimientos de cada pacient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Recomendaciones generales uso escala analgésica OMS para pacientes oncológic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1" name="Picture 2" descr=""/>
          <p:cNvPicPr/>
          <p:nvPr/>
        </p:nvPicPr>
        <p:blipFill>
          <a:blip r:embed="rId1"/>
          <a:srcRect l="27407" t="31920" r="40940" b="41200"/>
          <a:stretch/>
        </p:blipFill>
        <p:spPr>
          <a:xfrm>
            <a:off x="1332000" y="1989000"/>
            <a:ext cx="6181560" cy="2952720"/>
          </a:xfrm>
          <a:prstGeom prst="rect">
            <a:avLst/>
          </a:prstGeom>
          <a:ln w="0">
            <a:noFill/>
          </a:ln>
        </p:spPr>
      </p:pic>
      <p:sp>
        <p:nvSpPr>
          <p:cNvPr id="312" name="4 CuadroTexto"/>
          <p:cNvSpPr/>
          <p:nvPr/>
        </p:nvSpPr>
        <p:spPr>
          <a:xfrm>
            <a:off x="5019840" y="5732640"/>
            <a:ext cx="3350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Caraceni A, Lancet Oncol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067280" y="1773360"/>
            <a:ext cx="7772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Calibri"/>
              </a:rPr>
              <a:t>« </a:t>
            </a:r>
            <a:r>
              <a:rPr b="1" lang="fr-BE" sz="3200" spc="-1" strike="noStrike" u="sng">
                <a:solidFill>
                  <a:srgbClr val="000000"/>
                </a:solidFill>
                <a:uFillTx/>
                <a:latin typeface="Calibri"/>
              </a:rPr>
              <a:t>Experiencia</a:t>
            </a:r>
            <a:r>
              <a:rPr b="0" lang="fr-BE" sz="3200" spc="-1" strike="noStrike">
                <a:solidFill>
                  <a:srgbClr val="000000"/>
                </a:solidFill>
                <a:latin typeface="Calibri"/>
              </a:rPr>
              <a:t> sensorial 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fr-BE" sz="3200" spc="-1" strike="noStrike">
                <a:solidFill>
                  <a:srgbClr val="000000"/>
                </a:solidFill>
                <a:latin typeface="Calibri"/>
              </a:rPr>
              <a:t>emocional desagradable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fr-BE" sz="3200" spc="-1" strike="noStrike">
                <a:solidFill>
                  <a:srgbClr val="000000"/>
                </a:solidFill>
                <a:latin typeface="Calibri"/>
              </a:rPr>
              <a:t>asociada a un daño tisula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fr-BE" sz="3200" spc="-1" strike="noStrike">
                <a:solidFill>
                  <a:srgbClr val="000000"/>
                </a:solidFill>
                <a:latin typeface="Calibri"/>
              </a:rPr>
              <a:t>real o potencial, o descrit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fr-BE" sz="3200" spc="-1" strike="noStrike">
                <a:solidFill>
                  <a:srgbClr val="000000"/>
                </a:solidFill>
                <a:latin typeface="Calibri"/>
              </a:rPr>
              <a:t>en términos que evoqu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fr-BE" sz="3200" spc="-1" strike="noStrike">
                <a:solidFill>
                  <a:srgbClr val="000000"/>
                </a:solidFill>
                <a:latin typeface="Calibri"/>
              </a:rPr>
              <a:t>dicho daño »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5" descr="alarma"/>
          <p:cNvPicPr/>
          <p:nvPr/>
        </p:nvPicPr>
        <p:blipFill>
          <a:blip r:embed="rId1"/>
          <a:stretch/>
        </p:blipFill>
        <p:spPr>
          <a:xfrm>
            <a:off x="646200" y="1916280"/>
            <a:ext cx="3047760" cy="38289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olor = Protecció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4 CuadroTexto"/>
          <p:cNvSpPr/>
          <p:nvPr/>
        </p:nvSpPr>
        <p:spPr>
          <a:xfrm>
            <a:off x="7314840" y="609300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IA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4667040" y="333360"/>
            <a:ext cx="375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DOLOR X Cán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Fisiopatolog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3"/>
          <p:cNvSpPr/>
          <p:nvPr/>
        </p:nvSpPr>
        <p:spPr>
          <a:xfrm>
            <a:off x="1066680" y="838080"/>
            <a:ext cx="2540160" cy="1500480"/>
          </a:xfrm>
          <a:custGeom>
            <a:avLst/>
            <a:gdLst>
              <a:gd name="textAreaLeft" fmla="*/ 0 w 2540160"/>
              <a:gd name="textAreaRight" fmla="*/ 2540160 w 2540160"/>
              <a:gd name="textAreaTop" fmla="*/ 0 h 1500480"/>
              <a:gd name="textAreaBottom" fmla="*/ 1500840 h 1500480"/>
            </a:gdLst>
            <a:ahLst/>
            <a:rect l="textAreaLeft" t="textAreaTop" r="textAreaRight" b="textAreaBottom"/>
            <a:pathLst>
              <a:path w="1600" h="945">
                <a:moveTo>
                  <a:pt x="1489" y="356"/>
                </a:moveTo>
                <a:cubicBezTo>
                  <a:pt x="1475" y="313"/>
                  <a:pt x="1466" y="303"/>
                  <a:pt x="1422" y="289"/>
                </a:cubicBezTo>
                <a:cubicBezTo>
                  <a:pt x="1393" y="260"/>
                  <a:pt x="1345" y="198"/>
                  <a:pt x="1300" y="178"/>
                </a:cubicBezTo>
                <a:cubicBezTo>
                  <a:pt x="1223" y="144"/>
                  <a:pt x="1245" y="164"/>
                  <a:pt x="1167" y="145"/>
                </a:cubicBezTo>
                <a:cubicBezTo>
                  <a:pt x="1105" y="130"/>
                  <a:pt x="1063" y="110"/>
                  <a:pt x="1000" y="100"/>
                </a:cubicBezTo>
                <a:cubicBezTo>
                  <a:pt x="902" y="34"/>
                  <a:pt x="782" y="18"/>
                  <a:pt x="667" y="0"/>
                </a:cubicBezTo>
                <a:cubicBezTo>
                  <a:pt x="552" y="4"/>
                  <a:pt x="437" y="2"/>
                  <a:pt x="322" y="12"/>
                </a:cubicBezTo>
                <a:cubicBezTo>
                  <a:pt x="246" y="19"/>
                  <a:pt x="169" y="128"/>
                  <a:pt x="111" y="167"/>
                </a:cubicBezTo>
                <a:cubicBezTo>
                  <a:pt x="89" y="201"/>
                  <a:pt x="78" y="234"/>
                  <a:pt x="55" y="267"/>
                </a:cubicBezTo>
                <a:cubicBezTo>
                  <a:pt x="23" y="428"/>
                  <a:pt x="68" y="229"/>
                  <a:pt x="22" y="367"/>
                </a:cubicBezTo>
                <a:cubicBezTo>
                  <a:pt x="12" y="396"/>
                  <a:pt x="0" y="456"/>
                  <a:pt x="0" y="456"/>
                </a:cubicBezTo>
                <a:cubicBezTo>
                  <a:pt x="4" y="508"/>
                  <a:pt x="3" y="560"/>
                  <a:pt x="11" y="611"/>
                </a:cubicBezTo>
                <a:cubicBezTo>
                  <a:pt x="21" y="674"/>
                  <a:pt x="146" y="753"/>
                  <a:pt x="200" y="789"/>
                </a:cubicBezTo>
                <a:cubicBezTo>
                  <a:pt x="241" y="845"/>
                  <a:pt x="286" y="906"/>
                  <a:pt x="344" y="945"/>
                </a:cubicBezTo>
                <a:cubicBezTo>
                  <a:pt x="426" y="941"/>
                  <a:pt x="508" y="940"/>
                  <a:pt x="589" y="934"/>
                </a:cubicBezTo>
                <a:cubicBezTo>
                  <a:pt x="621" y="931"/>
                  <a:pt x="667" y="878"/>
                  <a:pt x="667" y="878"/>
                </a:cubicBezTo>
                <a:cubicBezTo>
                  <a:pt x="686" y="820"/>
                  <a:pt x="666" y="866"/>
                  <a:pt x="711" y="811"/>
                </a:cubicBezTo>
                <a:cubicBezTo>
                  <a:pt x="791" y="714"/>
                  <a:pt x="795" y="755"/>
                  <a:pt x="978" y="745"/>
                </a:cubicBezTo>
                <a:cubicBezTo>
                  <a:pt x="1024" y="737"/>
                  <a:pt x="1068" y="731"/>
                  <a:pt x="1111" y="711"/>
                </a:cubicBezTo>
                <a:cubicBezTo>
                  <a:pt x="1156" y="690"/>
                  <a:pt x="1197" y="660"/>
                  <a:pt x="1244" y="645"/>
                </a:cubicBezTo>
                <a:cubicBezTo>
                  <a:pt x="1334" y="616"/>
                  <a:pt x="1387" y="608"/>
                  <a:pt x="1489" y="600"/>
                </a:cubicBezTo>
                <a:cubicBezTo>
                  <a:pt x="1559" y="582"/>
                  <a:pt x="1554" y="559"/>
                  <a:pt x="1600" y="511"/>
                </a:cubicBezTo>
                <a:cubicBezTo>
                  <a:pt x="1596" y="482"/>
                  <a:pt x="1599" y="451"/>
                  <a:pt x="1589" y="423"/>
                </a:cubicBezTo>
                <a:cubicBezTo>
                  <a:pt x="1576" y="387"/>
                  <a:pt x="1521" y="367"/>
                  <a:pt x="1489" y="356"/>
                </a:cubicBezTo>
                <a:close/>
              </a:path>
            </a:pathLst>
          </a:custGeom>
          <a:solidFill>
            <a:srgbClr val="6600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4"/>
          <p:cNvSpPr/>
          <p:nvPr/>
        </p:nvSpPr>
        <p:spPr>
          <a:xfrm>
            <a:off x="1763640" y="663480"/>
            <a:ext cx="1924200" cy="1028880"/>
          </a:xfrm>
          <a:custGeom>
            <a:avLst/>
            <a:gdLst>
              <a:gd name="textAreaLeft" fmla="*/ 0 w 1924200"/>
              <a:gd name="textAreaRight" fmla="*/ 1924560 w 1924200"/>
              <a:gd name="textAreaTop" fmla="*/ 0 h 1028880"/>
              <a:gd name="textAreaBottom" fmla="*/ 1029240 h 1028880"/>
            </a:gdLst>
            <a:ahLst/>
            <a:rect l="textAreaLeft" t="textAreaTop" r="textAreaRight" b="textAreaBottom"/>
            <a:pathLst>
              <a:path w="1212" h="648">
                <a:moveTo>
                  <a:pt x="0" y="126"/>
                </a:moveTo>
                <a:cubicBezTo>
                  <a:pt x="25" y="0"/>
                  <a:pt x="62" y="47"/>
                  <a:pt x="223" y="38"/>
                </a:cubicBezTo>
                <a:cubicBezTo>
                  <a:pt x="344" y="5"/>
                  <a:pt x="302" y="12"/>
                  <a:pt x="534" y="38"/>
                </a:cubicBezTo>
                <a:cubicBezTo>
                  <a:pt x="547" y="39"/>
                  <a:pt x="555" y="54"/>
                  <a:pt x="567" y="60"/>
                </a:cubicBezTo>
                <a:cubicBezTo>
                  <a:pt x="596" y="76"/>
                  <a:pt x="626" y="89"/>
                  <a:pt x="656" y="104"/>
                </a:cubicBezTo>
                <a:cubicBezTo>
                  <a:pt x="683" y="118"/>
                  <a:pt x="716" y="117"/>
                  <a:pt x="745" y="126"/>
                </a:cubicBezTo>
                <a:cubicBezTo>
                  <a:pt x="806" y="190"/>
                  <a:pt x="920" y="178"/>
                  <a:pt x="989" y="237"/>
                </a:cubicBezTo>
                <a:cubicBezTo>
                  <a:pt x="1078" y="313"/>
                  <a:pt x="990" y="253"/>
                  <a:pt x="1078" y="315"/>
                </a:cubicBezTo>
                <a:cubicBezTo>
                  <a:pt x="1100" y="330"/>
                  <a:pt x="1145" y="360"/>
                  <a:pt x="1145" y="360"/>
                </a:cubicBezTo>
                <a:cubicBezTo>
                  <a:pt x="1149" y="371"/>
                  <a:pt x="1149" y="384"/>
                  <a:pt x="1156" y="393"/>
                </a:cubicBezTo>
                <a:cubicBezTo>
                  <a:pt x="1164" y="403"/>
                  <a:pt x="1185" y="403"/>
                  <a:pt x="1189" y="415"/>
                </a:cubicBezTo>
                <a:cubicBezTo>
                  <a:pt x="1204" y="458"/>
                  <a:pt x="1212" y="549"/>
                  <a:pt x="1212" y="549"/>
                </a:cubicBezTo>
                <a:cubicBezTo>
                  <a:pt x="1207" y="570"/>
                  <a:pt x="1210" y="648"/>
                  <a:pt x="1156" y="593"/>
                </a:cubicBezTo>
                <a:cubicBezTo>
                  <a:pt x="1142" y="579"/>
                  <a:pt x="1144" y="555"/>
                  <a:pt x="1134" y="537"/>
                </a:cubicBezTo>
                <a:cubicBezTo>
                  <a:pt x="1095" y="466"/>
                  <a:pt x="1109" y="478"/>
                  <a:pt x="1056" y="460"/>
                </a:cubicBezTo>
                <a:cubicBezTo>
                  <a:pt x="1002" y="422"/>
                  <a:pt x="958" y="373"/>
                  <a:pt x="911" y="326"/>
                </a:cubicBezTo>
                <a:cubicBezTo>
                  <a:pt x="880" y="295"/>
                  <a:pt x="816" y="292"/>
                  <a:pt x="778" y="282"/>
                </a:cubicBezTo>
                <a:cubicBezTo>
                  <a:pt x="658" y="250"/>
                  <a:pt x="546" y="200"/>
                  <a:pt x="423" y="182"/>
                </a:cubicBezTo>
                <a:cubicBezTo>
                  <a:pt x="388" y="171"/>
                  <a:pt x="386" y="173"/>
                  <a:pt x="356" y="149"/>
                </a:cubicBezTo>
                <a:cubicBezTo>
                  <a:pt x="348" y="142"/>
                  <a:pt x="344" y="128"/>
                  <a:pt x="334" y="126"/>
                </a:cubicBezTo>
                <a:cubicBezTo>
                  <a:pt x="287" y="116"/>
                  <a:pt x="237" y="119"/>
                  <a:pt x="189" y="115"/>
                </a:cubicBezTo>
                <a:cubicBezTo>
                  <a:pt x="152" y="119"/>
                  <a:pt x="115" y="120"/>
                  <a:pt x="78" y="126"/>
                </a:cubicBezTo>
                <a:cubicBezTo>
                  <a:pt x="66" y="128"/>
                  <a:pt x="57" y="138"/>
                  <a:pt x="45" y="138"/>
                </a:cubicBezTo>
                <a:cubicBezTo>
                  <a:pt x="29" y="138"/>
                  <a:pt x="0" y="126"/>
                  <a:pt x="0" y="126"/>
                </a:cubicBezTo>
                <a:close/>
              </a:path>
            </a:pathLst>
          </a:custGeom>
          <a:solidFill>
            <a:srgbClr val="800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5"/>
          <p:cNvSpPr/>
          <p:nvPr/>
        </p:nvSpPr>
        <p:spPr>
          <a:xfrm>
            <a:off x="885960" y="1905120"/>
            <a:ext cx="682560" cy="715680"/>
          </a:xfrm>
          <a:custGeom>
            <a:avLst/>
            <a:gdLst>
              <a:gd name="textAreaLeft" fmla="*/ 0 w 682560"/>
              <a:gd name="textAreaRight" fmla="*/ 682920 w 682560"/>
              <a:gd name="textAreaTop" fmla="*/ 0 h 715680"/>
              <a:gd name="textAreaBottom" fmla="*/ 716040 h 715680"/>
            </a:gdLst>
            <a:ahLst/>
            <a:rect l="textAreaLeft" t="textAreaTop" r="textAreaRight" b="textAreaBottom"/>
            <a:pathLst>
              <a:path w="430" h="451">
                <a:moveTo>
                  <a:pt x="142" y="0"/>
                </a:moveTo>
                <a:cubicBezTo>
                  <a:pt x="116" y="4"/>
                  <a:pt x="88" y="0"/>
                  <a:pt x="64" y="11"/>
                </a:cubicBezTo>
                <a:cubicBezTo>
                  <a:pt x="36" y="23"/>
                  <a:pt x="18" y="121"/>
                  <a:pt x="9" y="155"/>
                </a:cubicBezTo>
                <a:cubicBezTo>
                  <a:pt x="13" y="203"/>
                  <a:pt x="0" y="256"/>
                  <a:pt x="20" y="300"/>
                </a:cubicBezTo>
                <a:cubicBezTo>
                  <a:pt x="27" y="316"/>
                  <a:pt x="162" y="403"/>
                  <a:pt x="187" y="411"/>
                </a:cubicBezTo>
                <a:cubicBezTo>
                  <a:pt x="430" y="397"/>
                  <a:pt x="357" y="451"/>
                  <a:pt x="398" y="289"/>
                </a:cubicBezTo>
                <a:cubicBezTo>
                  <a:pt x="376" y="176"/>
                  <a:pt x="411" y="267"/>
                  <a:pt x="353" y="222"/>
                </a:cubicBezTo>
                <a:cubicBezTo>
                  <a:pt x="328" y="203"/>
                  <a:pt x="309" y="177"/>
                  <a:pt x="287" y="155"/>
                </a:cubicBezTo>
                <a:cubicBezTo>
                  <a:pt x="279" y="147"/>
                  <a:pt x="264" y="133"/>
                  <a:pt x="264" y="133"/>
                </a:cubicBezTo>
                <a:cubicBezTo>
                  <a:pt x="252" y="96"/>
                  <a:pt x="229" y="78"/>
                  <a:pt x="198" y="55"/>
                </a:cubicBezTo>
                <a:cubicBezTo>
                  <a:pt x="131" y="4"/>
                  <a:pt x="111" y="31"/>
                  <a:pt x="142" y="0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6"/>
          <p:cNvSpPr/>
          <p:nvPr/>
        </p:nvSpPr>
        <p:spPr>
          <a:xfrm>
            <a:off x="1171440" y="2151000"/>
            <a:ext cx="1086120" cy="4640400"/>
          </a:xfrm>
          <a:custGeom>
            <a:avLst/>
            <a:gdLst>
              <a:gd name="textAreaLeft" fmla="*/ 0 w 1086120"/>
              <a:gd name="textAreaRight" fmla="*/ 1086480 w 1086120"/>
              <a:gd name="textAreaTop" fmla="*/ 0 h 4640400"/>
              <a:gd name="textAreaBottom" fmla="*/ 4640400 h 4640400"/>
            </a:gdLst>
            <a:ahLst/>
            <a:rect l="textAreaLeft" t="textAreaTop" r="textAreaRight" b="textAreaBottom"/>
            <a:pathLst>
              <a:path w="684" h="2923">
                <a:moveTo>
                  <a:pt x="640" y="0"/>
                </a:moveTo>
                <a:cubicBezTo>
                  <a:pt x="610" y="4"/>
                  <a:pt x="579" y="2"/>
                  <a:pt x="551" y="12"/>
                </a:cubicBezTo>
                <a:cubicBezTo>
                  <a:pt x="524" y="22"/>
                  <a:pt x="510" y="55"/>
                  <a:pt x="484" y="67"/>
                </a:cubicBezTo>
                <a:cubicBezTo>
                  <a:pt x="417" y="96"/>
                  <a:pt x="342" y="112"/>
                  <a:pt x="273" y="134"/>
                </a:cubicBezTo>
                <a:cubicBezTo>
                  <a:pt x="265" y="157"/>
                  <a:pt x="242" y="175"/>
                  <a:pt x="240" y="200"/>
                </a:cubicBezTo>
                <a:cubicBezTo>
                  <a:pt x="234" y="285"/>
                  <a:pt x="242" y="337"/>
                  <a:pt x="284" y="400"/>
                </a:cubicBezTo>
                <a:cubicBezTo>
                  <a:pt x="295" y="433"/>
                  <a:pt x="311" y="465"/>
                  <a:pt x="318" y="500"/>
                </a:cubicBezTo>
                <a:cubicBezTo>
                  <a:pt x="325" y="537"/>
                  <a:pt x="340" y="611"/>
                  <a:pt x="340" y="611"/>
                </a:cubicBezTo>
                <a:cubicBezTo>
                  <a:pt x="336" y="707"/>
                  <a:pt x="335" y="804"/>
                  <a:pt x="329" y="900"/>
                </a:cubicBezTo>
                <a:cubicBezTo>
                  <a:pt x="323" y="992"/>
                  <a:pt x="321" y="939"/>
                  <a:pt x="307" y="1000"/>
                </a:cubicBezTo>
                <a:cubicBezTo>
                  <a:pt x="286" y="1089"/>
                  <a:pt x="273" y="1178"/>
                  <a:pt x="251" y="1267"/>
                </a:cubicBezTo>
                <a:cubicBezTo>
                  <a:pt x="231" y="1350"/>
                  <a:pt x="194" y="1428"/>
                  <a:pt x="173" y="1511"/>
                </a:cubicBezTo>
                <a:cubicBezTo>
                  <a:pt x="137" y="1875"/>
                  <a:pt x="0" y="2309"/>
                  <a:pt x="218" y="2622"/>
                </a:cubicBezTo>
                <a:cubicBezTo>
                  <a:pt x="234" y="2670"/>
                  <a:pt x="260" y="2709"/>
                  <a:pt x="295" y="2745"/>
                </a:cubicBezTo>
                <a:cubicBezTo>
                  <a:pt x="326" y="2829"/>
                  <a:pt x="281" y="2721"/>
                  <a:pt x="340" y="2811"/>
                </a:cubicBezTo>
                <a:cubicBezTo>
                  <a:pt x="374" y="2862"/>
                  <a:pt x="321" y="2835"/>
                  <a:pt x="384" y="2856"/>
                </a:cubicBezTo>
                <a:cubicBezTo>
                  <a:pt x="424" y="2894"/>
                  <a:pt x="444" y="2923"/>
                  <a:pt x="395" y="2767"/>
                </a:cubicBezTo>
                <a:cubicBezTo>
                  <a:pt x="387" y="2742"/>
                  <a:pt x="351" y="2700"/>
                  <a:pt x="351" y="2700"/>
                </a:cubicBezTo>
                <a:cubicBezTo>
                  <a:pt x="338" y="2649"/>
                  <a:pt x="333" y="2603"/>
                  <a:pt x="295" y="2567"/>
                </a:cubicBezTo>
                <a:cubicBezTo>
                  <a:pt x="288" y="2545"/>
                  <a:pt x="280" y="2522"/>
                  <a:pt x="273" y="2500"/>
                </a:cubicBezTo>
                <a:cubicBezTo>
                  <a:pt x="269" y="2489"/>
                  <a:pt x="262" y="2467"/>
                  <a:pt x="262" y="2467"/>
                </a:cubicBezTo>
                <a:cubicBezTo>
                  <a:pt x="254" y="2248"/>
                  <a:pt x="235" y="2063"/>
                  <a:pt x="251" y="1845"/>
                </a:cubicBezTo>
                <a:cubicBezTo>
                  <a:pt x="256" y="1779"/>
                  <a:pt x="293" y="1711"/>
                  <a:pt x="307" y="1645"/>
                </a:cubicBezTo>
                <a:cubicBezTo>
                  <a:pt x="314" y="1569"/>
                  <a:pt x="316" y="1495"/>
                  <a:pt x="340" y="1423"/>
                </a:cubicBezTo>
                <a:cubicBezTo>
                  <a:pt x="365" y="1273"/>
                  <a:pt x="342" y="1329"/>
                  <a:pt x="384" y="1245"/>
                </a:cubicBezTo>
                <a:cubicBezTo>
                  <a:pt x="390" y="1219"/>
                  <a:pt x="404" y="1194"/>
                  <a:pt x="407" y="1167"/>
                </a:cubicBezTo>
                <a:cubicBezTo>
                  <a:pt x="432" y="938"/>
                  <a:pt x="397" y="1053"/>
                  <a:pt x="429" y="956"/>
                </a:cubicBezTo>
                <a:cubicBezTo>
                  <a:pt x="443" y="845"/>
                  <a:pt x="431" y="895"/>
                  <a:pt x="462" y="800"/>
                </a:cubicBezTo>
                <a:cubicBezTo>
                  <a:pt x="466" y="789"/>
                  <a:pt x="473" y="767"/>
                  <a:pt x="473" y="767"/>
                </a:cubicBezTo>
                <a:cubicBezTo>
                  <a:pt x="485" y="630"/>
                  <a:pt x="456" y="381"/>
                  <a:pt x="629" y="323"/>
                </a:cubicBezTo>
                <a:cubicBezTo>
                  <a:pt x="667" y="283"/>
                  <a:pt x="648" y="310"/>
                  <a:pt x="673" y="234"/>
                </a:cubicBezTo>
                <a:cubicBezTo>
                  <a:pt x="677" y="223"/>
                  <a:pt x="684" y="200"/>
                  <a:pt x="684" y="200"/>
                </a:cubicBezTo>
                <a:cubicBezTo>
                  <a:pt x="675" y="129"/>
                  <a:pt x="662" y="67"/>
                  <a:pt x="640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8"/>
          <p:cNvSpPr/>
          <p:nvPr/>
        </p:nvSpPr>
        <p:spPr>
          <a:xfrm>
            <a:off x="380880" y="4267080"/>
            <a:ext cx="6408720" cy="1911600"/>
          </a:xfrm>
          <a:custGeom>
            <a:avLst/>
            <a:gdLst>
              <a:gd name="textAreaLeft" fmla="*/ 0 w 6408720"/>
              <a:gd name="textAreaRight" fmla="*/ 6409080 w 6408720"/>
              <a:gd name="textAreaTop" fmla="*/ 0 h 1911600"/>
              <a:gd name="textAreaBottom" fmla="*/ 1911960 h 1911600"/>
            </a:gdLst>
            <a:ahLst/>
            <a:rect l="textAreaLeft" t="textAreaTop" r="textAreaRight" b="textAreaBottom"/>
            <a:pathLst>
              <a:path w="4037" h="1204">
                <a:moveTo>
                  <a:pt x="733" y="612"/>
                </a:moveTo>
                <a:cubicBezTo>
                  <a:pt x="696" y="587"/>
                  <a:pt x="659" y="581"/>
                  <a:pt x="622" y="556"/>
                </a:cubicBezTo>
                <a:cubicBezTo>
                  <a:pt x="608" y="515"/>
                  <a:pt x="602" y="481"/>
                  <a:pt x="578" y="445"/>
                </a:cubicBezTo>
                <a:cubicBezTo>
                  <a:pt x="582" y="423"/>
                  <a:pt x="580" y="399"/>
                  <a:pt x="589" y="378"/>
                </a:cubicBezTo>
                <a:cubicBezTo>
                  <a:pt x="595" y="364"/>
                  <a:pt x="610" y="355"/>
                  <a:pt x="622" y="345"/>
                </a:cubicBezTo>
                <a:cubicBezTo>
                  <a:pt x="680" y="297"/>
                  <a:pt x="795" y="303"/>
                  <a:pt x="555" y="323"/>
                </a:cubicBezTo>
                <a:cubicBezTo>
                  <a:pt x="529" y="403"/>
                  <a:pt x="546" y="370"/>
                  <a:pt x="511" y="423"/>
                </a:cubicBezTo>
                <a:cubicBezTo>
                  <a:pt x="489" y="419"/>
                  <a:pt x="465" y="421"/>
                  <a:pt x="444" y="412"/>
                </a:cubicBezTo>
                <a:cubicBezTo>
                  <a:pt x="420" y="401"/>
                  <a:pt x="404" y="364"/>
                  <a:pt x="389" y="345"/>
                </a:cubicBezTo>
                <a:cubicBezTo>
                  <a:pt x="372" y="324"/>
                  <a:pt x="355" y="316"/>
                  <a:pt x="333" y="301"/>
                </a:cubicBezTo>
                <a:cubicBezTo>
                  <a:pt x="315" y="305"/>
                  <a:pt x="295" y="305"/>
                  <a:pt x="278" y="312"/>
                </a:cubicBezTo>
                <a:cubicBezTo>
                  <a:pt x="268" y="316"/>
                  <a:pt x="245" y="331"/>
                  <a:pt x="255" y="334"/>
                </a:cubicBezTo>
                <a:cubicBezTo>
                  <a:pt x="294" y="347"/>
                  <a:pt x="337" y="341"/>
                  <a:pt x="378" y="345"/>
                </a:cubicBezTo>
                <a:cubicBezTo>
                  <a:pt x="402" y="416"/>
                  <a:pt x="432" y="505"/>
                  <a:pt x="344" y="534"/>
                </a:cubicBezTo>
                <a:cubicBezTo>
                  <a:pt x="311" y="556"/>
                  <a:pt x="282" y="588"/>
                  <a:pt x="244" y="601"/>
                </a:cubicBezTo>
                <a:cubicBezTo>
                  <a:pt x="222" y="608"/>
                  <a:pt x="178" y="623"/>
                  <a:pt x="178" y="623"/>
                </a:cubicBezTo>
                <a:cubicBezTo>
                  <a:pt x="141" y="619"/>
                  <a:pt x="103" y="619"/>
                  <a:pt x="66" y="612"/>
                </a:cubicBezTo>
                <a:cubicBezTo>
                  <a:pt x="43" y="608"/>
                  <a:pt x="0" y="590"/>
                  <a:pt x="0" y="590"/>
                </a:cubicBezTo>
                <a:cubicBezTo>
                  <a:pt x="58" y="676"/>
                  <a:pt x="120" y="679"/>
                  <a:pt x="222" y="690"/>
                </a:cubicBezTo>
                <a:cubicBezTo>
                  <a:pt x="215" y="701"/>
                  <a:pt x="206" y="711"/>
                  <a:pt x="200" y="723"/>
                </a:cubicBezTo>
                <a:cubicBezTo>
                  <a:pt x="195" y="733"/>
                  <a:pt x="197" y="748"/>
                  <a:pt x="189" y="756"/>
                </a:cubicBezTo>
                <a:cubicBezTo>
                  <a:pt x="170" y="775"/>
                  <a:pt x="144" y="786"/>
                  <a:pt x="122" y="801"/>
                </a:cubicBezTo>
                <a:cubicBezTo>
                  <a:pt x="111" y="808"/>
                  <a:pt x="89" y="823"/>
                  <a:pt x="89" y="823"/>
                </a:cubicBezTo>
                <a:cubicBezTo>
                  <a:pt x="81" y="834"/>
                  <a:pt x="75" y="846"/>
                  <a:pt x="66" y="856"/>
                </a:cubicBezTo>
                <a:cubicBezTo>
                  <a:pt x="56" y="868"/>
                  <a:pt x="33" y="874"/>
                  <a:pt x="33" y="890"/>
                </a:cubicBezTo>
                <a:cubicBezTo>
                  <a:pt x="33" y="902"/>
                  <a:pt x="55" y="882"/>
                  <a:pt x="66" y="878"/>
                </a:cubicBezTo>
                <a:cubicBezTo>
                  <a:pt x="77" y="874"/>
                  <a:pt x="89" y="871"/>
                  <a:pt x="100" y="867"/>
                </a:cubicBezTo>
                <a:cubicBezTo>
                  <a:pt x="134" y="844"/>
                  <a:pt x="149" y="818"/>
                  <a:pt x="178" y="790"/>
                </a:cubicBezTo>
                <a:cubicBezTo>
                  <a:pt x="204" y="712"/>
                  <a:pt x="178" y="730"/>
                  <a:pt x="233" y="712"/>
                </a:cubicBezTo>
                <a:cubicBezTo>
                  <a:pt x="252" y="716"/>
                  <a:pt x="273" y="713"/>
                  <a:pt x="289" y="723"/>
                </a:cubicBezTo>
                <a:cubicBezTo>
                  <a:pt x="294" y="727"/>
                  <a:pt x="308" y="789"/>
                  <a:pt x="311" y="801"/>
                </a:cubicBezTo>
                <a:cubicBezTo>
                  <a:pt x="332" y="873"/>
                  <a:pt x="319" y="852"/>
                  <a:pt x="355" y="890"/>
                </a:cubicBezTo>
                <a:cubicBezTo>
                  <a:pt x="351" y="927"/>
                  <a:pt x="356" y="966"/>
                  <a:pt x="344" y="1001"/>
                </a:cubicBezTo>
                <a:cubicBezTo>
                  <a:pt x="333" y="1036"/>
                  <a:pt x="244" y="1045"/>
                  <a:pt x="244" y="1045"/>
                </a:cubicBezTo>
                <a:cubicBezTo>
                  <a:pt x="285" y="1049"/>
                  <a:pt x="326" y="1049"/>
                  <a:pt x="366" y="1056"/>
                </a:cubicBezTo>
                <a:cubicBezTo>
                  <a:pt x="389" y="1060"/>
                  <a:pt x="411" y="1071"/>
                  <a:pt x="433" y="1078"/>
                </a:cubicBezTo>
                <a:cubicBezTo>
                  <a:pt x="444" y="1082"/>
                  <a:pt x="466" y="1089"/>
                  <a:pt x="466" y="1089"/>
                </a:cubicBezTo>
                <a:cubicBezTo>
                  <a:pt x="466" y="1089"/>
                  <a:pt x="444" y="1067"/>
                  <a:pt x="433" y="1056"/>
                </a:cubicBezTo>
                <a:cubicBezTo>
                  <a:pt x="424" y="1047"/>
                  <a:pt x="411" y="1041"/>
                  <a:pt x="400" y="1034"/>
                </a:cubicBezTo>
                <a:cubicBezTo>
                  <a:pt x="364" y="980"/>
                  <a:pt x="344" y="916"/>
                  <a:pt x="422" y="890"/>
                </a:cubicBezTo>
                <a:cubicBezTo>
                  <a:pt x="498" y="897"/>
                  <a:pt x="568" y="881"/>
                  <a:pt x="611" y="945"/>
                </a:cubicBezTo>
                <a:cubicBezTo>
                  <a:pt x="600" y="1036"/>
                  <a:pt x="577" y="1070"/>
                  <a:pt x="678" y="1045"/>
                </a:cubicBezTo>
                <a:cubicBezTo>
                  <a:pt x="656" y="1038"/>
                  <a:pt x="609" y="1046"/>
                  <a:pt x="611" y="1023"/>
                </a:cubicBezTo>
                <a:cubicBezTo>
                  <a:pt x="616" y="971"/>
                  <a:pt x="611" y="889"/>
                  <a:pt x="655" y="845"/>
                </a:cubicBezTo>
                <a:cubicBezTo>
                  <a:pt x="687" y="814"/>
                  <a:pt x="686" y="830"/>
                  <a:pt x="722" y="812"/>
                </a:cubicBezTo>
                <a:cubicBezTo>
                  <a:pt x="758" y="794"/>
                  <a:pt x="771" y="767"/>
                  <a:pt x="811" y="756"/>
                </a:cubicBezTo>
                <a:cubicBezTo>
                  <a:pt x="840" y="748"/>
                  <a:pt x="900" y="734"/>
                  <a:pt x="900" y="734"/>
                </a:cubicBezTo>
                <a:cubicBezTo>
                  <a:pt x="1205" y="741"/>
                  <a:pt x="1357" y="751"/>
                  <a:pt x="1622" y="767"/>
                </a:cubicBezTo>
                <a:cubicBezTo>
                  <a:pt x="1716" y="797"/>
                  <a:pt x="1825" y="804"/>
                  <a:pt x="1922" y="812"/>
                </a:cubicBezTo>
                <a:cubicBezTo>
                  <a:pt x="2005" y="832"/>
                  <a:pt x="2093" y="844"/>
                  <a:pt x="2178" y="856"/>
                </a:cubicBezTo>
                <a:cubicBezTo>
                  <a:pt x="2288" y="893"/>
                  <a:pt x="2407" y="912"/>
                  <a:pt x="2522" y="923"/>
                </a:cubicBezTo>
                <a:cubicBezTo>
                  <a:pt x="2644" y="953"/>
                  <a:pt x="2776" y="950"/>
                  <a:pt x="2900" y="956"/>
                </a:cubicBezTo>
                <a:cubicBezTo>
                  <a:pt x="3056" y="952"/>
                  <a:pt x="3211" y="952"/>
                  <a:pt x="3367" y="945"/>
                </a:cubicBezTo>
                <a:cubicBezTo>
                  <a:pt x="3402" y="944"/>
                  <a:pt x="3459" y="922"/>
                  <a:pt x="3489" y="912"/>
                </a:cubicBezTo>
                <a:cubicBezTo>
                  <a:pt x="3500" y="908"/>
                  <a:pt x="3522" y="901"/>
                  <a:pt x="3522" y="901"/>
                </a:cubicBezTo>
                <a:cubicBezTo>
                  <a:pt x="3606" y="817"/>
                  <a:pt x="3693" y="834"/>
                  <a:pt x="3767" y="723"/>
                </a:cubicBezTo>
                <a:cubicBezTo>
                  <a:pt x="3800" y="727"/>
                  <a:pt x="3835" y="723"/>
                  <a:pt x="3867" y="734"/>
                </a:cubicBezTo>
                <a:cubicBezTo>
                  <a:pt x="3902" y="746"/>
                  <a:pt x="3909" y="799"/>
                  <a:pt x="3934" y="823"/>
                </a:cubicBezTo>
                <a:cubicBezTo>
                  <a:pt x="3954" y="884"/>
                  <a:pt x="4001" y="929"/>
                  <a:pt x="4023" y="989"/>
                </a:cubicBezTo>
                <a:cubicBezTo>
                  <a:pt x="4019" y="1048"/>
                  <a:pt x="4017" y="1108"/>
                  <a:pt x="4011" y="1167"/>
                </a:cubicBezTo>
                <a:cubicBezTo>
                  <a:pt x="4010" y="1179"/>
                  <a:pt x="4011" y="1197"/>
                  <a:pt x="4000" y="1201"/>
                </a:cubicBezTo>
                <a:cubicBezTo>
                  <a:pt x="3990" y="1204"/>
                  <a:pt x="3985" y="1186"/>
                  <a:pt x="3978" y="1178"/>
                </a:cubicBezTo>
                <a:cubicBezTo>
                  <a:pt x="4000" y="1144"/>
                  <a:pt x="4022" y="1128"/>
                  <a:pt x="4034" y="1089"/>
                </a:cubicBezTo>
                <a:cubicBezTo>
                  <a:pt x="4030" y="1034"/>
                  <a:pt x="4037" y="977"/>
                  <a:pt x="4023" y="923"/>
                </a:cubicBezTo>
                <a:cubicBezTo>
                  <a:pt x="4018" y="902"/>
                  <a:pt x="3990" y="896"/>
                  <a:pt x="3978" y="878"/>
                </a:cubicBezTo>
                <a:cubicBezTo>
                  <a:pt x="3928" y="803"/>
                  <a:pt x="3953" y="830"/>
                  <a:pt x="3911" y="790"/>
                </a:cubicBezTo>
                <a:cubicBezTo>
                  <a:pt x="3907" y="771"/>
                  <a:pt x="3908" y="751"/>
                  <a:pt x="3900" y="734"/>
                </a:cubicBezTo>
                <a:cubicBezTo>
                  <a:pt x="3889" y="710"/>
                  <a:pt x="3864" y="692"/>
                  <a:pt x="3856" y="667"/>
                </a:cubicBezTo>
                <a:cubicBezTo>
                  <a:pt x="3852" y="656"/>
                  <a:pt x="3849" y="645"/>
                  <a:pt x="3845" y="634"/>
                </a:cubicBezTo>
                <a:cubicBezTo>
                  <a:pt x="3850" y="516"/>
                  <a:pt x="3824" y="399"/>
                  <a:pt x="3889" y="301"/>
                </a:cubicBezTo>
                <a:cubicBezTo>
                  <a:pt x="3896" y="279"/>
                  <a:pt x="3904" y="256"/>
                  <a:pt x="3911" y="234"/>
                </a:cubicBezTo>
                <a:cubicBezTo>
                  <a:pt x="3915" y="223"/>
                  <a:pt x="3922" y="201"/>
                  <a:pt x="3922" y="201"/>
                </a:cubicBezTo>
                <a:cubicBezTo>
                  <a:pt x="3918" y="160"/>
                  <a:pt x="3925" y="117"/>
                  <a:pt x="3911" y="78"/>
                </a:cubicBezTo>
                <a:cubicBezTo>
                  <a:pt x="3910" y="75"/>
                  <a:pt x="3844" y="28"/>
                  <a:pt x="3834" y="23"/>
                </a:cubicBezTo>
                <a:cubicBezTo>
                  <a:pt x="3823" y="18"/>
                  <a:pt x="3800" y="0"/>
                  <a:pt x="3800" y="12"/>
                </a:cubicBezTo>
                <a:cubicBezTo>
                  <a:pt x="3800" y="25"/>
                  <a:pt x="3824" y="25"/>
                  <a:pt x="3834" y="34"/>
                </a:cubicBezTo>
                <a:cubicBezTo>
                  <a:pt x="3884" y="78"/>
                  <a:pt x="3882" y="79"/>
                  <a:pt x="3911" y="123"/>
                </a:cubicBezTo>
                <a:cubicBezTo>
                  <a:pt x="3905" y="220"/>
                  <a:pt x="3940" y="313"/>
                  <a:pt x="3845" y="345"/>
                </a:cubicBezTo>
                <a:cubicBezTo>
                  <a:pt x="3837" y="352"/>
                  <a:pt x="3827" y="358"/>
                  <a:pt x="3822" y="367"/>
                </a:cubicBezTo>
                <a:cubicBezTo>
                  <a:pt x="3811" y="388"/>
                  <a:pt x="3800" y="434"/>
                  <a:pt x="3800" y="434"/>
                </a:cubicBezTo>
                <a:cubicBezTo>
                  <a:pt x="3784" y="595"/>
                  <a:pt x="3779" y="776"/>
                  <a:pt x="3600" y="834"/>
                </a:cubicBezTo>
                <a:cubicBezTo>
                  <a:pt x="3558" y="862"/>
                  <a:pt x="3512" y="870"/>
                  <a:pt x="3467" y="890"/>
                </a:cubicBezTo>
                <a:cubicBezTo>
                  <a:pt x="3428" y="907"/>
                  <a:pt x="3397" y="931"/>
                  <a:pt x="3356" y="945"/>
                </a:cubicBezTo>
                <a:cubicBezTo>
                  <a:pt x="3197" y="941"/>
                  <a:pt x="3037" y="940"/>
                  <a:pt x="2878" y="934"/>
                </a:cubicBezTo>
                <a:cubicBezTo>
                  <a:pt x="2814" y="931"/>
                  <a:pt x="2752" y="910"/>
                  <a:pt x="2689" y="901"/>
                </a:cubicBezTo>
                <a:cubicBezTo>
                  <a:pt x="2594" y="888"/>
                  <a:pt x="2436" y="882"/>
                  <a:pt x="2356" y="878"/>
                </a:cubicBezTo>
                <a:cubicBezTo>
                  <a:pt x="2155" y="853"/>
                  <a:pt x="2235" y="875"/>
                  <a:pt x="2111" y="834"/>
                </a:cubicBezTo>
                <a:cubicBezTo>
                  <a:pt x="2086" y="826"/>
                  <a:pt x="2070" y="796"/>
                  <a:pt x="2044" y="790"/>
                </a:cubicBezTo>
                <a:cubicBezTo>
                  <a:pt x="2020" y="785"/>
                  <a:pt x="1769" y="768"/>
                  <a:pt x="1756" y="767"/>
                </a:cubicBezTo>
                <a:cubicBezTo>
                  <a:pt x="1658" y="743"/>
                  <a:pt x="1569" y="732"/>
                  <a:pt x="1467" y="723"/>
                </a:cubicBezTo>
                <a:cubicBezTo>
                  <a:pt x="1363" y="697"/>
                  <a:pt x="1251" y="700"/>
                  <a:pt x="1144" y="690"/>
                </a:cubicBezTo>
                <a:cubicBezTo>
                  <a:pt x="1039" y="670"/>
                  <a:pt x="939" y="646"/>
                  <a:pt x="833" y="634"/>
                </a:cubicBezTo>
                <a:cubicBezTo>
                  <a:pt x="809" y="626"/>
                  <a:pt x="655" y="573"/>
                  <a:pt x="733" y="612"/>
                </a:cubicBez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9"/>
          <p:cNvSpPr/>
          <p:nvPr/>
        </p:nvSpPr>
        <p:spPr>
          <a:xfrm>
            <a:off x="958680" y="5213520"/>
            <a:ext cx="357480" cy="360360"/>
          </a:xfrm>
          <a:custGeom>
            <a:avLst/>
            <a:gdLst>
              <a:gd name="textAreaLeft" fmla="*/ 0 w 357480"/>
              <a:gd name="textAreaRight" fmla="*/ 357480 w 35748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25" h="227">
                <a:moveTo>
                  <a:pt x="214" y="82"/>
                </a:moveTo>
                <a:cubicBezTo>
                  <a:pt x="199" y="21"/>
                  <a:pt x="193" y="24"/>
                  <a:pt x="136" y="5"/>
                </a:cubicBezTo>
                <a:cubicBezTo>
                  <a:pt x="95" y="9"/>
                  <a:pt x="52" y="0"/>
                  <a:pt x="14" y="16"/>
                </a:cubicBezTo>
                <a:cubicBezTo>
                  <a:pt x="0" y="22"/>
                  <a:pt x="2" y="45"/>
                  <a:pt x="2" y="60"/>
                </a:cubicBezTo>
                <a:cubicBezTo>
                  <a:pt x="2" y="180"/>
                  <a:pt x="14" y="202"/>
                  <a:pt x="114" y="227"/>
                </a:cubicBezTo>
                <a:cubicBezTo>
                  <a:pt x="203" y="214"/>
                  <a:pt x="225" y="218"/>
                  <a:pt x="225" y="116"/>
                </a:cubicBezTo>
                <a:cubicBezTo>
                  <a:pt x="225" y="104"/>
                  <a:pt x="218" y="93"/>
                  <a:pt x="214" y="82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1377000" y="1341360"/>
            <a:ext cx="1768680" cy="459720"/>
          </a:xfrm>
          <a:prstGeom prst="rect">
            <a:avLst/>
          </a:prstGeom>
          <a:solidFill>
            <a:srgbClr val="ffcc66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ercep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1765440" y="4603680"/>
            <a:ext cx="1866240" cy="459720"/>
          </a:xfrm>
          <a:prstGeom prst="rect">
            <a:avLst/>
          </a:prstGeom>
          <a:solidFill>
            <a:srgbClr val="ffcc66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odu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3031560" y="6005520"/>
            <a:ext cx="1945440" cy="459720"/>
          </a:xfrm>
          <a:prstGeom prst="rect">
            <a:avLst/>
          </a:prstGeom>
          <a:solidFill>
            <a:srgbClr val="ffcc66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Transm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6690960" y="4876920"/>
            <a:ext cx="2103840" cy="459720"/>
          </a:xfrm>
          <a:prstGeom prst="rect">
            <a:avLst/>
          </a:prstGeom>
          <a:solidFill>
            <a:srgbClr val="ffcc66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Trans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3141360" y="2565360"/>
            <a:ext cx="5603040" cy="642600"/>
          </a:xfrm>
          <a:prstGeom prst="rect">
            <a:avLst/>
          </a:prstGeom>
          <a:solidFill>
            <a:srgbClr val="ffcc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0000"/>
                </a:solidFill>
                <a:latin typeface="Arial Unicode MS"/>
              </a:rPr>
              <a:t>ADAPTACIÓN AL ME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4T16:36:17Z</dcterms:created>
  <dc:creator>Claudia Alejandra Barahona Chang</dc:creator>
  <dc:description/>
  <dc:language>en-US</dc:language>
  <cp:lastModifiedBy>cscott</cp:lastModifiedBy>
  <dcterms:modified xsi:type="dcterms:W3CDTF">2019-08-08T14:38:03Z</dcterms:modified>
  <cp:revision>246</cp:revision>
  <dc:subject/>
  <dc:title>Diapositiva 1</dc:title>
</cp:coreProperties>
</file>