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43A-10E6-4F7D-A14B-83C4B4C1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720-7155-48E2-9414-86507C2A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498-627D-47CF-8CAC-75A515E9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8C4-CFC8-479D-91AC-D9FA7D83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C386-0620-4831-859D-E0074789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7F78-4978-4EC3-A3D3-E2A5DC5D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1379-E8BB-4476-AB71-36592044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321A-DF0B-44FF-A0FB-6A6A86A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05A9-3999-4D47-9358-56BA0611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FA6E-C46F-453A-86BD-F97F5664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9D58-F349-4F86-B7E3-F68C6BFF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7A4-39CA-4E6A-8CCE-8C31CB35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D394-B8D2-4D7A-B5CD-CAC7FEBE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F4D9-6026-4835-8270-377B3EDB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5D00-397E-44D6-8013-B4613447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7CDC-DC17-4CD3-B067-4A1FB3B0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5707-881D-42B9-B06B-B72D0220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D2D-B698-4F38-B9A7-4C2C7A49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1C7-1EEF-4B8D-9C15-AA3DB26E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B10-804C-47E7-A66B-487F7395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D46-873E-4E64-B586-43BFF54D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916-F287-4C84-8541-75D642DA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234-5E6C-4C2A-ABC3-BC869930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34F-D231-40D4-9C61-0D023137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D5E7-6054-45D8-A393-66603B6297A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3AF8-2F65-4065-8BCF-D66741E18CD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omic Sans MS"/>
              </a:rPr>
              <a:t>Medición epidemiológica de la frecuenciade eventos de salud y nutri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mic Sans MS"/>
              </a:rPr>
              <a:t>Asignatura de Epidemiologia Nutr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3"/>
          <p:cNvSpPr/>
          <p:nvPr/>
        </p:nvSpPr>
        <p:spPr>
          <a:xfrm>
            <a:off x="3705480" y="5084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9"/>
          <p:cNvGrpSpPr/>
          <p:nvPr/>
        </p:nvGrpSpPr>
        <p:grpSpPr>
          <a:xfrm>
            <a:off x="78480" y="2060640"/>
            <a:ext cx="4456440" cy="3024000"/>
            <a:chOff x="78480" y="2060640"/>
            <a:chExt cx="4456440" cy="3024000"/>
          </a:xfrm>
        </p:grpSpPr>
        <p:grpSp>
          <p:nvGrpSpPr>
            <p:cNvPr id="103" name="Group 9"/>
            <p:cNvGrpSpPr/>
            <p:nvPr/>
          </p:nvGrpSpPr>
          <p:grpSpPr>
            <a:xfrm>
              <a:off x="1008000" y="2060640"/>
              <a:ext cx="3526920" cy="3024000"/>
              <a:chOff x="1008000" y="2060640"/>
              <a:chExt cx="3526920" cy="3024000"/>
            </a:xfrm>
          </p:grpSpPr>
          <p:sp>
            <p:nvSpPr>
              <p:cNvPr id="104" name="Line 7"/>
              <p:cNvSpPr/>
              <p:nvPr/>
            </p:nvSpPr>
            <p:spPr>
              <a:xfrm>
                <a:off x="1008000" y="2060640"/>
                <a:ext cx="0" cy="30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8"/>
              <p:cNvSpPr/>
              <p:nvPr/>
            </p:nvSpPr>
            <p:spPr>
              <a:xfrm>
                <a:off x="1008000" y="5084640"/>
                <a:ext cx="3526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Freeform 11"/>
            <p:cNvSpPr/>
            <p:nvPr/>
          </p:nvSpPr>
          <p:spPr>
            <a:xfrm>
              <a:off x="1008000" y="2203200"/>
              <a:ext cx="3456000" cy="2881080"/>
            </a:xfrm>
            <a:custGeom>
              <a:avLst/>
              <a:gdLst>
                <a:gd name="textAreaLeft" fmla="*/ 0 w 3456000"/>
                <a:gd name="textAreaRight" fmla="*/ 3456360 w 3456000"/>
                <a:gd name="textAreaTop" fmla="*/ 0 h 2881080"/>
                <a:gd name="textAreaBottom" fmla="*/ 2881440 h 2881080"/>
              </a:gdLst>
              <a:ahLst/>
              <a:rect l="textAreaLeft" t="textAreaTop" r="textAreaRight" b="textAreaBottom"/>
              <a:pathLst>
                <a:path w="2177" h="1815">
                  <a:moveTo>
                    <a:pt x="0" y="0"/>
                  </a:moveTo>
                  <a:cubicBezTo>
                    <a:pt x="98" y="8"/>
                    <a:pt x="196" y="16"/>
                    <a:pt x="317" y="46"/>
                  </a:cubicBezTo>
                  <a:cubicBezTo>
                    <a:pt x="438" y="76"/>
                    <a:pt x="582" y="114"/>
                    <a:pt x="726" y="182"/>
                  </a:cubicBezTo>
                  <a:cubicBezTo>
                    <a:pt x="870" y="250"/>
                    <a:pt x="1050" y="341"/>
                    <a:pt x="1179" y="454"/>
                  </a:cubicBezTo>
                  <a:cubicBezTo>
                    <a:pt x="1308" y="567"/>
                    <a:pt x="1414" y="711"/>
                    <a:pt x="1497" y="862"/>
                  </a:cubicBezTo>
                  <a:cubicBezTo>
                    <a:pt x="1580" y="1013"/>
                    <a:pt x="1618" y="1233"/>
                    <a:pt x="1678" y="1361"/>
                  </a:cubicBezTo>
                  <a:cubicBezTo>
                    <a:pt x="1738" y="1489"/>
                    <a:pt x="1776" y="1557"/>
                    <a:pt x="1859" y="1633"/>
                  </a:cubicBezTo>
                  <a:cubicBezTo>
                    <a:pt x="1942" y="1709"/>
                    <a:pt x="2124" y="1792"/>
                    <a:pt x="2177" y="1815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350640" y="270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78480" y="2060640"/>
              <a:ext cx="74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1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36"/>
          <p:cNvSpPr/>
          <p:nvPr/>
        </p:nvSpPr>
        <p:spPr>
          <a:xfrm>
            <a:off x="66502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0"/>
          <p:cNvGrpSpPr/>
          <p:nvPr/>
        </p:nvGrpSpPr>
        <p:grpSpPr>
          <a:xfrm>
            <a:off x="4859280" y="2276640"/>
            <a:ext cx="4284720" cy="2808000"/>
            <a:chOff x="4859280" y="2276640"/>
            <a:chExt cx="4284720" cy="2808000"/>
          </a:xfrm>
        </p:grpSpPr>
        <p:sp>
          <p:nvSpPr>
            <p:cNvPr id="111" name="Rectangle 15"/>
            <p:cNvSpPr/>
            <p:nvPr/>
          </p:nvSpPr>
          <p:spPr>
            <a:xfrm>
              <a:off x="4859280" y="2276640"/>
              <a:ext cx="3960720" cy="28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4932360" y="2492280"/>
              <a:ext cx="57636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9"/>
            <p:cNvSpPr/>
            <p:nvPr/>
          </p:nvSpPr>
          <p:spPr>
            <a:xfrm>
              <a:off x="5292720" y="2779560"/>
              <a:ext cx="136692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0"/>
            <p:cNvSpPr/>
            <p:nvPr/>
          </p:nvSpPr>
          <p:spPr>
            <a:xfrm>
              <a:off x="6877080" y="2563560"/>
              <a:ext cx="136692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1"/>
            <p:cNvSpPr/>
            <p:nvPr/>
          </p:nvSpPr>
          <p:spPr>
            <a:xfrm>
              <a:off x="5867280" y="3068640"/>
              <a:ext cx="86544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2"/>
            <p:cNvSpPr/>
            <p:nvPr/>
          </p:nvSpPr>
          <p:spPr>
            <a:xfrm>
              <a:off x="5364000" y="3355920"/>
              <a:ext cx="86544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3"/>
            <p:cNvSpPr/>
            <p:nvPr/>
          </p:nvSpPr>
          <p:spPr>
            <a:xfrm>
              <a:off x="7236000" y="3355920"/>
              <a:ext cx="151272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4"/>
            <p:cNvSpPr/>
            <p:nvPr/>
          </p:nvSpPr>
          <p:spPr>
            <a:xfrm>
              <a:off x="7813800" y="2923920"/>
              <a:ext cx="50328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5"/>
            <p:cNvSpPr/>
            <p:nvPr/>
          </p:nvSpPr>
          <p:spPr>
            <a:xfrm>
              <a:off x="5364000" y="3716280"/>
              <a:ext cx="378000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26"/>
            <p:cNvSpPr/>
            <p:nvPr/>
          </p:nvSpPr>
          <p:spPr>
            <a:xfrm>
              <a:off x="5076720" y="4003560"/>
              <a:ext cx="86544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27"/>
            <p:cNvSpPr/>
            <p:nvPr/>
          </p:nvSpPr>
          <p:spPr>
            <a:xfrm>
              <a:off x="6588000" y="4147920"/>
              <a:ext cx="208764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8"/>
            <p:cNvSpPr/>
            <p:nvPr/>
          </p:nvSpPr>
          <p:spPr>
            <a:xfrm>
              <a:off x="5292720" y="4435200"/>
              <a:ext cx="86508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>
              <a:off x="6732720" y="4508280"/>
              <a:ext cx="180000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>
              <a:off x="4859280" y="4795560"/>
              <a:ext cx="86508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>
              <a:off x="6300720" y="3500280"/>
              <a:ext cx="86508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6372360" y="4795560"/>
              <a:ext cx="36036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>
              <a:off x="7524720" y="4795560"/>
              <a:ext cx="122400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6558120" y="257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37"/>
            <p:cNvSpPr/>
            <p:nvPr/>
          </p:nvSpPr>
          <p:spPr>
            <a:xfrm>
              <a:off x="8595000" y="313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38"/>
            <p:cNvSpPr/>
            <p:nvPr/>
          </p:nvSpPr>
          <p:spPr>
            <a:xfrm>
              <a:off x="6147000" y="313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39"/>
            <p:cNvSpPr/>
            <p:nvPr/>
          </p:nvSpPr>
          <p:spPr>
            <a:xfrm>
              <a:off x="6075720" y="42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40"/>
            <p:cNvSpPr/>
            <p:nvPr/>
          </p:nvSpPr>
          <p:spPr>
            <a:xfrm>
              <a:off x="8595000" y="393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41"/>
            <p:cNvSpPr/>
            <p:nvPr/>
          </p:nvSpPr>
          <p:spPr>
            <a:xfrm>
              <a:off x="8450640" y="42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42"/>
            <p:cNvSpPr/>
            <p:nvPr/>
          </p:nvSpPr>
          <p:spPr>
            <a:xfrm>
              <a:off x="816300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43"/>
            <p:cNvSpPr/>
            <p:nvPr/>
          </p:nvSpPr>
          <p:spPr>
            <a:xfrm>
              <a:off x="8666280" y="457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44"/>
            <p:cNvSpPr/>
            <p:nvPr/>
          </p:nvSpPr>
          <p:spPr>
            <a:xfrm>
              <a:off x="5570640" y="457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Text Box 45"/>
          <p:cNvSpPr/>
          <p:nvPr/>
        </p:nvSpPr>
        <p:spPr>
          <a:xfrm>
            <a:off x="660240" y="5229360"/>
            <a:ext cx="328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Cohort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Tiempos de observ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Ig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Var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5003640" y="522936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Cohorte 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Tiempo de observación 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cc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TIPOS DE COHOR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8675640" y="2276640"/>
            <a:ext cx="46836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8529840" y="5157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guimiento de 5,5 años de una cohorte n=1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403280" y="2060640"/>
            <a:ext cx="6324840" cy="3962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42920" y="2060640"/>
            <a:ext cx="53352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187280" y="602136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0              1                 2                3                     4                    5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2268360" y="206064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3348000" y="198864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500720" y="206064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 flipV="1">
            <a:off x="5724360" y="206064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 flipV="1">
            <a:off x="6948360" y="206064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2268360" y="3429000"/>
            <a:ext cx="54104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8"/>
          <p:cNvSpPr/>
          <p:nvPr/>
        </p:nvSpPr>
        <p:spPr>
          <a:xfrm>
            <a:off x="3348000" y="4076640"/>
            <a:ext cx="609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4500720" y="5013360"/>
            <a:ext cx="2971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4500720" y="5805360"/>
            <a:ext cx="16761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3"/>
          <p:cNvSpPr/>
          <p:nvPr/>
        </p:nvSpPr>
        <p:spPr>
          <a:xfrm>
            <a:off x="3348000" y="4437000"/>
            <a:ext cx="31240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43"/>
          <p:cNvGrpSpPr/>
          <p:nvPr/>
        </p:nvGrpSpPr>
        <p:grpSpPr>
          <a:xfrm>
            <a:off x="1403280" y="1989000"/>
            <a:ext cx="5184360" cy="459720"/>
            <a:chOff x="1403280" y="1989000"/>
            <a:chExt cx="5184360" cy="459720"/>
          </a:xfrm>
        </p:grpSpPr>
        <p:sp>
          <p:nvSpPr>
            <p:cNvPr id="157" name="Line 12"/>
            <p:cNvSpPr/>
            <p:nvPr/>
          </p:nvSpPr>
          <p:spPr>
            <a:xfrm>
              <a:off x="1403280" y="2217600"/>
              <a:ext cx="518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4077360" y="198900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b2b2b2"/>
                  </a:solidFill>
                  <a:latin typeface="Wingdings 2"/>
                  <a:ea typeface="Wingdings 2"/>
                </a:rPr>
                <a:t>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1403280" y="2276640"/>
            <a:ext cx="6335640" cy="459720"/>
            <a:chOff x="1403280" y="2276640"/>
            <a:chExt cx="6335640" cy="459720"/>
          </a:xfrm>
        </p:grpSpPr>
        <p:sp>
          <p:nvSpPr>
            <p:cNvPr id="160" name="Line 13"/>
            <p:cNvSpPr/>
            <p:nvPr/>
          </p:nvSpPr>
          <p:spPr>
            <a:xfrm>
              <a:off x="1403280" y="2505240"/>
              <a:ext cx="63356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27"/>
            <p:cNvSpPr/>
            <p:nvPr/>
          </p:nvSpPr>
          <p:spPr>
            <a:xfrm>
              <a:off x="5204520" y="2276640"/>
              <a:ext cx="44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b2b2b2"/>
                  </a:solidFill>
                  <a:latin typeface="Wingdings 2"/>
                  <a:ea typeface="Wingdings 2"/>
                </a:rPr>
                <a:t>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1403280" y="2708280"/>
            <a:ext cx="1608120" cy="228600"/>
            <a:chOff x="1403280" y="2708280"/>
            <a:chExt cx="1608120" cy="228600"/>
          </a:xfrm>
        </p:grpSpPr>
        <p:sp>
          <p:nvSpPr>
            <p:cNvPr id="163" name="Line 14"/>
            <p:cNvSpPr/>
            <p:nvPr/>
          </p:nvSpPr>
          <p:spPr>
            <a:xfrm>
              <a:off x="1403280" y="2852640"/>
              <a:ext cx="14367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0"/>
            <p:cNvSpPr/>
            <p:nvPr/>
          </p:nvSpPr>
          <p:spPr>
            <a:xfrm>
              <a:off x="2771640" y="2708280"/>
              <a:ext cx="239760" cy="228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2268360" y="2997360"/>
            <a:ext cx="3036960" cy="228600"/>
            <a:chOff x="2268360" y="2997360"/>
            <a:chExt cx="3036960" cy="228600"/>
          </a:xfrm>
        </p:grpSpPr>
        <p:sp>
          <p:nvSpPr>
            <p:cNvPr id="166" name="Line 15"/>
            <p:cNvSpPr/>
            <p:nvPr/>
          </p:nvSpPr>
          <p:spPr>
            <a:xfrm>
              <a:off x="2268360" y="3141720"/>
              <a:ext cx="28954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5076720" y="2997360"/>
              <a:ext cx="228600" cy="228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49"/>
          <p:cNvGrpSpPr/>
          <p:nvPr/>
        </p:nvGrpSpPr>
        <p:grpSpPr>
          <a:xfrm>
            <a:off x="4500720" y="5157720"/>
            <a:ext cx="2743200" cy="459720"/>
            <a:chOff x="4500720" y="5157720"/>
            <a:chExt cx="2743200" cy="459720"/>
          </a:xfrm>
        </p:grpSpPr>
        <p:sp>
          <p:nvSpPr>
            <p:cNvPr id="169" name="Line 21"/>
            <p:cNvSpPr/>
            <p:nvPr/>
          </p:nvSpPr>
          <p:spPr>
            <a:xfrm>
              <a:off x="4500720" y="5386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34"/>
            <p:cNvSpPr/>
            <p:nvPr/>
          </p:nvSpPr>
          <p:spPr>
            <a:xfrm>
              <a:off x="6329520" y="5157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b2b2b2"/>
                  </a:solidFill>
                  <a:latin typeface="Wingdings 2"/>
                  <a:ea typeface="Wingdings 2"/>
                </a:rPr>
                <a:t>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63"/>
          <p:cNvGrpSpPr/>
          <p:nvPr/>
        </p:nvGrpSpPr>
        <p:grpSpPr>
          <a:xfrm>
            <a:off x="3348000" y="4581360"/>
            <a:ext cx="3324240" cy="459720"/>
            <a:chOff x="3348000" y="4581360"/>
            <a:chExt cx="3324240" cy="459720"/>
          </a:xfrm>
        </p:grpSpPr>
        <p:sp>
          <p:nvSpPr>
            <p:cNvPr id="172" name="Oval 32"/>
            <p:cNvSpPr/>
            <p:nvPr/>
          </p:nvSpPr>
          <p:spPr>
            <a:xfrm>
              <a:off x="6443640" y="4653000"/>
              <a:ext cx="228600" cy="228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9"/>
            <p:cNvSpPr/>
            <p:nvPr/>
          </p:nvSpPr>
          <p:spPr>
            <a:xfrm>
              <a:off x="3348000" y="4724280"/>
              <a:ext cx="31240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35"/>
            <p:cNvSpPr/>
            <p:nvPr/>
          </p:nvSpPr>
          <p:spPr>
            <a:xfrm>
              <a:off x="6372360" y="458136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b2b2b2"/>
                  </a:solidFill>
                  <a:latin typeface="Wingdings 2"/>
                  <a:ea typeface="Wingdings 2"/>
                </a:rPr>
                <a:t>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2268360" y="3500280"/>
            <a:ext cx="1811520" cy="459720"/>
            <a:chOff x="2268360" y="3500280"/>
            <a:chExt cx="1811520" cy="459720"/>
          </a:xfrm>
        </p:grpSpPr>
        <p:sp>
          <p:nvSpPr>
            <p:cNvPr id="176" name="Line 17"/>
            <p:cNvSpPr/>
            <p:nvPr/>
          </p:nvSpPr>
          <p:spPr>
            <a:xfrm>
              <a:off x="2268360" y="3716280"/>
              <a:ext cx="16765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8"/>
            <p:cNvSpPr/>
            <p:nvPr/>
          </p:nvSpPr>
          <p:spPr>
            <a:xfrm>
              <a:off x="2627280" y="350028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b2b2b2"/>
                  </a:solidFill>
                  <a:latin typeface="Wingdings 2"/>
                  <a:ea typeface="Wingdings 2"/>
                </a:rPr>
                <a:t>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3851280" y="3573360"/>
              <a:ext cx="228600" cy="228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7742520" y="2060640"/>
            <a:ext cx="38340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 Narrow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0"/>
          <p:cNvSpPr/>
          <p:nvPr/>
        </p:nvSpPr>
        <p:spPr>
          <a:xfrm>
            <a:off x="1144080" y="171144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 Narrow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1"/>
          <p:cNvSpPr/>
          <p:nvPr/>
        </p:nvSpPr>
        <p:spPr>
          <a:xfrm>
            <a:off x="7326720" y="162864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 Narrow"/>
              </a:rPr>
              <a:t>años a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2"/>
          <p:cNvSpPr/>
          <p:nvPr/>
        </p:nvSpPr>
        <p:spPr>
          <a:xfrm>
            <a:off x="2135160" y="64008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Tiempo (a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0"/>
          <p:cNvSpPr/>
          <p:nvPr/>
        </p:nvSpPr>
        <p:spPr>
          <a:xfrm>
            <a:off x="6099120" y="640080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 Narrow"/>
              </a:rPr>
              <a:t>DI =5/26=0,192 año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52"/>
          <p:cNvSpPr/>
          <p:nvPr/>
        </p:nvSpPr>
        <p:spPr>
          <a:xfrm>
            <a:off x="2743200" y="990720"/>
            <a:ext cx="22860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3"/>
          <p:cNvSpPr/>
          <p:nvPr/>
        </p:nvSpPr>
        <p:spPr>
          <a:xfrm>
            <a:off x="3186720" y="8748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m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4495680" y="914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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57"/>
          <p:cNvSpPr/>
          <p:nvPr/>
        </p:nvSpPr>
        <p:spPr>
          <a:xfrm>
            <a:off x="7812000" y="602136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8"/>
          <p:cNvSpPr/>
          <p:nvPr/>
        </p:nvSpPr>
        <p:spPr>
          <a:xfrm>
            <a:off x="7765200" y="602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érminos equival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cidencia acumulada en los ex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porción de Incidencia en los ex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iesgo de los ex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babilidad de enfermar de los ex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00"/>
                </a:solidFill>
                <a:latin typeface="Times New Roman"/>
              </a:rPr>
              <a:t>Numerador y denominador de las tasas de Preval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0033"/>
                </a:solidFill>
                <a:uFillTx/>
                <a:latin typeface="Times New Roman"/>
              </a:rPr>
              <a:t>Numerador:</a:t>
            </a:r>
            <a:r>
              <a:rPr b="0" lang="es-ES_tradnl" sz="3200" spc="-1" strike="noStrike">
                <a:solidFill>
                  <a:srgbClr val="990033"/>
                </a:solidFill>
                <a:latin typeface="Times New Roman"/>
              </a:rPr>
              <a:t> Número total de individuos que tiene un determinado atribu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0033"/>
                </a:solidFill>
                <a:uFillTx/>
                <a:latin typeface="Times New Roman"/>
              </a:rPr>
              <a:t>Denominador: </a:t>
            </a:r>
            <a:r>
              <a:rPr b="0" lang="es-ES_tradnl" sz="3200" spc="-1" strike="noStrike">
                <a:solidFill>
                  <a:srgbClr val="990033"/>
                </a:solidFill>
                <a:latin typeface="Times New Roman"/>
              </a:rPr>
              <a:t>Población a riesgo y en la mitad del período que se quiere me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00"/>
                </a:solidFill>
                <a:latin typeface="Times New Roman"/>
              </a:rPr>
              <a:t>Fórmula de Preval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cc"/>
                </a:solidFill>
                <a:latin typeface="Times New Roman"/>
              </a:rPr>
              <a:t>Nº de casos en un determinado momento-------------------------------------------------Población a riesgo durante el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33"/>
                </a:solidFill>
                <a:latin typeface="Times New Roman"/>
              </a:rPr>
              <a:t>Para que sirve la prevalencia y la incidenci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n enfermedades de corta duración 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n enfermedades con bajo nivel de rehabilitación o cura 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Utilidad de la Preval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uy importante en la planificación de recursos en Salud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 es tan buena (pero se usa) para investigar hipótesis etiológ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7724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orque no refleja sólo la incidencia, sino también la acción de otras condi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7920" indent="-155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actores relacionados con la sobrevida. Por ej: acceso y calidad de 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87920" indent="-155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xistencia de migraciones – inmigar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0000"/>
                </a:solidFill>
                <a:latin typeface="Times New Roman"/>
              </a:rPr>
              <a:t>Uso de la preval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00"/>
                </a:solidFill>
                <a:latin typeface="Times New Roman"/>
              </a:rPr>
              <a:t>De enfermedades crónicas de progreso gradual: Ejs diabetes y artritis reumatoidea, 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00"/>
                </a:solidFill>
                <a:latin typeface="Times New Roman"/>
              </a:rPr>
              <a:t>Ejemplo de Diab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Relación esquemática de la I 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769440" cy="3743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4690800" y="51004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lación con la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Bajo supuestos de población en equilibrio estable, sin mig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124000" y="5805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2627280" y="3284640"/>
                <a:ext cx="1728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≈</m:t>
                    </m:r>
                    <m:r>
                      <m:t xml:space="preserve">I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8" name="Text Box 12"/>
          <p:cNvSpPr/>
          <p:nvPr/>
        </p:nvSpPr>
        <p:spPr>
          <a:xfrm>
            <a:off x="468360" y="42210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: asumiendo que la incidencia de Diabetes Mellitus se mantiene estable en 1% a lo largo del tiempo y su duración media es de 15 años, la P puntual será de aproximadamente 1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mic Sans MS"/>
              </a:rPr>
              <a:t>Expresiones matemáticas usada para describir eventos discre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roporciones (propor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asas (r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Razones (rat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00"/>
                </a:solidFill>
                <a:latin typeface="Times New Roman"/>
              </a:rPr>
              <a:t>Tasas de prevalencia diabetes en poblaciones seleccio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3"/>
          <p:cNvGraphicFramePr/>
          <p:nvPr/>
        </p:nvGraphicFramePr>
        <p:xfrm>
          <a:off x="914400" y="1828800"/>
          <a:ext cx="77709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770960" cy="457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12" name="Object 4"/>
          <p:cNvGraphicFramePr/>
          <p:nvPr/>
        </p:nvGraphicFramePr>
        <p:xfrm>
          <a:off x="3552840" y="5459400"/>
          <a:ext cx="406728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2840" y="5459400"/>
                    <a:ext cx="40672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O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lenguaje lego no se hace diferencia entre tasa y propor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j: se habla (y se escribe) de la tasa de accidentes de tránsito expresado como una propor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lenguaje científico son difer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DICIONES BASICAS DE LA OCURRENCIA DE EVENTOS DISCR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rbi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NCIDENCIA: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dida de un CAMBIO de estado (no caso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ca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asa de incidencia: 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xpresa un cambio en n° de eventos (incidentes) en función de un cambio en otra cant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Tiempo-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roporción de incidencia (I acumul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EVALENCIA: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dición de casos existentes (sobrevivient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rop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rta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nci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etalidad: prop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6600"/>
                </a:solidFill>
                <a:latin typeface="Times New Roman"/>
              </a:rPr>
              <a:t>Prevalencia e Incidencia como medidas de morbili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33"/>
                </a:solidFill>
                <a:latin typeface="Times New Roman"/>
              </a:rPr>
              <a:t>Hay que distinguir entre dos co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Times New Roman"/>
              </a:rPr>
              <a:t>Medición de una situación instanta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Times New Roman"/>
              </a:rPr>
              <a:t>Propagación de le enferm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66"/>
                </a:solidFill>
                <a:latin typeface="Times New Roman"/>
              </a:rPr>
              <a:t>Incidenc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Representa la frecuencia de casos nuevos en un periodo determinado de tiempo y si se relaciona con un denominador de sujetos susceptibles se llama tasa de incide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00"/>
                </a:solidFill>
                <a:latin typeface="Times New Roman"/>
              </a:rPr>
              <a:t>Preval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Frecuencia determinada de casos en un momento dado o en un período establecido( en cualquier momento durante un período de interé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Times New Roman"/>
              </a:rPr>
              <a:t>Densidad de la incidencia o fuerza de morbili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Para muchos epidemiologos esta es la gran medida. Y considera tres aspec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Times New Roman"/>
              </a:rPr>
              <a:t>Casos con 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Times New Roman"/>
              </a:rPr>
              <a:t>Tiempo total de observación por individ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Times New Roman"/>
              </a:rPr>
              <a:t>El denominador es el tiempo total de observación que fueron expuestos los indiv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038480" y="40384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0:56:04Z</dcterms:created>
  <dc:creator>Hugo Amigo</dc:creator>
  <dc:description/>
  <dc:language>en-US</dc:language>
  <cp:lastModifiedBy>Facultad de Medicina</cp:lastModifiedBy>
  <dcterms:modified xsi:type="dcterms:W3CDTF">2012-04-18T14:37:37Z</dcterms:modified>
  <cp:revision>16</cp:revision>
  <dc:subject/>
  <dc:title>Prevalencia e Incidencia como medidas de morbilidad</dc:title>
</cp:coreProperties>
</file>