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616-0E81-49BD-BF16-C6019B22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895-BF3A-4863-9698-D004DBB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8E4-90B7-49C6-85D6-D6290325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DB06-174D-49F4-9F4E-7890FD5E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8078-98F8-4274-9347-590D04F9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0431-27A0-489B-9CCF-F36FB2F1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ACC-8D94-47A3-A7F1-E2293183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5B6E-22D7-4007-B6FB-3454CF2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F35-481C-4ED0-863E-F33B1E9F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2884-F043-4596-89CB-BA8307E4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A3A-B277-4DBA-BC4F-33D4870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8E7-2E57-4337-A830-F9C0EA5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3242-B090-416E-A9EB-884B581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746E-8637-47AF-8040-B6DCDA70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2621-984B-4BC9-93A2-7EFC847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14A8-EAA9-4732-9883-9DCA9F19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F6C-1A02-4AE9-B113-088006C2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9A2-7F6C-4A7B-8B35-A9C4CEC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F39-FCD4-4751-AE61-FBC5843D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DCB-56B1-404A-8B48-AF81EB6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01D-4114-42ED-B7C1-68DDCBCC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6F1-37DC-4AC4-A5BE-E9DED13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657-EC16-49F6-B1A6-5401DCD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6D4-7D26-4432-9485-BCAE1A6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53FB-0B38-4E5B-91C9-C7527D9882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4A4-E988-437D-938D-63CE4EB160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843280" y="4005000"/>
            <a:ext cx="51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. Juan Ramón Soto Sil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mpus Occidente, U de Ch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Latido apexiano o choque de la punta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se percibe en condiciones normales en 5º EII, LM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, debe palparse en decúbito supi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no se percibe, cierto grado de decú-bito lateral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desplazamiento del choque de la punta hacia lateral y abajo, es signo de crecimiento ventricular izquier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rmalmente, el ventrículo derecho casi no es palp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uando ventrículo derecho está sobre-cargado (presión o volumen) se hace palpable en región paraesternal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Latidos Palpad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I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apical, como en HTA sistémica, estenosis aórti-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brecarga de presión de VD origina un impulso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osten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la región paraes-ternal izquierda, como en la HTP, este-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– Carácter de los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Latidos Palpa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I produ- ce un latido apical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, como en la insuficiencia aórtica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sobrecarga de volumen de VD causa un latido paraesternal izquierdo “vivo” (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iperdinámic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como en la insuficiencia tricuspídea o 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057400"/>
            <a:ext cx="3352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724280"/>
            <a:ext cx="3353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sosten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</a:t>
            </a:r>
            <a:r>
              <a:rPr b="0" lang="es-ES_tradnl" sz="24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 presió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44792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676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TA sistém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5146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342900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artación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3434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4572000"/>
            <a:ext cx="3733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ipertensión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5638680"/>
            <a:ext cx="3733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enosis valvular pulm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32763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I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2767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D, latido v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sobrecarga volumen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1371600"/>
            <a:ext cx="457200" cy="3200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4648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1523880"/>
            <a:ext cx="4496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aórt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23623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2004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 – 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39625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s hiperquinét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4876920"/>
            <a:ext cx="44956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municación interau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715000"/>
            <a:ext cx="4495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on vibraciones palpables cau-sadas por soplos cardíacos intensos o por frotes pericárd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suelen ser más confiables en la localización del defecto valvular, ya que se irradian &lt; que los sopl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elen denotar organicidad del sop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 - Frém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base se originan en lesiones tales como estenosis valvular aórtica, estenosis valvular pulmonar o 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rémitos de la punta se originan en lesiones tales como insuficiencia mitral (sistólico) o estenosis mitral (diastólic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alp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palpación permite distinguir los di-versos elementos del ciclo cardíaco, sobre todo cuando están anormalmente aumentado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sist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: hipertensión arterial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   : galope presistól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3    : galope protodia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ercu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 general no se efectúa por su bajo rend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del área de matidez cardíaca, matidez a derecha del esternón o en 2º y 3º EII, es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anorm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y denota derrame peri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Observación Gener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isnea al caminar : IC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gurgitación yugular: IC derech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bicundez (cianótica) de las mejillas: hipertensión pulmonar (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enf mitr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anosis central: cardiopatía congénita con shunt de derecha a izquie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cropaquia: endocarditis infecci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s de auscult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aórtico acces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tricus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oco mesocárd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demás de auscultar los focos clásicos ya mencionados, deben auscultarse la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región infraclavicu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ductus) y el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dors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(coartación aór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útil estudiar el comportamiento de los ruidos cardíacos y soplos, 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spiración / inspi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ambios de posi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l ejercicio fís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os dos ruidos cardíacos básicos y normales, son el primer (R1) y segundo ruidos (R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: se produce por el cierre de las vál-vulas aurículo – ventricul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2: se produce por el cierre de las vál-vulas sigmoíde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imer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componente mitral y uno tricus-píde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1, se oye más intenso en el ápex que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oír desdoblado en caso de BCRD del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 intensidad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ee 2 componentes, uno aórtico (A2) y otro pulmonar (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desdoblan fisiológicamente en ins-piración (A2 antes que P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es audible en todo el precordio mientras que P2 lo es sólo en las cercanías del foco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gundo ruid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se desdobla en casos de BCRD haz de H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ambién desdoblado en CIA, pero en este caso es fijo (= en inspiración que en espiración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doblamiento paradójico de R2 (BCRI – estenosis aórtica acentua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gundo ruid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arterial sistém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– insuficiencia aór-tica marcadas , estados de shock, taponamiento cardía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casos de hipertensión pulmo-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2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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 estenosis pulmonar moderada y ausente en la grave y T de Fallo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Tercer ruido (R3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iastólico (después del cierre de las sigmoídeas), baja tonali-dad, se oye mejor en decúbito lateral izquier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ruido de llene VI o VD que se produce al final de la fase de llenado rápido pas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(R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1600200"/>
            <a:ext cx="609840" cy="4952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7339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8288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siológ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{en jóvenes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3505320"/>
            <a:ext cx="19810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cion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0" y="5257800"/>
            <a:ext cx="1981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fun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90920"/>
            <a:ext cx="304920" cy="2590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26668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do hiperquinétic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276720"/>
            <a:ext cx="3200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388620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95680"/>
            <a:ext cx="3200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uctus arterioso persi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5638680"/>
            <a:ext cx="990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5257800"/>
            <a:ext cx="3048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disfx sistóli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 Físico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Habitualmente, se inicia co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Examen pulso arterial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 frecuencia, am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litud, tensión, for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Presión arte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4038480"/>
            <a:ext cx="5029200" cy="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447920" y="3124080"/>
            <a:ext cx="0" cy="914400"/>
          </a:xfrm>
          <a:prstGeom prst="line">
            <a:avLst/>
          </a:prstGeom>
          <a:ln w="1260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75248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1460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895480" y="3124080"/>
            <a:ext cx="0" cy="91440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477120" y="2133360"/>
            <a:ext cx="0" cy="1904760"/>
          </a:xfrm>
          <a:prstGeom prst="line">
            <a:avLst/>
          </a:prstGeom>
          <a:ln w="9360">
            <a:solidFill>
              <a:srgbClr val="040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5238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15238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1523880"/>
            <a:ext cx="6858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2590920"/>
            <a:ext cx="60948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uido de brusca distensión ventricular causado por la contracción auricular (fase de llenado activ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ubica al fin del diástole, pre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puede existir en casos de fibrila-ción auricu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atológic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Cuarto ruido (R4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izquierdo se observa en casos de HTA sistémica, estenosis aórtica, mio-cardiopatía hipertrófica, coronari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4 derecho, en hipertensión pulmonar y en estenosis valvular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nominador común es ventrículo poco distensibl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Otros rui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de ey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lick mesosistól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hasquido de apertu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originan po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anatómicas de las válvu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lt del calibre de los vas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la velocidad de la corriente san-guínea (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uscultación – Soplos C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PL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828800"/>
            <a:ext cx="533160" cy="38862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2133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5053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a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47242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inu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1905120"/>
            <a:ext cx="381240" cy="12189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3200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20574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so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26668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nsistólic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352680"/>
            <a:ext cx="2667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gurgi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38862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llene ventricul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Meso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elocidad de flujo a través de las vál-vulas sigmoídeas (shunts izda a der o estados hiperquinético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oce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Pansistól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V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Regurgit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aórtic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nsuficiencia pulmo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Diastólicos de Lle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mit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enosis tricuspíde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Flujo </a:t>
            </a:r>
            <a:r>
              <a:rPr b="0" lang="es-ES_tradnl" sz="3200" spc="-1" strike="noStrike">
                <a:solidFill>
                  <a:srgbClr val="40458c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a través de válvulas aurículo –ventriculares (rodada de fluj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Austin – Fl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plo de Carey Coombs (valvulitis mitral en la carditis reumá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   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imación de la presión veno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Se evalúa mediante la vena yugula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ter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Distancia vertical entre una línea hori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zontal que pasa por el ángulo de Lou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y otra horizontal que pasa por el lím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perior de la columna de sangre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Continu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uctus arterioso persist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tras fístulas AV congénitas o adquiri-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oplos Inoc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o tienen trascendencia clín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sistólicos eyectivos, breves, con refuerzo preco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ás frecuentes en niños, adolescentes y adultos jóve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suelen auscultar en la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unca pansistólicos, ni diastólicos ni con frémi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tras Características de los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Sopl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 Foco Auscultatorio de &gt; intens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 Irrad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 Tonalidad {&lt; 80 cps - 400 cps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 Intensidad {1/6 – 6/6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 Du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6. Carác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rotes Pericárd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on ásperos, “secos”, como arrugar papel, ritmados por el coraz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eden ser inconst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40458c"/>
                </a:solidFill>
                <a:uFillTx/>
                <a:latin typeface="Tahoma"/>
              </a:rPr>
              <a:t>Se pueden presentan en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spués de IAM transmur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ost – pericardiotomí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ricarditis urém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así medido, se obtiene en cm de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 (valor normal: 5 – 12 cm H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 estimar la presión venosa con el tronco a 0º - 30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 las oscilaciones son visibles con el tronco en una posición de 45º o más, la hipertensión venosa es indudable, así también si la vena se palpa distendi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del Pulso Venoso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   Yu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ulso hepátic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Palpación de latidos hepáticos expa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ivos y sincrónicos con los cardía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- La mayoría de las veces representa in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uficiencia tricuspídea, coincidiend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la sístole ventricular. (Equivale 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onda v en examen de yugular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amen Cardiovasc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examen de la escotadura supraester- nal permite apreciar latidos intensos en casos de hipertensión arterial sistémica, enfermedad valvular aórtica, coartación aór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 veces a esa zona, se irradian mejor soplos o frémitos (desde la válvula aór-tic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spección de la Región</a:t>
            </a:r>
            <a:br>
              <a:rPr sz="4400"/>
            </a:b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            Precord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ifoescoli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excav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ctus carinat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bombamiento precord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apexiano (5º EII, LMC: norm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 en 2º EII (dilatación de A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tidos en 2º o 3º EID (aneurisma A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21:20:37Z</dcterms:created>
  <dc:creator> Juan Ramón Soto Silva</dc:creator>
  <dc:description/>
  <dc:language>en-US</dc:language>
  <cp:lastModifiedBy>Juan Ramon Soto</cp:lastModifiedBy>
  <dcterms:modified xsi:type="dcterms:W3CDTF">2006-04-03T13:19:23Z</dcterms:modified>
  <cp:revision>8</cp:revision>
  <dc:subject/>
  <dc:title>Examen Físico Cardiovascular</dc:title>
</cp:coreProperties>
</file>