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2D44-1FA4-48E5-B562-0F2625F5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2C38-D42F-4848-90F7-514C7F39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1D96-4C28-4309-BEEF-927C2F3B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AB36-DEFC-4352-BA89-DBED8E1E7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4CEB-CD20-4249-B84C-8D2AED7A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A472-5128-4243-89CA-0CB2C4B8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85AA-1B36-4FE9-8C1F-11D970DE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9F90-A9C6-4C8D-8F8B-8CB8DB61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6660-4203-4093-A434-CB10E320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BB6A-900C-41C9-A17C-C683B3DF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5C1E-C724-4373-93DB-12FC862B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969-480A-4C18-A81D-6DDE529F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074F-ED07-48E7-8B3C-E1BCF0D2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6FF9-E586-4D8B-9502-3B16C58F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26B4-8AB2-42DC-AC06-132E006D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0FF8-FBB6-4D13-8AC0-12A8F9A7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DDB8-AB8B-45A9-BD0B-65E0A77C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611D-B151-478B-97DF-8F53DCA5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B2F8-6ECA-4C52-8C35-C275208F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6DFF-9756-4544-ABFC-020736F7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D8A5-892A-4508-9C8A-7F2CA2B4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8197-FD09-4836-BED9-74367993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F018-937C-4C03-AC90-FAA1F962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15F2-669F-442C-A697-315117F9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88D5-B6FF-444D-B43A-F50FE5412FD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A8AA-26AF-402B-8784-6E845385DCA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xamen Físico Cardiovasc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843280" y="4005000"/>
            <a:ext cx="5184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r. Juan Ramón Soto Silv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mpus Occidente, U de Ch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Latido apexiano o choque de la punta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, se percibe en condiciones normales en 5º EII, LM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n general, debe palparse en decúbito supin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i no se percibe, cierto grado de decú-bito lateral izquierdo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l desplazamiento del choque de la punta hacia lateral y abajo, es signo de crecimiento ventricular izquierdo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ormalmente, el ventrículo derecho casi no es palpab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uando ventrículo derecho está sobre-cargado (presión o volumen) se hace palpable en región paraesternal izquier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 – Carácter de los</a:t>
            </a:r>
            <a:br>
              <a:rPr sz="4400"/>
            </a:b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Latidos Palpad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obrecarga de presión de VI origina un impulso 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sostenid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 la región apical, como en HTA sistémica, estenosis aórti-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obrecarga de presión de VD origina un impulso 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sostenid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 la región paraes-ternal izquierda, como en la HTP, este-nosis pulmo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 – Carácter de los </a:t>
            </a:r>
            <a:br>
              <a:rPr sz="4400"/>
            </a:b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Latidos Palpa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 sobrecarga de volumen de VI produ- ce un latido apical “vivo” (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hiperdinámi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c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), como en la insuficiencia aórtica o ductus arterioso persisten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 sobrecarga de volumen de VD causa un latido paraesternal izquierdo “vivo” (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hiperdinámic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) como en la insuficiencia tricuspídea o C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2057400"/>
            <a:ext cx="33526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I, latido sosteni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{</a:t>
            </a:r>
            <a:r>
              <a:rPr b="0" lang="es-ES_tradnl" sz="24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 presión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4724280"/>
            <a:ext cx="335304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D, latido sosteni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{</a:t>
            </a:r>
            <a:r>
              <a:rPr b="0" lang="es-ES_tradnl" sz="24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 presión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1447920"/>
            <a:ext cx="304560" cy="2743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1676520"/>
            <a:ext cx="3657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TA sistém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2514600"/>
            <a:ext cx="3657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enosis aórt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19720" y="3429000"/>
            <a:ext cx="3657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artación aórt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4343400"/>
            <a:ext cx="380880" cy="2209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4572000"/>
            <a:ext cx="37335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ipertensión pulmon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95680" y="5638680"/>
            <a:ext cx="3733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enosis valvular pulmon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2438280"/>
            <a:ext cx="32763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I, latido viv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{sobrecarga volumen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5105520"/>
            <a:ext cx="327672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D, latido viv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{sobrecarga volumen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1371600"/>
            <a:ext cx="457200" cy="3200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33920" y="464832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38480" y="1523880"/>
            <a:ext cx="44960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suficiencia aórt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38480" y="2362320"/>
            <a:ext cx="44960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suficiencia mitr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14800" y="3200400"/>
            <a:ext cx="4495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IV – Ductus arterioso persi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14800" y="3962520"/>
            <a:ext cx="44956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ados hiperquinétic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14800" y="4876920"/>
            <a:ext cx="44956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municación interauricul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14800" y="5715000"/>
            <a:ext cx="4495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suficiencia tricuspíde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rémitos son vibraciones palpables cau-sadas por soplos cardíacos intensos o por frotes pericárdic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rémitos suelen ser más confiables en la localización del defecto valvular, ya que se irradian &lt; que los sopl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uelen denotar organicidad del sopl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 - Frém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rémitos de la base se originan en lesiones tales como estenosis valvular aórtica, estenosis valvular pulmonar o ductus arterioso persisten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rémitos de la punta se originan en lesiones tales como insuficiencia mitral (sistólico) o estenosis mitral (diastólic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 palpación permite distinguir los di-versos elementos del ciclo cardíaco, sobre todo cuando están anormalmente aumentado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1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: estenosis mitr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2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: hipertensión arterial sistém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2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: hipertensión arterial pulmo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4    : galope presistólico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3    : galope protodiastól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ercus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n general no se efectúa por su bajo rendimien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Un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del área de matidez cardíaca, matidez a derecha del esternón o en 2º y 3º EII, es 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anormal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, y denota derrame pericárd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Observación Gener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isnea al caminar : IC izquier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ngurgitación yugular: IC derech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ubicundez (cianótica) de las mejillas: hipertensión pulmonar (2</a:t>
            </a:r>
            <a:r>
              <a:rPr b="0" lang="es-ES_tradnl" sz="3200" spc="-1" strike="noStrike" baseline="30000">
                <a:solidFill>
                  <a:srgbClr val="40458c"/>
                </a:solidFill>
                <a:latin typeface="Tahoma"/>
              </a:rPr>
              <a:t>a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 enf mitra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ianosis central: cardiopatía congénita con shunt de derecha a izquier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cropaquia: endocarditis infeccio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ocos de auscultació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oco aórt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oco aórtico acceso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oco pulmo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oco mitr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oco tricuspíde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oco mesocárd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demás de auscultar los focos clásicos ya mencionados, deben auscultarse la 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región infraclavicular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(ductus) y el 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dors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(coartación aórtic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útil estudiar el comportamiento de los ruidos cardíacos y soplos, an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Espiración / inspir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Cambios de posi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spués del ejercicio fís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os dos ruidos cardíacos básicos y normales, son el primer (R1) y segundo ruidos (R2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1: se produce por el cierre de las vál-vulas aurículo – ventricula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2: se produce por el cierre de las vál-vulas sigmoíde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Primer Ruid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osee componente mitral y uno tricus-píde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1, se oye más intenso en el ápex que en la ba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puede oír desdoblado en caso de BCRD del haz de H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u intensidad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 estenosis mitr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Segundo ruid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osee 2 componentes, uno aórtico (A2) y otro pulmonar (P2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desdoblan fisiológicamente en ins-piración (A2 antes que P2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2 es audible en todo el precordio mientras que P2 lo es sólo en las cercanías del foco pulmo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gundo ruid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También se desdobla en casos de BCRD haz de H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También desdoblado en CIA, pero en este caso es fijo (= en inspiración que en espiración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sdoblamiento paradójico de R2 (BCRI – estenosis aórtica acentuad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Segundo ruid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2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 casos de hipertensión arterial sistémica, coartación aórt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2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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 estenosis – insuficiencia aór-tica marcadas , estados de shock, taponamiento cardía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2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 casos de hipertensión pulmo-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2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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 estenosis pulmonar moderada y ausente en la grave y T de Fallo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Tercer ruido (R3)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un ruido diastólico (después del cierre de las sigmoídeas), baja tonali-dad, se oye mejor en decúbito lateral izquierd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un ruido de llene VI o VD que se produce al final de la fase de llenado rápido pasiv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 (R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1523880" y="1600200"/>
            <a:ext cx="609840" cy="4952880"/>
          </a:xfrm>
          <a:custGeom>
            <a:avLst/>
            <a:gdLst>
              <a:gd name="textAreaLeft" fmla="*/ 389520 w 609840"/>
              <a:gd name="textAreaRight" fmla="*/ 610200 w 609840"/>
              <a:gd name="textAreaTop" fmla="*/ 128880 h 4952880"/>
              <a:gd name="textAreaBottom" fmla="*/ 4824000 h 495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37339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1828800"/>
            <a:ext cx="1981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isiológ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{en jóvenes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0" y="3505320"/>
            <a:ext cx="19810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uncion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0" y="5257800"/>
            <a:ext cx="1981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isfun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stól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2590920"/>
            <a:ext cx="304920" cy="2590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2666880"/>
            <a:ext cx="3200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ado hiperquiné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0" y="3276720"/>
            <a:ext cx="3200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suficiencia mitr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0" y="3886200"/>
            <a:ext cx="3200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I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0" y="4495680"/>
            <a:ext cx="3200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uctus arterioso persi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67080" y="5638680"/>
            <a:ext cx="9907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257800" y="5257800"/>
            <a:ext cx="3048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suficiencia cardía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or disfx sistól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x Físico Cardiovasc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2120" y="2437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Habitualmente, se inicia con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Examen pulso arterial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 frecuencia, am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litud, tensión, form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Presión arter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1447920" y="4038480"/>
            <a:ext cx="5029200" cy="0"/>
          </a:xfrm>
          <a:prstGeom prst="line">
            <a:avLst/>
          </a:prstGeom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447920" y="3124080"/>
            <a:ext cx="0" cy="914400"/>
          </a:xfrm>
          <a:prstGeom prst="line">
            <a:avLst/>
          </a:prstGeom>
          <a:ln w="1260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752480" y="2133360"/>
            <a:ext cx="0" cy="1904760"/>
          </a:xfrm>
          <a:prstGeom prst="line">
            <a:avLst/>
          </a:prstGeom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514600" y="2133360"/>
            <a:ext cx="0" cy="1904760"/>
          </a:xfrm>
          <a:prstGeom prst="line">
            <a:avLst/>
          </a:prstGeom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895480" y="3124080"/>
            <a:ext cx="0" cy="914400"/>
          </a:xfrm>
          <a:prstGeom prst="line">
            <a:avLst/>
          </a:prstGeom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477120" y="2133360"/>
            <a:ext cx="0" cy="1904760"/>
          </a:xfrm>
          <a:prstGeom prst="line">
            <a:avLst/>
          </a:prstGeom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152388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09680" y="1523880"/>
            <a:ext cx="6098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5880" y="1523880"/>
            <a:ext cx="68580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90920" y="2590920"/>
            <a:ext cx="60948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43000" y="2590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Cuarto ruido (R4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uido de brusca distensión ventricular causado por la contracción auricular (fase de llenado activ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ubica al fin del diástole, presistól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o puede existir en casos de fibrila-ción auricul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patológico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Cuarto ruido (R4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4 izquierdo se observa en casos de HTA sistémica, estenosis aórtica, mio-cardiopatía hipertrófica, coronari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4 derecho, en hipertensión pulmonar y en estenosis valvular pulmo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nominador común es ventrículo poco distensibl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Otros ruidos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lick de eyec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lick mesosistól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hasquido de apertur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 – Soplos C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Se originan por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lt anatómicas de las válvul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lt del calibre de los vaso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 la velocidad de la corriente san-guínea (estados hiperquinético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 – Soplos C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304920" y="3276720"/>
            <a:ext cx="2057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OPL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62320" y="1828800"/>
            <a:ext cx="533160" cy="3886200"/>
          </a:xfrm>
          <a:custGeom>
            <a:avLst/>
            <a:gdLst>
              <a:gd name="textAreaLeft" fmla="*/ 340560 w 533160"/>
              <a:gd name="textAreaRight" fmla="*/ 533520 w 53316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95480" y="2133720"/>
            <a:ext cx="1905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stólic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95480" y="3505320"/>
            <a:ext cx="1905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iastólic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95480" y="4724280"/>
            <a:ext cx="1905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tinu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24280" y="1905120"/>
            <a:ext cx="381240" cy="1218960"/>
          </a:xfrm>
          <a:custGeom>
            <a:avLst/>
            <a:gdLst>
              <a:gd name="textAreaLeft" fmla="*/ 243720 w 381240"/>
              <a:gd name="textAreaRight" fmla="*/ 381600 w 38124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00600" y="3200400"/>
            <a:ext cx="380880" cy="1219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81480" y="2057400"/>
            <a:ext cx="2667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esosistólic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181480" y="2666880"/>
            <a:ext cx="2667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ansistólic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81480" y="3352680"/>
            <a:ext cx="2667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regurgit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81480" y="3886200"/>
            <a:ext cx="2667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llene ventricul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oplos Mesosistól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enosis aórt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enosis pulmo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velocidad de flujo a través de las vál-vulas sigmoídeas (shunts izda a der o estados hiperquinético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nocen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oplos Pansistól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nsuficiencia mitr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nsuficiencia tricuspíde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IV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oplos Diastólicos de</a:t>
            </a:r>
            <a:br>
              <a:rPr sz="4400"/>
            </a:b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Regurgitación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nsuficiencia aórtica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nsuficiencia pulmo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oplos Diastólicos de Lle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enosis mitr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enosis tricuspíde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lujo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a través de válvulas aurículo –ventriculares (rodada de fluj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oplo de Austin – Fli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oplo de Carey Coombs (valvulitis mitral en la carditis reumátic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xamen del Pulso Venoso   </a:t>
            </a:r>
            <a:br>
              <a:rPr sz="4400"/>
            </a:b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 Yug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imación de la presión veno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- Se evalúa mediante la vena yugular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xtern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- Distancia vertical entre una línea hori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zontal que pasa por el ángulo de Loui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y otra horizontal que pasa por el lími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uperior de la columna de sangre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oplos Continu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2120" y="2819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uctus arterioso persisten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Otras fístulas AV congénitas o adquiri-d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oplos Inoce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o tienen trascendencia clín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on sistólicos eyectivos, breves, con refuerzo precoz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Más frecuentes en niños, adolescentes y adultos jóve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suelen auscultar en la ba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unca pansistólicos, ni diastólicos ni con frémi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Otras Características de los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Soplo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1. Foco Auscultatorio de &gt; intensida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2. Irradi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3. Tonalidad {&lt; 80 cps - 400 cps}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4. Intensidad {1/6 – 6/6}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5. Dur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6. Caráct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Frotes Pericárd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on ásperos, “secos”, como arrugar papel, ritmados por el coraz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ueden ser inconstan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Se pueden presentan en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ericardit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spués de IAM transmur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ost – pericardiotomí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ericarditis urém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xamen del Pulso Venoso</a:t>
            </a:r>
            <a:br>
              <a:rPr sz="4400"/>
            </a:b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Yug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l valor así medido, se obtiene en cm de H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O (valor normal: 5 – 12 cm H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puede estimar la presión venosa con el tronco a 0º - 30º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i las oscilaciones son visibles con el tronco en una posición de 45º o más, la hipertensión venosa es indudable, así también si la vena se palpa distendi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xamen del Pulso Venoso</a:t>
            </a:r>
            <a:br>
              <a:rPr sz="4400"/>
            </a:b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  Yug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ulso hepátic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- Palpación de latidos hepáticos expan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ivos y sincrónicos con los cardíac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- La mayoría de las veces representa in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uficiencia tricuspídea, coincidiendo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on la sístole ventricular. (Equivale a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onda v en examen de yugular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095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xamen Cardiovasc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l examen de la escotadura supraester- nal permite apreciar latidos intensos en casos de hipertensión arterial sistémica, enfermedad valvular aórtica, coartación aórt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 veces a esa zona, se irradian mejor soplos o frémitos (desde la válvula aór-tic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spección de la Región</a:t>
            </a:r>
            <a:br>
              <a:rPr sz="4400"/>
            </a:b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Precordi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ifoescoli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ectus excavatu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ectus carinatu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bombamiento precord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tido apexiano (5º EII, LMC: norma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tido en 2º EII (dilatación de AP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tidos en 2º o 3º EID (aneurisma A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6T21:20:37Z</dcterms:created>
  <dc:creator> Juan Ramón Soto Silva</dc:creator>
  <dc:description/>
  <dc:language>en-US</dc:language>
  <cp:lastModifiedBy>Juan Ramon Soto</cp:lastModifiedBy>
  <dcterms:modified xsi:type="dcterms:W3CDTF">2006-04-03T13:19:23Z</dcterms:modified>
  <cp:revision>8</cp:revision>
  <dc:subject/>
  <dc:title>Examen Físico Cardiovascular</dc:title>
</cp:coreProperties>
</file>