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581-BE07-4AB4-B98C-1C7F795B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688-6DBF-4DD5-89CB-A921E68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B32-59FD-46B5-9E12-D0503459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205-68C7-4627-85E8-9812EB98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145F-7A7B-40EB-95C7-0FDEB9F9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FBE4-A0E3-4AA8-B112-C28318BD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F600-0047-40CB-8A72-46FAAFA0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997C-66FA-4F74-8DF2-01BD1769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861-1F60-47A7-B0D2-7D817B30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A910-FED6-4162-BF0A-0A89A7E1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C595-B4F1-43C0-B212-D3EA99A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5C5-2A45-4658-8B76-088E340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5195-DC7F-474C-977C-093CCE1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5FEB-29ED-4540-9D72-1E8D867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74DC-B78A-45F1-B325-C276E46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B9E8-CB0D-442C-A67B-EAAACDF8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A825-2452-4A3D-BC1C-E19FE7FD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1DD-9B1C-402F-9651-93BABA77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B56-9863-483E-80F3-56134DEF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199-CD22-4AC1-81FE-1A06F613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C5B-BD89-44D8-9FA9-FD030B3A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BC3-73B2-4E72-BDF8-C2D6B75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3A7-4DBC-420C-AD43-5C73368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A1A-D98A-47A0-A869-011C81CB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0026-553E-4041-B5DE-6D6DBD9052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2A93-8678-48A4-A5D7-D422521B8B6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43280" y="4005000"/>
            <a:ext cx="518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. Juan Ramón Soto Sil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mpus Occidente, U de Ch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Latido apexiano o choque de la punta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se percibe en condiciones normales en 5º EII, LM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, debe palparse en decúbito supi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no se percibe, cierto grado de decú-bito lateral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desplazamiento del choque de la punta hacia lateral y abajo, es signo de crecimiento ventricular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rmalmente, el ventrículo derecho casi no es palpa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uando ventrículo derecho está sobre-cargado (presión o volumen) se hace palpable en región paraesternal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Latidos Palpad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I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apical, como en HTA sistémica, estenosis aórti-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D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paraes-ternal izquierda, como en la HTP, este-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Latidos Palp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I produ- ce un latido apical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, como en la insuficiencia aórtica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D causa un latido paraesternal izquierdo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como en la insuficiencia tricuspídea o 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057400"/>
            <a:ext cx="3352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724280"/>
            <a:ext cx="3353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144792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67652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TA sistém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5146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34290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artación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3434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4572000"/>
            <a:ext cx="3733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ipertensión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5638680"/>
            <a:ext cx="3733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valvular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38280"/>
            <a:ext cx="3276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32767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1371600"/>
            <a:ext cx="457200" cy="3200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648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523880"/>
            <a:ext cx="4496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362320"/>
            <a:ext cx="4496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2004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 – 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39625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s hiperquinét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48769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unicación interau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7150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on vibraciones palpables cau-sadas por soplos cardíacos intensos o por frotes pericárd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uelen ser más confiables en la localización del defecto valvular, ya que se irradian &lt; que los sopl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elen denotar organicidad del sop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- Frém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base se originan en lesiones tales como estenosis valvular aórtica, estenosis valvular pulmonar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punta se originan en lesiones tales como insuficiencia mitral (sistólico) o estenosis mitral (diastólic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palpación permite distinguir los di-versos elementos del ciclo cardíaco, sobre todo cuando están anormalmente aumentad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sist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   : galope presistól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3    : galope protodia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ercu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 no se efectúa por su bajo rend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del área de matidez cardíaca, matidez a derecha del esternón o en 2º y 3º EII, es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anorm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y denota derrame peri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Observación Gener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isnea al caminar : IC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gurgitación yugular: IC derech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bicundez (cianótica) de las mejillas: hipertensión pulmonar (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enf mitr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anosis central: cardiopatía congénita con shunt de derecha a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cropaquia: endocarditis infecci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s de auscult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 acces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tricus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eso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demás de auscultar los focos clásicos ya mencionados, deben auscultarse la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región infraclavicu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ductus) y el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dors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coartación aór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útil estudiar el comportamiento de los ruidos cardíacos y soplos, 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spiración / inspi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ambios de posi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l ejercicio fís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os dos ruidos cardíacos básicos y normales, son el primer (R1) y segundo ruidos (R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: se produce por el cierre de las vál-vulas aurículo – ventricula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2: se produce por el cierre de las vál-vulas sigmoíde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imer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componente mitral y uno tricus-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, se oye más intenso en el ápex que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oír desdoblado en caso de BCRD del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 intensidad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2 componentes, uno aórtico (A2) y otro pulmonar (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desdoblan fisiológicamente en ins-piración (A2 antes que 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es audible en todo el precordio mientras que P2 lo es sólo en las cercanías del 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gundo ruid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se desdobla en casos de BCRD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desdoblado en CIA, pero en este caso es fijo (= en inspiración que en espiración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doblamiento paradójico de R2 (BCRI – estenosis aórtica acentua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arterial sistém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– insuficiencia aór-tica marcadas , estados de shock, taponamiento cardía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pulmo-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pulmonar moderada y ausente en la grave y T de Fallo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Tercer ruido (R3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iastólico (después del cierre de las sigmoídeas), baja tonali-dad, se oye mejor en decúbito lateral izquier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e llene VI o VD que se produce al final de la fase de llenado rápido pas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(R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600200"/>
            <a:ext cx="609840" cy="4952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7339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828800"/>
            <a:ext cx="1981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siológ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en jóvenes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5053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98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fun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59092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666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 hiperquiné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2767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88620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956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563868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5257800"/>
            <a:ext cx="3048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disfx 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abitualmente, se inicia co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xamen pulso arteri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 frecuencia, am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litud, tensión, for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esión arte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4038480"/>
            <a:ext cx="5029200" cy="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47920" y="3124080"/>
            <a:ext cx="0" cy="914400"/>
          </a:xfrm>
          <a:prstGeom prst="line">
            <a:avLst/>
          </a:prstGeom>
          <a:ln w="1260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75248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1460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895480" y="3124080"/>
            <a:ext cx="0" cy="91440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47712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5238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15238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1523880"/>
            <a:ext cx="6858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590920"/>
            <a:ext cx="6094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ido de brusca distensión ventricular causado por la contracción auricular (fase de llenado activ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ubica al fin del diástole, pre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puede existir en casos de fibrila-ción auricu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atológ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izquierdo se observa en casos de HTA sistémica, estenosis aórtica, mio-cardiopatía hipertrófica, coro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derecho, en hipertensión pulmonar y en estenosis valvular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nominador común es ventrículo poco distensibl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Otros rui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de ey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meso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hasquido de apertu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originan po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anatómicas de las válvu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del calibre de los vaso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la velocidad de la corriente san-guínea (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PL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828800"/>
            <a:ext cx="533160" cy="3886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21337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5053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a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7242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tinu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1905120"/>
            <a:ext cx="381240" cy="12189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3200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20574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so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26668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n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3526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gurgi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38862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llene vent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Meso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elocidad de flujo a través de las vál-vulas sigmoídeas (shunts izda a der o 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oc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Pan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Regurgit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aórtic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 Lle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lujo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a través de válvulas aurículo –ventriculares (rodada de fluj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Austin – Fli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Carey Coombs (valvulitis mitral en la carditis reumá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  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imación de la presión ven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Se evalúa mediante la vena yugula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ter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Distancia vertical entre una línea hori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zontal que pasa por el ángulo de Lou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y otra horizontal que pasa por el lím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perior de la columna de sangre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Continu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tras fístulas AV congénitas o adquiri-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Inoc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tienen trascendencia clín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sistólicos eyectivos, breves, con refuerzo preco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ás frecuentes en niños, adolescentes y adultos jóve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suelen auscultar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unca pansistólicos, ni diastólicos ni con frémi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tras Características de los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Sopl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 Foco Auscultatorio de &gt; intens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 Irradi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 Tonalidad {&lt; 80 cps - 400 cps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 Intensidad {1/6 – 6/6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 Du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6. Carác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rotes Pericárd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ásperos, “secos”, como arrugar papel, ritmados por el coraz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eden ser inconst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pueden presentan e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 IAM transmu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t – pericardiotomí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 ur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así medido, se obtiene en cm de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 (valor normal: 5 – 12 cm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estimar la presión venosa con el tronco a 0º - 30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las oscilaciones son visibles con el tronco en una posición de 45º o más, la hipertensión venosa es indudable, así también si la vena se palpa distendi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lso hepátic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Palpación de latidos hepáticos expa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vos y sincrónicos con los cardía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La mayoría de las veces representa i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ficiencia tricuspídea, coincidien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la sístole ventricular. (Equivale 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nda v en examen de yugular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examen de la escotadura supraester- nal permite apreciar latidos intensos en casos de hipertensión arterial sistémica, enfermedad valvular aórt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veces a esa zona, se irradian mejor soplos o frémitos (desde la válvula aór-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spección de la Región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Precord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foescoli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excav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carin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bombamiento precord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apexiano (5º EII, LMC: norm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en 2º EII (dilatación de A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s en 2º o 3º EID (aneurisma A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21:20:37Z</dcterms:created>
  <dc:creator> Juan Ramón Soto Silva</dc:creator>
  <dc:description/>
  <dc:language>en-US</dc:language>
  <cp:lastModifiedBy>Juan Ramon Soto</cp:lastModifiedBy>
  <dcterms:modified xsi:type="dcterms:W3CDTF">2006-04-03T13:19:23Z</dcterms:modified>
  <cp:revision>8</cp:revision>
  <dc:subject/>
  <dc:title>Examen Físico Cardiovascular</dc:title>
</cp:coreProperties>
</file>