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2ABC-9411-4DE2-BADE-5A8B0BDB1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F945-7F48-4BB1-9242-E11DD195A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9F45-0324-49BD-AF3E-D1E009685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244C-9055-4DC8-A716-719F48853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972E9-CC8D-400D-8328-72D5DDF93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C5D2A-81CE-4AEA-AB95-FCB723A6C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A0399-40A2-4AAB-A788-74255F34C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10647-2216-471B-9D21-6C4BC57E2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3F2F3-DC53-4295-B45C-01FD46280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653C7-222B-4352-BC4B-84FCDB1F1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CBF97-A867-49FA-B281-61ACA8BC1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F18F-BE9F-4054-B039-4FF6FCB87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3B37B-1405-40DE-8783-E8AAEF570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F6F27-8A6B-44C0-B592-7E546E39A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C95F2-84FC-44BF-937E-69E87805A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F3979-5D2B-4320-82AE-8EC0B3EE7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773FB-7AE6-404B-AA94-0E42C26BA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89EA-D575-4B7A-B557-4E7DAB2F2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3F75-B00F-45DC-BFE0-C3BB07052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6615-EEF9-414D-92AE-DE2A7CC5C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880D-4865-424F-9F57-C557E2772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60F4-6492-4D31-A541-0E91759AD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AEEE-625F-42D1-9F9A-814ACD34C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F0C0-B52B-4388-A238-3A4B06E93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AE54B-07AD-4581-8D98-014002E1CEF5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40C52-617E-4F39-93DC-7692DD69ABEA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Examen Físico Cardiovascula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843280" y="4005000"/>
            <a:ext cx="518472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r. Juan Ramón Soto Silv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ampus Occidente, U de Chil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             </a:t>
            </a: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Palp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40458c"/>
                </a:solidFill>
                <a:uFillTx/>
                <a:latin typeface="Tahoma"/>
              </a:rPr>
              <a:t>Latido apexiano o choque de la punta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, se percibe en condiciones normales en 5º EII, LMC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En general, debe palparse en decúbito supin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Si no se percibe, cierto grado de decú-bito lateral izquierdo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              </a:t>
            </a: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Palp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El desplazamiento del choque de la punta hacia lateral y abajo, es signo de crecimiento ventricular izquierdo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Normalmente, el ventrículo derecho casi no es palpabl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Cuando ventrículo derecho está sobre-cargado (presión o volumen) se hace palpable en región paraesternal izquierd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  </a:t>
            </a: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Palpación – Carácter de los</a:t>
            </a:r>
            <a:br>
              <a:rPr sz="4400"/>
            </a:b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          Latidos Palpados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Sobrecarga de presión de VI origina un impulso </a:t>
            </a:r>
            <a:r>
              <a:rPr b="0" lang="es-ES_tradnl" sz="3200" spc="-1" strike="noStrike" u="sng">
                <a:solidFill>
                  <a:srgbClr val="40458c"/>
                </a:solidFill>
                <a:uFillTx/>
                <a:latin typeface="Tahoma"/>
              </a:rPr>
              <a:t>sostenido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 en la región apical, como en HTA sistémica, estenosis aórti-c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Sobrecarga de presión de VD origina un impulso </a:t>
            </a:r>
            <a:r>
              <a:rPr b="0" lang="es-ES_tradnl" sz="3200" spc="-1" strike="noStrike" u="sng">
                <a:solidFill>
                  <a:srgbClr val="40458c"/>
                </a:solidFill>
                <a:uFillTx/>
                <a:latin typeface="Tahoma"/>
              </a:rPr>
              <a:t>sostenido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 en la región paraes-ternal izquierda, como en la HTP, este-nosis pulmona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Palpación – Carácter de los </a:t>
            </a:r>
            <a:br>
              <a:rPr sz="4400"/>
            </a:b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         Latidos Palpad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La sobrecarga de volumen de VI produ- ce un latido apical “vivo” (</a:t>
            </a:r>
            <a:r>
              <a:rPr b="0" lang="es-ES_tradnl" sz="3200" spc="-1" strike="noStrike" u="sng">
                <a:solidFill>
                  <a:srgbClr val="40458c"/>
                </a:solidFill>
                <a:uFillTx/>
                <a:latin typeface="Tahoma"/>
              </a:rPr>
              <a:t>hiperdinámi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-</a:t>
            </a:r>
            <a:r>
              <a:rPr b="0" lang="es-ES_tradnl" sz="3200" spc="-1" strike="noStrike" u="sng">
                <a:solidFill>
                  <a:srgbClr val="40458c"/>
                </a:solidFill>
                <a:uFillTx/>
                <a:latin typeface="Tahoma"/>
              </a:rPr>
              <a:t>co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), como en la insuficiencia aórtica o ductus arterioso persistent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La sobrecarga de volumen de VD causa un latido paraesternal izquierdo “vivo” (</a:t>
            </a:r>
            <a:r>
              <a:rPr b="0" lang="es-ES_tradnl" sz="3200" spc="-1" strike="noStrike" u="sng">
                <a:solidFill>
                  <a:srgbClr val="40458c"/>
                </a:solidFill>
                <a:uFillTx/>
                <a:latin typeface="Tahoma"/>
              </a:rPr>
              <a:t>hiperdinámico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) como en la insuficiencia tricuspídea o CI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              </a:t>
            </a: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Palp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4" name=""/>
          <p:cNvSpPr/>
          <p:nvPr/>
        </p:nvSpPr>
        <p:spPr>
          <a:xfrm>
            <a:off x="533520" y="2057400"/>
            <a:ext cx="335268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VI, latido sostenid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{</a:t>
            </a:r>
            <a:r>
              <a:rPr b="0" lang="es-ES_tradnl" sz="2400" spc="-1" strike="noStrike">
                <a:solidFill>
                  <a:srgbClr val="40458c"/>
                </a:solidFill>
                <a:latin typeface="Symbol"/>
                <a:ea typeface="Symbol"/>
              </a:rPr>
              <a:t>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de presión}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09480" y="4724280"/>
            <a:ext cx="335304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VD, latido sostenid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{</a:t>
            </a:r>
            <a:r>
              <a:rPr b="0" lang="es-ES_tradnl" sz="2400" spc="-1" strike="noStrike">
                <a:solidFill>
                  <a:srgbClr val="40458c"/>
                </a:solidFill>
                <a:latin typeface="Symbol"/>
                <a:ea typeface="Symbol"/>
              </a:rPr>
              <a:t>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de presión}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962520" y="1447920"/>
            <a:ext cx="304560" cy="2743200"/>
          </a:xfrm>
          <a:custGeom>
            <a:avLst/>
            <a:gdLst>
              <a:gd name="textAreaLeft" fmla="*/ 194760 w 304560"/>
              <a:gd name="textAreaRight" fmla="*/ 304920 w 304560"/>
              <a:gd name="textAreaTop" fmla="*/ 71280 h 2743200"/>
              <a:gd name="textAreaBottom" fmla="*/ 2671920 h 274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343400" y="1676520"/>
            <a:ext cx="36576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HTA sistémic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343400" y="2514600"/>
            <a:ext cx="36576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stenosis aórtic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419720" y="3429000"/>
            <a:ext cx="36576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Coartación aórtic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962520" y="4343400"/>
            <a:ext cx="380880" cy="2209680"/>
          </a:xfrm>
          <a:custGeom>
            <a:avLst/>
            <a:gdLst>
              <a:gd name="textAreaLeft" fmla="*/ 243360 w 380880"/>
              <a:gd name="textAreaRight" fmla="*/ 381240 w 380880"/>
              <a:gd name="textAreaTop" fmla="*/ 57600 h 2209680"/>
              <a:gd name="textAreaBottom" fmla="*/ 2152080 h 2209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419720" y="4572000"/>
            <a:ext cx="373356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Hipertensión pulmona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495680" y="5638680"/>
            <a:ext cx="37339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stenosis valvular pulmona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            </a:t>
            </a: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Palp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4" name=""/>
          <p:cNvSpPr/>
          <p:nvPr/>
        </p:nvSpPr>
        <p:spPr>
          <a:xfrm>
            <a:off x="304920" y="2438280"/>
            <a:ext cx="327636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VI, latido viv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{sobrecarga volumen}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880" y="5105520"/>
            <a:ext cx="3276720" cy="9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VD, latido viv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{sobrecarga volumen}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581280" y="1371600"/>
            <a:ext cx="457200" cy="3200400"/>
          </a:xfrm>
          <a:custGeom>
            <a:avLst/>
            <a:gdLst>
              <a:gd name="textAreaLeft" fmla="*/ 292320 w 457200"/>
              <a:gd name="textAreaRight" fmla="*/ 457560 w 457200"/>
              <a:gd name="textAreaTop" fmla="*/ 83160 h 3200400"/>
              <a:gd name="textAreaBottom" fmla="*/ 3117240 h 3200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733920" y="4648320"/>
            <a:ext cx="228600" cy="1828800"/>
          </a:xfrm>
          <a:custGeom>
            <a:avLst/>
            <a:gdLst>
              <a:gd name="textAreaLeft" fmla="*/ 146160 w 228600"/>
              <a:gd name="textAreaRight" fmla="*/ 228960 w 22860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038480" y="1523880"/>
            <a:ext cx="449604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Insuficiencia aórtic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038480" y="2362320"/>
            <a:ext cx="449604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Insuficiencia mitral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114800" y="3200400"/>
            <a:ext cx="44956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CIV – Ductus arterioso persis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114800" y="3962520"/>
            <a:ext cx="449568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stados hiperquinético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114800" y="4876920"/>
            <a:ext cx="449568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Comunicación interauricula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114800" y="5715000"/>
            <a:ext cx="44956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Insuficiencia tricuspíde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             </a:t>
            </a: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Palp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Frémitos son vibraciones palpables cau-sadas por soplos cardíacos intensos o por frotes pericárdico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Frémitos suelen ser más confiables en la localización del defecto valvular, ya que se irradian &lt; que los soplo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Suelen denotar organicidad del sopl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      </a:t>
            </a: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Palpación - Frémit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Frémitos de la base se originan en lesiones tales como estenosis valvular aórtica, estenosis valvular pulmonar o ductus arterioso persistent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Frémitos de la punta se originan en lesiones tales como insuficiencia mitral (sistólico) o estenosis mitral (diastólico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              </a:t>
            </a: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Palp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La palpación permite distinguir los di-versos elementos del ciclo cardíaco, sobre todo cuando están anormalmente aumentados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R1 </a:t>
            </a:r>
            <a:r>
              <a:rPr b="0" lang="es-ES_tradnl" sz="3200" spc="-1" strike="noStrike">
                <a:solidFill>
                  <a:srgbClr val="40458c"/>
                </a:solidFill>
                <a:latin typeface="Symbol"/>
                <a:ea typeface="Symbol"/>
              </a:rPr>
              <a:t>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 : estenosis mitra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A2 </a:t>
            </a:r>
            <a:r>
              <a:rPr b="0" lang="es-ES_tradnl" sz="3200" spc="-1" strike="noStrike">
                <a:solidFill>
                  <a:srgbClr val="40458c"/>
                </a:solidFill>
                <a:latin typeface="Symbol"/>
                <a:ea typeface="Symbol"/>
              </a:rPr>
              <a:t>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 : hipertensión arterial sistémic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P2 </a:t>
            </a:r>
            <a:r>
              <a:rPr b="0" lang="es-ES_tradnl" sz="3200" spc="-1" strike="noStrike">
                <a:solidFill>
                  <a:srgbClr val="40458c"/>
                </a:solidFill>
                <a:latin typeface="Symbol"/>
                <a:ea typeface="Symbol"/>
              </a:rPr>
              <a:t>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 : hipertensión arterial pulmona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R4    : galope presistólico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R3    : galope protodiastólic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             </a:t>
            </a: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Percus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762120" y="23623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En general no se efectúa por su bajo rendimient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Un </a:t>
            </a:r>
            <a:r>
              <a:rPr b="0" lang="es-ES_tradnl" sz="3200" spc="-1" strike="noStrike">
                <a:solidFill>
                  <a:srgbClr val="40458c"/>
                </a:solidFill>
                <a:latin typeface="Symbol"/>
                <a:ea typeface="Symbol"/>
              </a:rPr>
              <a:t>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 del área de matidez cardíaca, matidez a derecha del esternón o en 2º y 3º EII, es </a:t>
            </a:r>
            <a:r>
              <a:rPr b="0" lang="es-ES_tradnl" sz="3200" spc="-1" strike="noStrike" u="sng">
                <a:solidFill>
                  <a:srgbClr val="40458c"/>
                </a:solidFill>
                <a:uFillTx/>
                <a:latin typeface="Tahoma"/>
              </a:rPr>
              <a:t>anormal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, y denota derrame pericárdic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      </a:t>
            </a: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Observación Genera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Disnea al caminar : IC izquierd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Ingurgitación yugular: IC derech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Rubicundez (cianótica) de las mejillas: hipertensión pulmonar (2</a:t>
            </a:r>
            <a:r>
              <a:rPr b="0" lang="es-ES_tradnl" sz="3200" spc="-1" strike="noStrike" baseline="30000">
                <a:solidFill>
                  <a:srgbClr val="40458c"/>
                </a:solidFill>
                <a:latin typeface="Tahoma"/>
              </a:rPr>
              <a:t>a 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a enf mitral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Cianosis central: cardiopatía congénita con shunt de derecha a izquierd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Acropaquia: endocarditis infeccios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           </a:t>
            </a: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Auscult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Focos de auscultación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603360" indent="-603360"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Foco aórtic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603360" indent="-603360"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Foco aórtico accesori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603360" indent="-603360"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Foco pulmona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603360" indent="-603360"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Foco mitra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603360" indent="-603360"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Foco tricuspíde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603360" indent="-603360"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Foco mesocárdic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            </a:t>
            </a: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Auscult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2666520"/>
            <a:ext cx="77724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Además de auscultar los focos clásicos ya mencionados, deben auscultarse la </a:t>
            </a:r>
            <a:r>
              <a:rPr b="0" lang="es-ES_tradnl" sz="3200" spc="-1" strike="noStrike" u="sng">
                <a:solidFill>
                  <a:srgbClr val="40458c"/>
                </a:solidFill>
                <a:uFillTx/>
                <a:latin typeface="Tahoma"/>
              </a:rPr>
              <a:t>región infraclavicular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 (ductus) y el </a:t>
            </a:r>
            <a:r>
              <a:rPr b="0" lang="es-ES_tradnl" sz="3200" spc="-1" strike="noStrike" u="sng">
                <a:solidFill>
                  <a:srgbClr val="40458c"/>
                </a:solidFill>
                <a:uFillTx/>
                <a:latin typeface="Tahoma"/>
              </a:rPr>
              <a:t>dorso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 (coartación aórtica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             </a:t>
            </a: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Auscult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-57276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Es útil estudiar el comportamiento de los ruidos cardíacos y soplos, ante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72760" indent="-572760"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40458c"/>
                </a:solidFill>
                <a:uFillTx/>
                <a:latin typeface="Tahoma"/>
              </a:rPr>
              <a:t>Espiración / inspiració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72760" indent="-572760"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40458c"/>
                </a:solidFill>
                <a:uFillTx/>
                <a:latin typeface="Tahoma"/>
              </a:rPr>
              <a:t>Cambios de posició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72760" indent="-572760"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Después del ejercicio físic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            </a:t>
            </a: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Auscult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Los dos ruidos cardíacos básicos y normales, son el primer (R1) y segundo ruidos (R2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R1: se produce por el cierre de las vál-vulas aurículo – ventricular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R2: se produce por el cierre de las vál-vulas sigmoídea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           </a:t>
            </a: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Auscult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40458c"/>
                </a:solidFill>
                <a:uFillTx/>
                <a:latin typeface="Tahoma"/>
              </a:rPr>
              <a:t>Primer Ruido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Posee componente mitral y uno tricus-píde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R1, se oye más intenso en el ápex que en la bas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Se puede oír desdoblado en caso de BCRD del haz de Hi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Su intensidad </a:t>
            </a:r>
            <a:r>
              <a:rPr b="0" lang="es-ES_tradnl" sz="3200" spc="-1" strike="noStrike">
                <a:solidFill>
                  <a:srgbClr val="40458c"/>
                </a:solidFill>
                <a:latin typeface="Symbol"/>
                <a:ea typeface="Symbol"/>
              </a:rPr>
              <a:t>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 en estenosis mitra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           </a:t>
            </a: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Auscult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40458c"/>
                </a:solidFill>
                <a:uFillTx/>
                <a:latin typeface="Tahoma"/>
              </a:rPr>
              <a:t>Segundo ruido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Posee 2 componentes, uno aórtico (A2) y otro pulmonar (P2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Se desdoblan fisiológicamente en ins-piración (A2 antes que P2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A2 es audible en todo el precordio mientras que P2 lo es sólo en las cercanías del foco pulmona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           </a:t>
            </a: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Auscult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5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Segundo ruido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También se desdobla en casos de BCRD haz de Hi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También desdoblado en CIA, pero en este caso es fijo (= en inspiración que en espiración)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Desdoblamiento paradójico de R2 (BCRI – estenosis aórtica acentuada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            </a:t>
            </a: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Auscult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37720" y="1523880"/>
            <a:ext cx="80010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40458c"/>
                </a:solidFill>
                <a:uFillTx/>
                <a:latin typeface="Tahoma"/>
              </a:rPr>
              <a:t>Segundo ruido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A2 </a:t>
            </a:r>
            <a:r>
              <a:rPr b="0" lang="es-ES_tradnl" sz="3200" spc="-1" strike="noStrike">
                <a:solidFill>
                  <a:srgbClr val="40458c"/>
                </a:solidFill>
                <a:latin typeface="Symbol"/>
                <a:ea typeface="Symbol"/>
              </a:rPr>
              <a:t>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 en casos de hipertensión arterial sistémica, coartación aórtic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A2 </a:t>
            </a:r>
            <a:r>
              <a:rPr b="0" lang="es-ES_tradnl" sz="3200" spc="-1" strike="noStrike">
                <a:solidFill>
                  <a:srgbClr val="40458c"/>
                </a:solidFill>
                <a:latin typeface="Symbol"/>
                <a:ea typeface="Symbol"/>
              </a:rPr>
              <a:t>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 en estenosis – insuficiencia aór-tica marcadas , estados de shock, taponamiento cardíac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P2 </a:t>
            </a:r>
            <a:r>
              <a:rPr b="0" lang="es-ES_tradnl" sz="3200" spc="-1" strike="noStrike">
                <a:solidFill>
                  <a:srgbClr val="40458c"/>
                </a:solidFill>
                <a:latin typeface="Symbol"/>
                <a:ea typeface="Symbol"/>
              </a:rPr>
              <a:t>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 en casos de hipertensión pulmo-na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P2 </a:t>
            </a:r>
            <a:r>
              <a:rPr b="0" lang="es-ES_tradnl" sz="3200" spc="-1" strike="noStrike">
                <a:solidFill>
                  <a:srgbClr val="40458c"/>
                </a:solidFill>
                <a:latin typeface="Symbol"/>
                <a:ea typeface="Symbol"/>
              </a:rPr>
              <a:t>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 en estenosis pulmonar moderada y ausente en la grave y T de Fallo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            </a:t>
            </a: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Auscult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40458c"/>
                </a:solidFill>
                <a:uFillTx/>
                <a:latin typeface="Tahoma"/>
              </a:rPr>
              <a:t>Tercer ruido (R3)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Es un ruido diastólico (después del cierre de las sigmoídeas), baja tonali-dad, se oye mejor en decúbito lateral izquierd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Es un ruido de llene VI o VD que se produce al final de la fase de llenado rápido pasiv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        </a:t>
            </a: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Auscultación (R3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1" name=""/>
          <p:cNvSpPr/>
          <p:nvPr/>
        </p:nvSpPr>
        <p:spPr>
          <a:xfrm>
            <a:off x="1523880" y="1600200"/>
            <a:ext cx="609840" cy="4952880"/>
          </a:xfrm>
          <a:custGeom>
            <a:avLst/>
            <a:gdLst>
              <a:gd name="textAreaLeft" fmla="*/ 389520 w 609840"/>
              <a:gd name="textAreaRight" fmla="*/ 610200 w 609840"/>
              <a:gd name="textAreaTop" fmla="*/ 128880 h 4952880"/>
              <a:gd name="textAreaBottom" fmla="*/ 4824000 h 4952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280" y="3733920"/>
            <a:ext cx="144792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R3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09680" y="1828800"/>
            <a:ext cx="198144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Fisiológic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{en jóvenes}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286000" y="3505320"/>
            <a:ext cx="198108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Funcional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286000" y="5257800"/>
            <a:ext cx="198108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Disfunció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sistólic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267080" y="2590920"/>
            <a:ext cx="304920" cy="2590560"/>
          </a:xfrm>
          <a:custGeom>
            <a:avLst/>
            <a:gdLst>
              <a:gd name="textAreaLeft" fmla="*/ 194760 w 304920"/>
              <a:gd name="textAreaRight" fmla="*/ 305280 w 304920"/>
              <a:gd name="textAreaTop" fmla="*/ 67320 h 2590560"/>
              <a:gd name="textAreaBottom" fmla="*/ 2523240 h 2590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572000" y="2666880"/>
            <a:ext cx="32004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stado hiperquinétic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572000" y="3276720"/>
            <a:ext cx="320040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Insuficiencia mitral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572000" y="3886200"/>
            <a:ext cx="32004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CIV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572000" y="4495680"/>
            <a:ext cx="32004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Ductus arterioso persis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267080" y="5638680"/>
            <a:ext cx="99072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257800" y="5257800"/>
            <a:ext cx="304812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Insuficiencia cardíac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por disfx sistólic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    </a:t>
            </a: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Ex Físico Cardiovascula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762120" y="24379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40458c"/>
                </a:solidFill>
                <a:uFillTx/>
                <a:latin typeface="Tahoma"/>
              </a:rPr>
              <a:t>Habitualmente, se inicia con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- </a:t>
            </a:r>
            <a:r>
              <a:rPr b="0" lang="es-ES_tradnl" sz="3200" spc="-1" strike="noStrike" u="sng">
                <a:solidFill>
                  <a:srgbClr val="40458c"/>
                </a:solidFill>
                <a:uFillTx/>
                <a:latin typeface="Tahoma"/>
              </a:rPr>
              <a:t>Examen pulso arterial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: frecuencia, am-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plitud, tensión, form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- </a:t>
            </a:r>
            <a:r>
              <a:rPr b="0" lang="es-ES_tradnl" sz="3200" spc="-1" strike="noStrike" u="sng">
                <a:solidFill>
                  <a:srgbClr val="40458c"/>
                </a:solidFill>
                <a:uFillTx/>
                <a:latin typeface="Tahoma"/>
              </a:rPr>
              <a:t>Presión arteria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            </a:t>
            </a: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Auscult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4" name=""/>
          <p:cNvSpPr/>
          <p:nvPr/>
        </p:nvSpPr>
        <p:spPr>
          <a:xfrm>
            <a:off x="1447920" y="4038480"/>
            <a:ext cx="5029200" cy="0"/>
          </a:xfrm>
          <a:prstGeom prst="line">
            <a:avLst/>
          </a:prstGeom>
          <a:ln w="9360">
            <a:solidFill>
              <a:srgbClr val="040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1447920" y="3124080"/>
            <a:ext cx="0" cy="914400"/>
          </a:xfrm>
          <a:prstGeom prst="line">
            <a:avLst/>
          </a:prstGeom>
          <a:ln w="12600">
            <a:solidFill>
              <a:srgbClr val="040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1752480" y="2133360"/>
            <a:ext cx="0" cy="1904760"/>
          </a:xfrm>
          <a:prstGeom prst="line">
            <a:avLst/>
          </a:prstGeom>
          <a:ln w="9360">
            <a:solidFill>
              <a:srgbClr val="040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2514600" y="2133360"/>
            <a:ext cx="0" cy="1904760"/>
          </a:xfrm>
          <a:prstGeom prst="line">
            <a:avLst/>
          </a:prstGeom>
          <a:ln w="9360">
            <a:solidFill>
              <a:srgbClr val="040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2895480" y="3124080"/>
            <a:ext cx="0" cy="914400"/>
          </a:xfrm>
          <a:prstGeom prst="line">
            <a:avLst/>
          </a:prstGeom>
          <a:ln w="9360">
            <a:solidFill>
              <a:srgbClr val="040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V="1">
            <a:off x="6477120" y="2133360"/>
            <a:ext cx="0" cy="1904760"/>
          </a:xfrm>
          <a:prstGeom prst="line">
            <a:avLst/>
          </a:prstGeom>
          <a:ln w="9360">
            <a:solidFill>
              <a:srgbClr val="040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447920" y="1523880"/>
            <a:ext cx="609480" cy="609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R1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209680" y="1523880"/>
            <a:ext cx="609840" cy="609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R2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095880" y="1523880"/>
            <a:ext cx="685800" cy="609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R1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590920" y="2590920"/>
            <a:ext cx="60948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R3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143000" y="2590920"/>
            <a:ext cx="53352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R4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           </a:t>
            </a: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Auscult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-57276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40458c"/>
                </a:solidFill>
                <a:uFillTx/>
                <a:latin typeface="Tahoma"/>
              </a:rPr>
              <a:t>Cuarto ruido (R4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72760" indent="-57276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Ruido de brusca distensión ventricular causado por la contracción auricular (fase de llenado activo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72760" indent="-57276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Se ubica al fin del diástole, presistólic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72760" indent="-57276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No puede existir en casos de fibrila-ción auricula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72760" indent="-57276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Es patológico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            </a:t>
            </a: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Auscult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-5788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40458c"/>
                </a:solidFill>
                <a:uFillTx/>
                <a:latin typeface="Tahoma"/>
              </a:rPr>
              <a:t>Cuarto ruido (R4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78880" indent="-57888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R4 izquierdo se observa en casos de HTA sistémica, estenosis aórtica, mio-cardiopatía hipertrófica, coronario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78880" indent="-57888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R4 derecho, en hipertensión pulmonar y en estenosis valvular pulmona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78880" indent="-57888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Denominador común es ventrículo poco distensible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           </a:t>
            </a: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Auscult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38080" y="274284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40458c"/>
                </a:solidFill>
                <a:uFillTx/>
                <a:latin typeface="Tahoma"/>
              </a:rPr>
              <a:t>Otros ruidos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Click de eyecció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Click mesosistólic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Chasquido de apertur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    </a:t>
            </a: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Auscultación – Soplos CV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914400" y="24379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40458c"/>
                </a:solidFill>
                <a:uFillTx/>
                <a:latin typeface="Tahoma"/>
              </a:rPr>
              <a:t>Se originan por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Alt anatómicas de las válvula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Alt del calibre de los vasos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6f89f7"/>
              </a:buClr>
              <a:buSzPct val="110000"/>
              <a:buFont typeface="Symbol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Symbol"/>
                <a:ea typeface="Symbol"/>
              </a:rPr>
              <a:t>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de la velocidad de la corriente san-guínea (estados hiperquinéticos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  </a:t>
            </a: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Auscultación – Soplos CV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4" name=""/>
          <p:cNvSpPr/>
          <p:nvPr/>
        </p:nvSpPr>
        <p:spPr>
          <a:xfrm>
            <a:off x="304920" y="3276720"/>
            <a:ext cx="2057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SOPLO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362320" y="1828800"/>
            <a:ext cx="533160" cy="3886200"/>
          </a:xfrm>
          <a:custGeom>
            <a:avLst/>
            <a:gdLst>
              <a:gd name="textAreaLeft" fmla="*/ 340560 w 533160"/>
              <a:gd name="textAreaRight" fmla="*/ 533520 w 533160"/>
              <a:gd name="textAreaTop" fmla="*/ 101160 h 3886200"/>
              <a:gd name="textAreaBottom" fmla="*/ 3785040 h 388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95480" y="2133720"/>
            <a:ext cx="19051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Sistólico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895480" y="3505320"/>
            <a:ext cx="19051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Diastólico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895480" y="4724280"/>
            <a:ext cx="19051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Continuo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724280" y="1905120"/>
            <a:ext cx="381240" cy="1218960"/>
          </a:xfrm>
          <a:custGeom>
            <a:avLst/>
            <a:gdLst>
              <a:gd name="textAreaLeft" fmla="*/ 243720 w 381240"/>
              <a:gd name="textAreaRight" fmla="*/ 381600 w 381240"/>
              <a:gd name="textAreaTop" fmla="*/ 31680 h 1218960"/>
              <a:gd name="textAreaBottom" fmla="*/ 1187280 h 1218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800600" y="3200400"/>
            <a:ext cx="380880" cy="1219320"/>
          </a:xfrm>
          <a:custGeom>
            <a:avLst/>
            <a:gdLst>
              <a:gd name="textAreaLeft" fmla="*/ 243360 w 380880"/>
              <a:gd name="textAreaRight" fmla="*/ 381240 w 38088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181480" y="2057400"/>
            <a:ext cx="26672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Mesosistólico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181480" y="2666880"/>
            <a:ext cx="266724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Pansistólico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181480" y="3352680"/>
            <a:ext cx="266724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De regurgitació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181480" y="3886200"/>
            <a:ext cx="26672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De llene ventricula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       </a:t>
            </a: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Soplos Mesosistólic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Estenosis aórtic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Estenosis pulmona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Symbol"/>
                <a:ea typeface="Symbol"/>
              </a:rPr>
              <a:t>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velocidad de flujo a través de las vál-vulas sigmoídeas (shunts izda a der o estados hiperquinéticos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Inocent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      </a:t>
            </a: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Soplos Pansistólic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838080" y="27428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Insuficiencia mitra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Insuficiencia tricuspíde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CIV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      </a:t>
            </a: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Soplos Diastólicos de</a:t>
            </a:r>
            <a:br>
              <a:rPr sz="4400"/>
            </a:b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           Regurgitación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762120" y="27432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Insuficiencia aórtica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Insuficiencia pulmona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Soplos Diastólicos de Llen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Estenosis mitra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Estenosis tricuspíde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Flujo </a:t>
            </a:r>
            <a:r>
              <a:rPr b="0" lang="es-ES_tradnl" sz="3200" spc="-1" strike="noStrike">
                <a:solidFill>
                  <a:srgbClr val="40458c"/>
                </a:solidFill>
                <a:latin typeface="Symbol"/>
                <a:ea typeface="Symbol"/>
              </a:rPr>
              <a:t>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 a través de válvulas aurículo –ventriculares (rodada de flujo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Soplo de Austin – Flin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Soplo de Carey Coombs (valvulitis mitral en la carditis reumática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   </a:t>
            </a: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Examen del Pulso Venoso   </a:t>
            </a:r>
            <a:br>
              <a:rPr sz="4400"/>
            </a:b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              Yugula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Estimación de la presión venos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- Se evalúa mediante la vena yugular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extern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- Distancia vertical entre una línea hori-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     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zontal que pasa por el ángulo de Louis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     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y otra horizontal que pasa por el límit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     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superior de la columna de sangre 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        </a:t>
            </a: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Soplos Continu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762120" y="28191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Ductus arterioso persistent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Otras fístulas AV congénitas o adquiri-da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        </a:t>
            </a: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Soplos Inocent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No tienen trascendencia clínic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Son sistólicos eyectivos, breves, con refuerzo precoz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Más frecuentes en niños, adolescentes y adultos jóven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Se suelen auscultar en la bas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Nunca pansistólicos, ni diastólicos ni con frémit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660066"/>
                </a:solidFill>
                <a:latin typeface="Tahoma"/>
              </a:rPr>
              <a:t>  </a:t>
            </a:r>
            <a:r>
              <a:rPr b="0" lang="es-ES_tradnl" sz="3600" spc="-1" strike="noStrike">
                <a:solidFill>
                  <a:srgbClr val="660066"/>
                </a:solidFill>
                <a:latin typeface="Tahoma"/>
              </a:rPr>
              <a:t>Otras Características de los</a:t>
            </a: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s-ES_tradnl" sz="3600" spc="-1" strike="noStrike">
                <a:solidFill>
                  <a:srgbClr val="660066"/>
                </a:solidFill>
                <a:latin typeface="Tahoma"/>
              </a:rPr>
              <a:t>Soplos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762120" y="228600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1. Foco Auscultatorio de &gt; intensidad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2. Irradiació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3. Tonalidad {&lt; 80 cps - 400 cps}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4. Intensidad {1/6 – 6/6}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5. Duració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6. Carácte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        </a:t>
            </a: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Frotes Pericárdic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Son ásperos, “secos”, como arrugar papel, ritmados por el corazó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Pueden ser inconstant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40458c"/>
                </a:solidFill>
                <a:uFillTx/>
                <a:latin typeface="Tahoma"/>
              </a:rPr>
              <a:t>Se pueden presentan en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Pericarditi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Después de IAM transmura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Post – pericardiotomí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Pericarditis urémic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  </a:t>
            </a: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Examen del Pulso Venoso</a:t>
            </a:r>
            <a:br>
              <a:rPr sz="4400"/>
            </a:b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             Yugula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El valor así medido, se obtiene en cm de H</a:t>
            </a:r>
            <a:r>
              <a:rPr b="0" lang="es-ES_tradnl" sz="3200" spc="-1" strike="noStrike" baseline="-25000">
                <a:solidFill>
                  <a:srgbClr val="40458c"/>
                </a:solidFill>
                <a:latin typeface="Tahoma"/>
              </a:rPr>
              <a:t>2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O (valor normal: 5 – 12 cm H</a:t>
            </a:r>
            <a:r>
              <a:rPr b="0" lang="es-ES_tradnl" sz="3200" spc="-1" strike="noStrike" baseline="-25000">
                <a:solidFill>
                  <a:srgbClr val="40458c"/>
                </a:solidFill>
                <a:latin typeface="Tahoma"/>
              </a:rPr>
              <a:t>2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O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Se puede estimar la presión venosa con el tronco a 0º - 30º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Si las oscilaciones son visibles con el tronco en una posición de 45º o más, la hipertensión venosa es indudable, así también si la vena se palpa distendid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     </a:t>
            </a: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Examen del Pulso Venoso</a:t>
            </a:r>
            <a:br>
              <a:rPr sz="4400"/>
            </a:b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               Yugula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Pulso hepático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- Palpación de latidos hepáticos expan-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     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sivos y sincrónicos con los cardíaco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- La mayoría de las veces representa in-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suficiencia tricuspídea, coincidiendo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con la sístole ventricular. (Equivale a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onda v en examen de yugular)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1600200" y="1371600"/>
            <a:ext cx="609588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     </a:t>
            </a: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Examen Cardiovascula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El examen de la escotadura supraester- nal permite apreciar latidos intensos en casos de hipertensión arterial sistémica, enfermedad valvular aórtica, coartación aórtic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A veces a esa zona, se irradian mejor soplos o frémitos (desde la válvula aór-tica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    </a:t>
            </a: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Inspección de la Región</a:t>
            </a:r>
            <a:br>
              <a:rPr sz="4400"/>
            </a:b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            Precordia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Cifoescoliosi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Pectus excavatum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Pectus carinatum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Abombamiento precordia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Latido apexiano (5º EII, LMC: normal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Latido en 2º EII (dilatación de AP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Latidos en 2º o 3º EID (aneurisma Ao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6T21:20:37Z</dcterms:created>
  <dc:creator> Juan Ramón Soto Silva</dc:creator>
  <dc:description/>
  <dc:language>en-US</dc:language>
  <cp:lastModifiedBy>Juan Ramon Soto</cp:lastModifiedBy>
  <dcterms:modified xsi:type="dcterms:W3CDTF">2006-04-03T13:19:23Z</dcterms:modified>
  <cp:revision>8</cp:revision>
  <dc:subject/>
  <dc:title>Examen Físico Cardiovascular</dc:title>
</cp:coreProperties>
</file>