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CBE-8229-4524-B2F2-887EE6BD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E2E-9668-4BD2-92FD-6E931D10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2E5-6FCC-4DAE-B5AF-B601F385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5CA-BFBF-4820-BAD2-82A83C6D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906D-C9DF-4EA9-BEC4-F35F30F5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9ED-FFBB-4974-B3B7-5E366C62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863-E129-4505-AEE7-CB3C7D03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967-FE91-4DBA-87E3-A40E558D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170-4E39-4A85-911A-1B1D5E12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1FF-7D31-4D22-AF6A-7FE67BA5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AA15-07F7-45C5-A351-7C01EF6A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E170-70AF-4877-B1C1-6B2F4433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0F76-573A-47FB-82E5-D040D238CEE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XAMEN FÍSICO DEL CUEL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" descr="http://dermatology.cdlib.org/DOJvol6num1/original/acanthosis/figure02b.jpg"/>
          <p:cNvPicPr/>
          <p:nvPr/>
        </p:nvPicPr>
        <p:blipFill>
          <a:blip r:embed="rId1"/>
          <a:stretch/>
        </p:blipFill>
        <p:spPr>
          <a:xfrm>
            <a:off x="900000" y="15048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4" descr="http://www.promoviendosalud.com/wp-content/uploads/2011/03/tiroides.jpg"/>
          <p:cNvPicPr/>
          <p:nvPr/>
        </p:nvPicPr>
        <p:blipFill>
          <a:blip r:embed="rId1"/>
          <a:stretch/>
        </p:blipFill>
        <p:spPr>
          <a:xfrm>
            <a:off x="428760" y="114480"/>
            <a:ext cx="84294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4.bp.blogspot.com/_nfldN2V326Q/THc2jy9DASI/AAAAAAAAADg/d3RaHC_-eFw/s1600/carotideo.jpg"/>
          <p:cNvPicPr/>
          <p:nvPr/>
        </p:nvPicPr>
        <p:blipFill>
          <a:blip r:embed="rId1"/>
          <a:stretch/>
        </p:blipFill>
        <p:spPr>
          <a:xfrm>
            <a:off x="428760" y="214200"/>
            <a:ext cx="835812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4.bp.blogspot.com/_ZCMwVSYHpRc/S57u1JYbwrI/AAAAAAAAAgQ/yZdErX2W6vk/s320/Drenaje+linf%C3%A1tico+4+por+Lorena.PNG"/>
          <p:cNvPicPr/>
          <p:nvPr/>
        </p:nvPicPr>
        <p:blipFill>
          <a:blip r:embed="rId1"/>
          <a:stretch/>
        </p:blipFill>
        <p:spPr>
          <a:xfrm>
            <a:off x="1908000" y="233280"/>
            <a:ext cx="5543640" cy="63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escuela.med.puc.cl/publ/manualcabezacuello/Fotos/CaEscamo3.JPG"/>
          <p:cNvPicPr/>
          <p:nvPr/>
        </p:nvPicPr>
        <p:blipFill>
          <a:blip r:embed="rId1"/>
          <a:stretch/>
        </p:blipFill>
        <p:spPr>
          <a:xfrm>
            <a:off x="934920" y="476280"/>
            <a:ext cx="7199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0920" y="162000"/>
          <a:ext cx="8713800" cy="6537240"/>
        </p:xfrm>
        <a:graphic>
          <a:graphicData uri="http://schemas.openxmlformats.org/drawingml/2006/table">
            <a:tbl>
              <a:tblPr/>
              <a:tblGrid>
                <a:gridCol w="1368360"/>
                <a:gridCol w="3240000"/>
                <a:gridCol w="4105440"/>
              </a:tblGrid>
              <a:tr h="45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LUY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R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entonianos 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andibu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io, cavidad bucal y pirámide nas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ugulares superi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, faringe, tiroides, parótida, cavidad oral y oí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ugulares medi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, faringe, tiroides, cavidad or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ugulares inferi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, oro e hipofaringe, tiroides, órganos torácicos y abdominopelvian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ángulo poster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nofaringe, orofaringe, parótida y oí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traqueales, paratraqueales y peritiroide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 y tiroid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3:50:18Z</dcterms:created>
  <dc:creator>Facultad de Medicina</dc:creator>
  <dc:description/>
  <dc:language>en-US</dc:language>
  <cp:lastModifiedBy>pamelitamena</cp:lastModifiedBy>
  <dcterms:modified xsi:type="dcterms:W3CDTF">2012-03-27T06:16:20Z</dcterms:modified>
  <cp:revision>8</cp:revision>
  <dc:subject/>
  <dc:title>Diapositiva 1</dc:title>
</cp:coreProperties>
</file>