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CF5-0F66-45F0-A7BF-DEF8108E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A24-D91D-4302-886A-DE0D8C9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C0F-642E-4DE2-98C4-7484AE1A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525-EC55-475F-8490-CC1F1C07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4C8-09D0-44FE-993D-0C665DF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BF2-B564-496B-BE8F-1F090AD7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AFC-80E3-42CF-9ED0-FD818A5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D74-2B71-49C9-A88C-36DF87A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D0B-44F2-40A2-8DBD-A96E244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D8D-A4DF-4DFA-900A-DEBFC31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49E-D157-48BE-BCA5-DEE1A7F0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2AB-90DE-48E6-9EBB-3EAF517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07B-4293-4184-A738-6499BC80907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XAMEN FÍSICO DEL CUE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://dermatology.cdlib.org/DOJvol6num1/original/acanthosis/figure02b.jpg"/>
          <p:cNvPicPr/>
          <p:nvPr/>
        </p:nvPicPr>
        <p:blipFill>
          <a:blip r:embed="rId1"/>
          <a:stretch/>
        </p:blipFill>
        <p:spPr>
          <a:xfrm>
            <a:off x="900000" y="15048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http://www.promoviendosalud.com/wp-content/uploads/2011/03/tiroides.jpg"/>
          <p:cNvPicPr/>
          <p:nvPr/>
        </p:nvPicPr>
        <p:blipFill>
          <a:blip r:embed="rId1"/>
          <a:stretch/>
        </p:blipFill>
        <p:spPr>
          <a:xfrm>
            <a:off x="428760" y="114480"/>
            <a:ext cx="8429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4.bp.blogspot.com/_nfldN2V326Q/THc2jy9DASI/AAAAAAAAADg/d3RaHC_-eFw/s1600/carotideo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_ZCMwVSYHpRc/S57u1JYbwrI/AAAAAAAAAgQ/yZdErX2W6vk/s320/Drenaje+linf%C3%A1tico+4+por+Lorena.PNG"/>
          <p:cNvPicPr/>
          <p:nvPr/>
        </p:nvPicPr>
        <p:blipFill>
          <a:blip r:embed="rId1"/>
          <a:stretch/>
        </p:blipFill>
        <p:spPr>
          <a:xfrm>
            <a:off x="1908000" y="233280"/>
            <a:ext cx="554364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cuela.med.puc.cl/publ/manualcabezacuello/Fotos/CaEscamo3.JPG"/>
          <p:cNvPicPr/>
          <p:nvPr/>
        </p:nvPicPr>
        <p:blipFill>
          <a:blip r:embed="rId1"/>
          <a:stretch/>
        </p:blipFill>
        <p:spPr>
          <a:xfrm>
            <a:off x="934920" y="476280"/>
            <a:ext cx="719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2000"/>
          <a:ext cx="8713800" cy="653724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410544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entonianos 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andib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io, cavidad bucal y pirámide nas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sup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parótida, cavidad oral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cavidad or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inf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oro e hipofaringe, tiroides, órganos torácicos y abdominopelvian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ángulo post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ofaringe, orofaringe, parótida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raqueales, paratraqueales y peritiroid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 y tiroid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50:18Z</dcterms:created>
  <dc:creator>Facultad de Medicina</dc:creator>
  <dc:description/>
  <dc:language>en-US</dc:language>
  <cp:lastModifiedBy>pamelitamena</cp:lastModifiedBy>
  <dcterms:modified xsi:type="dcterms:W3CDTF">2012-03-27T06:16:20Z</dcterms:modified>
  <cp:revision>8</cp:revision>
  <dc:subject/>
  <dc:title>Diapositiva 1</dc:title>
</cp:coreProperties>
</file>