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916-03D9-4FB4-ADA1-9BA5FC65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295-FA53-4F4C-A0A0-8B5DAF0C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E1B-AABA-4563-95E5-D65BD5B2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818-E57C-4885-9C0A-184F05C3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7E7-46AA-4E51-897B-2B3E35ED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71D-4F3F-4B85-BBEC-9545D259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58A-1B51-4D43-A8C0-9A94114D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A57-ED48-4DE4-ABDD-51A5B2B2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13E-AC4C-4D2B-937E-75FD4AD4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1CD-6092-46DF-83B2-E72C7C28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3AA-E023-497B-BB6E-5BD8414E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F3E-4DEC-4B54-83CE-79A5283A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63C1-B862-4521-9C75-9DE46B9E199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XAMEN FÍSICO DEL CUEL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http://dermatology.cdlib.org/DOJvol6num1/original/acanthosis/figure02b.jpg"/>
          <p:cNvPicPr/>
          <p:nvPr/>
        </p:nvPicPr>
        <p:blipFill>
          <a:blip r:embed="rId1"/>
          <a:stretch/>
        </p:blipFill>
        <p:spPr>
          <a:xfrm>
            <a:off x="900000" y="15048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4" descr="http://www.promoviendosalud.com/wp-content/uploads/2011/03/tiroides.jpg"/>
          <p:cNvPicPr/>
          <p:nvPr/>
        </p:nvPicPr>
        <p:blipFill>
          <a:blip r:embed="rId1"/>
          <a:stretch/>
        </p:blipFill>
        <p:spPr>
          <a:xfrm>
            <a:off x="428760" y="114480"/>
            <a:ext cx="84294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4.bp.blogspot.com/_nfldN2V326Q/THc2jy9DASI/AAAAAAAAADg/d3RaHC_-eFw/s1600/carotideo.jpg"/>
          <p:cNvPicPr/>
          <p:nvPr/>
        </p:nvPicPr>
        <p:blipFill>
          <a:blip r:embed="rId1"/>
          <a:stretch/>
        </p:blipFill>
        <p:spPr>
          <a:xfrm>
            <a:off x="428760" y="214200"/>
            <a:ext cx="835812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4.bp.blogspot.com/_ZCMwVSYHpRc/S57u1JYbwrI/AAAAAAAAAgQ/yZdErX2W6vk/s320/Drenaje+linf%C3%A1tico+4+por+Lorena.PNG"/>
          <p:cNvPicPr/>
          <p:nvPr/>
        </p:nvPicPr>
        <p:blipFill>
          <a:blip r:embed="rId1"/>
          <a:stretch/>
        </p:blipFill>
        <p:spPr>
          <a:xfrm>
            <a:off x="1908000" y="233280"/>
            <a:ext cx="554364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escuela.med.puc.cl/publ/manualcabezacuello/Fotos/CaEscamo3.JPG"/>
          <p:cNvPicPr/>
          <p:nvPr/>
        </p:nvPicPr>
        <p:blipFill>
          <a:blip r:embed="rId1"/>
          <a:stretch/>
        </p:blipFill>
        <p:spPr>
          <a:xfrm>
            <a:off x="934920" y="476280"/>
            <a:ext cx="7199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62000"/>
          <a:ext cx="8713800" cy="6537240"/>
        </p:xfrm>
        <a:graphic>
          <a:graphicData uri="http://schemas.openxmlformats.org/drawingml/2006/table">
            <a:tbl>
              <a:tblPr/>
              <a:tblGrid>
                <a:gridCol w="1368360"/>
                <a:gridCol w="3240000"/>
                <a:gridCol w="4105440"/>
              </a:tblGrid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LUY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R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entonianos 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andibu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io, cavidad bucal y pirámide nas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superi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faringe, tiroides, parótida, cavidad oral y oí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med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faringe, tiroides, cavidad or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inferi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oro e hipofaringe, tiroides, órganos torácicos y abdominopelvian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ángulo post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ofaringe, orofaringe, parótida y oí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traqueales, paratraqueales y peritiroide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 y tiroid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3:50:18Z</dcterms:created>
  <dc:creator>Facultad de Medicina</dc:creator>
  <dc:description/>
  <dc:language>en-US</dc:language>
  <cp:lastModifiedBy>pamelitamena</cp:lastModifiedBy>
  <dcterms:modified xsi:type="dcterms:W3CDTF">2012-03-27T06:16:20Z</dcterms:modified>
  <cp:revision>8</cp:revision>
  <dc:subject/>
  <dc:title>Diapositiva 1</dc:title>
</cp:coreProperties>
</file>