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F385-64DD-4055-A0A4-489451CB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281-3B30-4BEF-863D-160A4B37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2B8-A638-4C85-9016-7F41966A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E83-8F3C-448C-8FE7-A37D60E0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227-92E5-4A69-98B0-F2FA3F0D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4E0-9C86-4491-8CD1-DE622BA2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E0A-CEA7-4280-AEAD-305078DD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69E-B8E5-47FB-AABC-838A035A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7A0-BEF9-4FDA-96D7-3559DC35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F66-CEC0-49DD-9E3D-17314495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B1D-5048-4630-B8CD-F2780E48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819-8DB5-4AC1-8F6F-CAA017D2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340D-6F6F-4FA1-A21D-07E725A73EC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XAMEN FÍSICO DEL CUEL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http://dermatology.cdlib.org/DOJvol6num1/original/acanthosis/figure02b.jpg"/>
          <p:cNvPicPr/>
          <p:nvPr/>
        </p:nvPicPr>
        <p:blipFill>
          <a:blip r:embed="rId1"/>
          <a:stretch/>
        </p:blipFill>
        <p:spPr>
          <a:xfrm>
            <a:off x="900000" y="15048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4" descr="http://www.promoviendosalud.com/wp-content/uploads/2011/03/tiroides.jpg"/>
          <p:cNvPicPr/>
          <p:nvPr/>
        </p:nvPicPr>
        <p:blipFill>
          <a:blip r:embed="rId1"/>
          <a:stretch/>
        </p:blipFill>
        <p:spPr>
          <a:xfrm>
            <a:off x="428760" y="114480"/>
            <a:ext cx="84294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4.bp.blogspot.com/_nfldN2V326Q/THc2jy9DASI/AAAAAAAAADg/d3RaHC_-eFw/s1600/carotideo.jpg"/>
          <p:cNvPicPr/>
          <p:nvPr/>
        </p:nvPicPr>
        <p:blipFill>
          <a:blip r:embed="rId1"/>
          <a:stretch/>
        </p:blipFill>
        <p:spPr>
          <a:xfrm>
            <a:off x="428760" y="214200"/>
            <a:ext cx="835812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4.bp.blogspot.com/_ZCMwVSYHpRc/S57u1JYbwrI/AAAAAAAAAgQ/yZdErX2W6vk/s320/Drenaje+linf%C3%A1tico+4+por+Lorena.PNG"/>
          <p:cNvPicPr/>
          <p:nvPr/>
        </p:nvPicPr>
        <p:blipFill>
          <a:blip r:embed="rId1"/>
          <a:stretch/>
        </p:blipFill>
        <p:spPr>
          <a:xfrm>
            <a:off x="1908000" y="233280"/>
            <a:ext cx="5543640" cy="63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escuela.med.puc.cl/publ/manualcabezacuello/Fotos/CaEscamo3.JPG"/>
          <p:cNvPicPr/>
          <p:nvPr/>
        </p:nvPicPr>
        <p:blipFill>
          <a:blip r:embed="rId1"/>
          <a:stretch/>
        </p:blipFill>
        <p:spPr>
          <a:xfrm>
            <a:off x="934920" y="476280"/>
            <a:ext cx="7199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0920" y="162000"/>
          <a:ext cx="8713800" cy="6537240"/>
        </p:xfrm>
        <a:graphic>
          <a:graphicData uri="http://schemas.openxmlformats.org/drawingml/2006/table">
            <a:tbl>
              <a:tblPr/>
              <a:tblGrid>
                <a:gridCol w="1368360"/>
                <a:gridCol w="3240000"/>
                <a:gridCol w="4105440"/>
              </a:tblGrid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LUY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R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entonianos 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andibu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io, cavidad bucal y pirámide nas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gulares superi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, faringe, tiroides, parótida, cavidad oral y oí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gulares medi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, faringe, tiroides, cavidad or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ugulares inferi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, oro e hipofaringe, tiroides, órganos torácicos y abdominopelvian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ángulo poster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ofaringe, orofaringe, parótida y oí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traqueales, paratraqueales y peritiroide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nge y tiroid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3:50:18Z</dcterms:created>
  <dc:creator>Facultad de Medicina</dc:creator>
  <dc:description/>
  <dc:language>en-US</dc:language>
  <cp:lastModifiedBy>pamelitamena</cp:lastModifiedBy>
  <dcterms:modified xsi:type="dcterms:W3CDTF">2012-03-27T06:16:20Z</dcterms:modified>
  <cp:revision>8</cp:revision>
  <dc:subject/>
  <dc:title>Diapositiva 1</dc:title>
</cp:coreProperties>
</file>