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6E2A-EEF1-44D2-A213-A30193887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11BF-EF0B-4C53-AFEA-B8EA24B34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5F99-0172-426A-95BE-2A684B4F7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538E-22B3-41B1-9A6D-C1854ED2C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DC56-FCC8-48AD-8646-ACBEED502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C13C-0442-4863-91AE-F1F193F17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4B3D-FAED-4467-90E1-5F8B71926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E5E5-51A2-4C1B-B832-4C2DCE2DB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E610-BE4E-41D7-B3D5-EC906635C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20A7-44E4-477F-9B68-790882851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F5D3-C091-4534-B4B4-E60DB5872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E006-7AEB-4F64-9DA1-2CE80591F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CFDE2-8280-4593-AD0E-D77F83CEDCAF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EXAMEN FÍSICO DEL CUELL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7" descr="http://dermatology.cdlib.org/DOJvol6num1/original/acanthosis/figure02b.jpg"/>
          <p:cNvPicPr/>
          <p:nvPr/>
        </p:nvPicPr>
        <p:blipFill>
          <a:blip r:embed="rId1"/>
          <a:stretch/>
        </p:blipFill>
        <p:spPr>
          <a:xfrm>
            <a:off x="900000" y="1504800"/>
            <a:ext cx="73152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6" name="Picture 4" descr="http://www.promoviendosalud.com/wp-content/uploads/2011/03/tiroides.jpg"/>
          <p:cNvPicPr/>
          <p:nvPr/>
        </p:nvPicPr>
        <p:blipFill>
          <a:blip r:embed="rId1"/>
          <a:stretch/>
        </p:blipFill>
        <p:spPr>
          <a:xfrm>
            <a:off x="428760" y="114480"/>
            <a:ext cx="842940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http://4.bp.blogspot.com/_nfldN2V326Q/THc2jy9DASI/AAAAAAAAADg/d3RaHC_-eFw/s1600/carotideo.jpg"/>
          <p:cNvPicPr/>
          <p:nvPr/>
        </p:nvPicPr>
        <p:blipFill>
          <a:blip r:embed="rId1"/>
          <a:stretch/>
        </p:blipFill>
        <p:spPr>
          <a:xfrm>
            <a:off x="428760" y="214200"/>
            <a:ext cx="8358120" cy="645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http://4.bp.blogspot.com/_ZCMwVSYHpRc/S57u1JYbwrI/AAAAAAAAAgQ/yZdErX2W6vk/s320/Drenaje+linf%C3%A1tico+4+por+Lorena.PNG"/>
          <p:cNvPicPr/>
          <p:nvPr/>
        </p:nvPicPr>
        <p:blipFill>
          <a:blip r:embed="rId1"/>
          <a:stretch/>
        </p:blipFill>
        <p:spPr>
          <a:xfrm>
            <a:off x="1908000" y="233280"/>
            <a:ext cx="5543640" cy="638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http://escuela.med.puc.cl/publ/manualcabezacuello/Fotos/CaEscamo3.JPG"/>
          <p:cNvPicPr/>
          <p:nvPr/>
        </p:nvPicPr>
        <p:blipFill>
          <a:blip r:embed="rId1"/>
          <a:stretch/>
        </p:blipFill>
        <p:spPr>
          <a:xfrm>
            <a:off x="934920" y="476280"/>
            <a:ext cx="719928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50920" y="162000"/>
          <a:ext cx="8713800" cy="6537240"/>
        </p:xfrm>
        <a:graphic>
          <a:graphicData uri="http://schemas.openxmlformats.org/drawingml/2006/table">
            <a:tbl>
              <a:tblPr/>
              <a:tblGrid>
                <a:gridCol w="1368360"/>
                <a:gridCol w="3240000"/>
                <a:gridCol w="4105440"/>
              </a:tblGrid>
              <a:tr h="458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RUP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CLUY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RE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9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mentonianos y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mandibula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bio, cavidad bucal y pirámide nasal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ugulares superio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ringe, faringe, tiroides, parótida, cavidad oral y oíd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44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ugulares medi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ringe, faringe, tiroides, cavidad oral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ugulares inferio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ringe, oro e hipofaringe, tiroides, órganos torácicos y abdominopelviano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42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iángulo posteri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inofaringe, orofaringe, parótida y oíd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traqueales, paratraqueales y peritiroide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ringe y tiroid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8T03:50:18Z</dcterms:created>
  <dc:creator>Facultad de Medicina</dc:creator>
  <dc:description/>
  <dc:language>en-US</dc:language>
  <cp:lastModifiedBy>pamelitamena</cp:lastModifiedBy>
  <dcterms:modified xsi:type="dcterms:W3CDTF">2012-03-27T06:16:20Z</dcterms:modified>
  <cp:revision>8</cp:revision>
  <dc:subject/>
  <dc:title>Diapositiva 1</dc:title>
</cp:coreProperties>
</file>