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A1A-2AF8-4B62-BC68-EAE17C78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2FB-F555-4FE9-A4EB-D0E7D971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0FF-B818-40DB-A480-679404D4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36E-B8D4-4DF6-A69C-E055C339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8273-6F43-416E-A3CB-B89F776B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2A69-3336-4E4E-88B1-C74A1B9B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B4E9-9F88-4205-AB42-515FF1A4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53D-F698-4C24-8498-304C5F7D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4BE-27FC-4E65-A3E5-E7A3C0C9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18E-3634-453D-BCCF-86A8D4A9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95D-F01A-4D8D-AFFE-11761926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57C2-102F-46FE-845F-15584DEB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3C56-0428-4A1C-BB5D-9BC25186BF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00"/>
                </a:solidFill>
                <a:latin typeface="Arial"/>
              </a:rPr>
              <a:t>Radiografía</a:t>
            </a:r>
            <a:r>
              <a:rPr b="1" lang="es-MX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5400" spc="-1" strike="noStrike">
                <a:solidFill>
                  <a:srgbClr val="ffff00"/>
                </a:solidFill>
                <a:latin typeface="Arial"/>
              </a:rPr>
              <a:t>de Tórax</a:t>
            </a:r>
            <a:br>
              <a:rPr sz="5400"/>
            </a:b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para semi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884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r. Sergio Bozzo Navar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de tórax conven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a imagen es obtenida por la impresión de una placa fotográfica por los rayos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Placa frontal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: los rayos atraviesan al sujeto en estudio de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posterior a a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laca later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os ray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van de izquierda a dere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Mayor rendimiento 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de la radiografía de tór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Más de una proyección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ermite obtener imagen de vértices, recesos costofrénicos posteriores y región retrocardiaca; ayuda a proyectar tridimension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Aumentar el contras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 sustancias radio-opa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adiografía con Bario en el esóf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uciones yodadas en los bronquios (broncografía) o en los vasos (angiografí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cas en diferentes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fases de la respi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cas en diferentes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posic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que desplazan a elementos móv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cúbito lateral, permite ver desplazamiento de líquido en la pleura.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Arial"/>
              </a:rPr>
              <a:t>Características de la placa radiográf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radiografía muestra diferencias de densidad radiológica y no necesariamente diferencia de estruc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ejidos y elementos de diferente naturaleza pueden tener una misma densidad radiológ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placa radiológica es una representación bidimensional de la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structuras tridimensionales deben deducirse de una imagen bidimens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ffff00"/>
                </a:solidFill>
                <a:uFillTx/>
                <a:latin typeface="Arial"/>
              </a:rPr>
              <a:t>Rol de la radiografía de tórax en enfermedades respirato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el examen imagenológic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ás importan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 el estudio de la patología respi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vament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rato y seguro. Amplia disponib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línico debe sab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pretar las alteraciones fundamentales y conocer la “historia natural radiológica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s patologías más frecuentes: condensación, derrame pleural, atelectasia, enfisema,neumotórax, nódulo,  tumor, cavitación, compromiso interst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empre precede a la realización de otros exámenes imagenológ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ff00"/>
                </a:solidFill>
                <a:uFillTx/>
                <a:latin typeface="Arial"/>
              </a:rPr>
              <a:t>Tomografía axial comput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Características técnica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yos X que inciden en el plano transversal, a todo el perímetro del tórax, en forma simultán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imagen es elaborada por un programa computacional, lo que permite integrar las densidades desde distintos ángu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densidad radiológicas de los tejidos se correlaciona con su 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ffff00"/>
                </a:solidFill>
                <a:uFillTx/>
                <a:latin typeface="Arial"/>
              </a:rPr>
              <a:t>Formas especiales de TAC de tór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AC de alta resolución (TACAR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nores anchos de cortes tomográficos permiten ver mejores resolu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AC helicoid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rtes a alta velocidad permiten eliminar artefactos de movimiento y observar el llene vascular con medio de contraste. Ocupa menos tiempo es más fácil de hacer en pacientes gr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ngioTA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dio de contraste que permite diferenciar tipos de tejidos, especialmente la circ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Principales indicaciones del TAC de tór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ódulos y masas de pulmón, mediastino y ple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tapificación del Cáncer Pulmo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onquiectas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fermedades profesionales (ej.: neumoconiosi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umonías de curso atíp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fermedades pulmonares difusas (ej.: fibrosis pulmonar, neumonitis por hipersensibilidad, linfangioleiomiomatosis, sarcoidosi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1273320"/>
            <a:ext cx="6248520" cy="47764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ensidades radi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structuras ós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818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3200"/>
            </a:b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Clavíc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8000" y="1417680"/>
            <a:ext cx="571212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ff00"/>
                </a:solidFill>
                <a:uFillTx/>
                <a:latin typeface="Arial"/>
              </a:rPr>
              <a:t>Radiología clí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aboración e interpretación de imágenes del cuerpo humano en base a medios fí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ctualmente la especialidad médica dedicada a la radiología se ocupa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ayo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ltraso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Tomografía axial computada (scan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scápulas en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617220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Diafrag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50920" y="1636560"/>
            <a:ext cx="54007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iafra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24080" y="1066680"/>
            <a:ext cx="4208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Proyección traqueal en 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4309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de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Zonas de inter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0400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squema placa lat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380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Proyección aorta en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7150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ff00"/>
                </a:solidFill>
                <a:uFillTx/>
                <a:latin typeface="Arial"/>
              </a:rPr>
              <a:t>Aort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74880" y="1449360"/>
            <a:ext cx="52182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natomía cardia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35280" y="1568520"/>
            <a:ext cx="54734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natomía cardia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3760" y="1600200"/>
            <a:ext cx="4064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ff00"/>
                </a:solidFill>
                <a:uFillTx/>
                <a:latin typeface="Arial"/>
              </a:rPr>
              <a:t>Uso clínico de la imagen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xamen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omplementari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l proceso diagnó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Solicitud e interpretación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ntro de contexto clí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clínico debe conocer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utilidad y los inconveniente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 cada ex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radiólogo debe conocer los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datos clínicos y la sospecha diagnóstica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l paciente a estud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Neumo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636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Neumonia basal derec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16000" y="1636560"/>
            <a:ext cx="69120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00"/>
                </a:solidFill>
                <a:uFillTx/>
                <a:latin typeface="Arial"/>
              </a:rPr>
              <a:t>Neumo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43080" y="1000080"/>
            <a:ext cx="547704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00"/>
                </a:solidFill>
                <a:uFillTx/>
                <a:latin typeface="Arial"/>
              </a:rPr>
              <a:t>Neumo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5639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00"/>
                </a:solidFill>
                <a:uFillTx/>
                <a:latin typeface="Arial"/>
              </a:rPr>
              <a:t>Neumo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63880" y="1268280"/>
          <a:ext cx="4595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3880" y="1268280"/>
                    <a:ext cx="4595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Derrame ple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708200"/>
            <a:ext cx="69850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Derrame ple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427640" cy="3859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79880" y="1413000"/>
            <a:ext cx="4164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2741400" cy="63770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19280" y="274680"/>
            <a:ext cx="346716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ecúbito </a:t>
            </a:r>
            <a:br>
              <a:rPr sz="4400"/>
            </a:b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at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Enfis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685880"/>
            <a:ext cx="79912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bsceso pulmo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1733400"/>
            <a:ext cx="77104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ciente (síntomas + sig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dico (historia y examen físic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PÓTESIS DIAGNO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amen imagenológico permi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rmar hipótesis diagnó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magnitud del compromi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gerir diagnósticos altern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entar sobre el tratamiento y pronó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ción de resultados del trat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squisa de secue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105264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177336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270828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bsceso pulmo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741320"/>
            <a:ext cx="764388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telect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51160" y="1557360"/>
            <a:ext cx="4508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Neumotórax izquierdo a ten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95640" y="1619280"/>
            <a:ext cx="504036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Crecimiento cavidades izquier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1652760"/>
            <a:ext cx="7872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Estenosis Mit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79390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áquea y b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371600" y="1776240"/>
            <a:ext cx="50007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Metást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82800" y="981000"/>
            <a:ext cx="500364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ffff00"/>
                </a:solidFill>
                <a:uFillTx/>
                <a:latin typeface="Arial"/>
              </a:rPr>
              <a:t>Neumoperiton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7920" y="1274760"/>
            <a:ext cx="68580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BC 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19320" y="1295280"/>
          <a:ext cx="6476760" cy="50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6476760" cy="504684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BC 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52480" y="1353960"/>
          <a:ext cx="52578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353960"/>
                    <a:ext cx="5257800" cy="458964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Generalidades de la Radiografía de tór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amen básic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n el diagnóstico de las enfermedades respira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plemento del examen físico pulmonar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: mayor sensibilidad y especificidad en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densación, atelectasia, derrame pleural, neumotórax y compromiso interst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uy útil en la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pesquis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de nódulos, tumores, quistes y cavi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 la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obstrucción bronquial difus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: signos de hiperinsuflación (tardíos), evidencias de enfis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errame ple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BC 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28800" y="1039680"/>
            <a:ext cx="632448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Utilidad de la radiografía de tór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118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Descrip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rad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18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Interpretación clínico rad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3573360"/>
            <a:ext cx="7345440" cy="173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La calidad de las respuest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depende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la calidad de las pregu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Formación de la imagen rad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os rayos X atraviesan la estructura a estudiar e impregnan una placa fot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placa resultante muestra un dibujo en base a escala de g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 blanco, las estructuras que absorbieron más rayos (radio-opacidad). Ej.: hu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 negro, las estructuras atravesadas por los rayos (radio-lucidez). Ej.: 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00"/>
                </a:solidFill>
                <a:uFillTx/>
                <a:latin typeface="Arial"/>
              </a:rPr>
              <a:t>Utilidad de la Radiografía de tórax en la clí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dens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ódulos y/o m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rrame ple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umotó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dema pulm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fermedades Pulmonares por depósito (silic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fermedades Pulmonares Difusas (SDRA, fibrosis, micronódul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fermedades Cardiovasc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Generalidades de la Radiografía de tór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ignos indirec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Lesiones endobronquiale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: producen atelectasias, hiperinsuflaciones  o neumonitis local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Lesiones vasculare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: producen atelectasias (en caso de infarto) o derrame ple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1:33:15Z</dcterms:created>
  <dc:creator>Sergio Bozzo Navarrete</dc:creator>
  <dc:description/>
  <dc:language>en-US</dc:language>
  <cp:lastModifiedBy>Sergio Bozzo</cp:lastModifiedBy>
  <dcterms:modified xsi:type="dcterms:W3CDTF">2007-03-24T01:23:59Z</dcterms:modified>
  <cp:revision>49</cp:revision>
  <dc:subject/>
  <dc:title>Radiografía de Tórax</dc:title>
</cp:coreProperties>
</file>