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68A-1130-4C33-A138-E26974D7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3C5-F8A8-4BD6-9BBA-D80A26B3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B1C-B14D-40F6-98B5-2240321A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669-C908-4A71-8B62-1C8939DD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65B-3E3A-4FD4-8740-E61E0885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A54-3296-425D-9F7A-D987E71E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812-B81E-4049-B2A0-EF5C4737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2E5-F910-43CD-AF06-900DCD34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259-7827-446A-9751-D68E869D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CE6-54C3-42DA-B2BB-4375E5E9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EEC-CF3C-4E5D-A01B-C2AB691F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C13-FAAA-4BB9-A02D-C3E6F03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E66C-12A5-499F-ABB6-CD95DECB2A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Radiografía</a:t>
            </a: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de Tórax</a:t>
            </a:r>
            <a:br>
              <a:rPr sz="5400"/>
            </a:b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para semi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884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r. Sergio Bozzo Navar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de tórax conven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imagen es obtenida por la impresión de una placa fotográfica por los rayo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Placa frontal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: los rayos atraviesan al sujeto en estudio de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posterior a 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laca late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ray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van de izquierda a dere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Mayor rendimiento 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 la radiografía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Más de una proyec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ermite obtener imagen de vértices, recesos costofrénicos posteriores y región retrocardiaca; ayuda a proyectar tridimensio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Aumentar el contras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sustancias radio-op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diografía con Bario en el esó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uciones yodadas en los bronquios (broncografía) o en los vasos (angiografí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cas en diferente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fases de la respi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cas en diferente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posi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que desplazan a elementos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cúbito lateral, permite ver desplazamiento de líquido en la pleura.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Características de la placa radiográf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radiografía muestra diferencias de densidad radiológica y no necesariamente diferencia de estru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ejidos y elementos de diferente naturaleza pueden tener una misma densidad radioló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laca radiológica es una representación bidimensional de la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tructuras tridimensionales deben deducirse de una imagen bidimens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00"/>
                </a:solidFill>
                <a:uFillTx/>
                <a:latin typeface="Arial"/>
              </a:rPr>
              <a:t>Rol de la radiografía de tórax en enfermedades respirato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examen imagenológic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ás importan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el estudio de la patología respi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amen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rato y seguro. Amplia disponib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línico debe sab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pretar las alteraciones fundamentales y conocer la “historia natural radiológica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s patologías más frecuentes: condensación, derrame pleural, atelectasia, enfisema,neumotórax, nódulo,  tumor, cavitación, compromiso interst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empre precede a la realización de otros exámenes imagenoló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Tomografía axial compu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Características técnic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yos X que inciden en el plano transversal, a todo el perímetro del tórax, en forma simultá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imagen es elaborada por un programa computacional, lo que permite integrar las densidades desde distintos ángu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densidad radiológicas de los tejidos se correlaciona con su 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00"/>
                </a:solidFill>
                <a:uFillTx/>
                <a:latin typeface="Arial"/>
              </a:rPr>
              <a:t>Formas especiales de TAC de tór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C de alta resolución (TACA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nores anchos de cortes tomográficos permiten ver mejores resolu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C helicoid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rtes a alta velocidad permiten eliminar artefactos de movimiento y observar el llene vascular con medio de contraste. Ocupa menos tiempo es más fácil de hacer en pacientes gr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ngioTA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o de contraste que permite diferenciar tipos de tejidos, especialmente la cir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Principales indicaciones del TAC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ódulos y masas de pulmón, mediastino y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tapificación del Cáncer Pulmo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onquiectas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fermedades profesionales (ej.: neumoconiosi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umonías de curso atí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fermedades pulmonares difusas (ej.: fibrosis pulmonar, neumonitis por hipersensibilidad, linfangioleiomiomatosis, sarcoidosi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73320"/>
            <a:ext cx="6248520" cy="4776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nsidades rad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tructuras ó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3200"/>
            </a:b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Clav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1417680"/>
            <a:ext cx="57121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Radiología clí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aboración e interpretación de imágenes del cuerpo humano en base a medios fí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ctualmente la especialidad médica dedicada a la radiología se ocup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ay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ltra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omografía axial computada (scan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cápulas en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17220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iafrag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0920" y="1636560"/>
            <a:ext cx="5400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iafra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24080" y="1066680"/>
            <a:ext cx="4208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Proyección traqueal en 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4309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de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Zonas de inter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quema placa lat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80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royección aorta en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15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A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74880" y="1449360"/>
            <a:ext cx="52182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natomía cardia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1568520"/>
            <a:ext cx="5473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natomía cardia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3760" y="1600200"/>
            <a:ext cx="4064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Uso clínico de la image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amen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omplementari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l proceso diag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Solicitud e interpretación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ntro de contexto clí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clínico debe conocer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utilidad y los inconveniente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 cada 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radiólogo debe conocer lo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datos clínicos y la sospecha diagnóstica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l paciente a estud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636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nia basal dere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1636560"/>
            <a:ext cx="69120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3080" y="1000080"/>
            <a:ext cx="54770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63880" y="1268280"/>
          <a:ext cx="4595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1268280"/>
                    <a:ext cx="4595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708200"/>
            <a:ext cx="6985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27640" cy="385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79880" y="1413000"/>
            <a:ext cx="4164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2741400" cy="6377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cúbito </a:t>
            </a:r>
            <a:br>
              <a:rPr sz="4400"/>
            </a:b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t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Enfis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685880"/>
            <a:ext cx="79912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bsceso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1733400"/>
            <a:ext cx="77104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iente (síntomas + sig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dico (historia y examen fís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ÓTESIS DIAGNO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en imagenológico perm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rmar hipótesis diagnó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magnitud del compromi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erir diagnósticos altern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entar sobre el tratamiento y pronó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resultados del tra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quisa de secu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105264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177336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270828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bsceso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741320"/>
            <a:ext cx="7643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telect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51160" y="1557360"/>
            <a:ext cx="4508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tórax izquierdo a ten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5640" y="1619280"/>
            <a:ext cx="50403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Crecimiento cavidades izquier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652760"/>
            <a:ext cx="7872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Estenosis Mi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7939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áquea y b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71600" y="1776240"/>
            <a:ext cx="50007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Metást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82800" y="981000"/>
            <a:ext cx="50036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00"/>
                </a:solidFill>
                <a:uFillTx/>
                <a:latin typeface="Arial"/>
              </a:rPr>
              <a:t>Neumoperito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274760"/>
            <a:ext cx="6858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19320" y="1295280"/>
          <a:ext cx="6476760" cy="50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476760" cy="50468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1353960"/>
          <a:ext cx="52578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53960"/>
                    <a:ext cx="5257800" cy="45896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Generalidades de la Radiografía de tó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amen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n el diagnóstico de las enfermedades respir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plemento del examen físico pulmonar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mayor sensibilidad y especificidad en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densación, atelectasia, derrame pleural, neumotórax y compromiso interst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uy útil en la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pesquis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 nódulos, tumores, quistes y cavi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la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obstrucción bronquial difus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signos de hiperinsuflación (tardíos), evidencias de enfi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28800" y="1039680"/>
            <a:ext cx="63244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Utilidad de la radiografía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11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Descri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rad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1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Interpretación clínico rad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3573360"/>
            <a:ext cx="734544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La calidad de las respues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depende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la calidad de las pregu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Formación de la imagen rad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rayos X atraviesan la estructura a estudiar e impregnan una placa fot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placa resultante muestra un dibujo en base a escala de g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blanco, las estructuras que absorbieron más rayos (radio-opacidad). Ej.: hu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negro, las estructuras atravesadas por los rayos (radio-lucidez). Ej.: 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00"/>
                </a:solidFill>
                <a:uFillTx/>
                <a:latin typeface="Arial"/>
              </a:rPr>
              <a:t>Utilidad de la Radiografía de tórax en la clí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ódulos y/o m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rrame pl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umotó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dema pulm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Pulmonares por depósito (silic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Pulmonares Difusas (SDRA, fibrosis, micronódu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Cardiovas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Generalidades de la Radiografía de tó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gnos indire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Lesiones endobronquiale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: producen atelectasias, hiperinsuflaciones  o neumonitis loca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Lesiones vasculare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: producen atelectasias (en caso de infarto) o derrame pl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1:33:15Z</dcterms:created>
  <dc:creator>Sergio Bozzo Navarrete</dc:creator>
  <dc:description/>
  <dc:language>en-US</dc:language>
  <cp:lastModifiedBy>Sergio Bozzo</cp:lastModifiedBy>
  <dcterms:modified xsi:type="dcterms:W3CDTF">2007-03-24T01:23:59Z</dcterms:modified>
  <cp:revision>49</cp:revision>
  <dc:subject/>
  <dc:title>Radiografía de Tórax</dc:title>
</cp:coreProperties>
</file>