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BBF-D217-4BBB-8CF1-43365DCE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564-FEF1-4C32-BEC6-C0AE0B32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22C-4665-4134-99DD-E25E68B1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611-7DB6-4007-86A4-3D4C1EF6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664-B8D6-4062-8F47-38E66708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682-CD0E-4CD5-9AA6-BFA099F5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D75-DD0A-4112-A682-85FC318E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61E-488D-4A80-82B8-9E9A98F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600-22C4-4853-B2AB-D793986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B28-7429-415C-8183-ADBF90C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F81-D4FF-46A8-A424-17DE490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8C1-0D2E-44D4-B124-E3B24CF5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AB36-4283-4895-9E27-DBCA4E09D0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Radiografía</a:t>
            </a: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5400" spc="-1" strike="noStrike">
                <a:solidFill>
                  <a:srgbClr val="ffff00"/>
                </a:solidFill>
                <a:latin typeface="Arial"/>
              </a:rPr>
              <a:t>de Tórax</a:t>
            </a:r>
            <a:br>
              <a:rPr sz="5400"/>
            </a:b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para semi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884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r. Sergio Bozzo Navar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conve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imagen es obtenida por la impresión de una placa fotográfica por los ray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laca frontal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: los rayos atraviesan al sujeto en estudio de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posterior a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laca later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van de izquierda a der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Mayor rendimiento 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ás de una proyec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ermite obtener imagen de vértices, recesos costofrénicos posteriores y región retrocardiaca; ayuda a proyectar tridimensio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Aumentar el contras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sustancias radio-op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diografía con Bario en el esó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uciones yodadas en los bronquios (broncografía) o en los vasos (angiograf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fases de la respi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cas en diferente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posi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que desplazan a elemento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cúbito lateral, permite ver desplazamiento de líquido en la pleura.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Características de la placa radiográf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adiografía muestra diferencias de densidad radiológica y no necesariamente diferencia de estru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ejidos y elementos de diferente naturaleza pueden tener una misma densidad radi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ca radiológica es una representación bidimensional de la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tructuras tridimensionales deben deducirse de una imagen bidimen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Rol de la radiografía de tórax en enfermedades respirato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examen imagenológic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ás importan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el estudio de la patología respir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amen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rato y seguro. Amplia disponib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línico debe sab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pretar las alteraciones fundamentales y conocer la “historia natural radiológica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s patologías más frecuentes: condensación, derrame pleural, atelectasia, enfisema,neumotórax, nódulo,  tumor, cavitación, compromiso interst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empre precede a la realización de otros exámenes imagen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Tomografía axial compu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Características técnic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ayos X que inciden en el plano transversal, a todo el perímetro del tórax, en forma simultá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imagen es elaborada por un programa computacional, lo que permite integrar las densidades desde distintos ángu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densidad radiológicas de los tejidos se correlaciona con su 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00"/>
                </a:solidFill>
                <a:uFillTx/>
                <a:latin typeface="Arial"/>
              </a:rPr>
              <a:t>Formas especiales de TAC de tór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de alta resolución (TACA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nores anchos de cortes tomográficos permiten ver mejores resolu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AC helicoid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rtes a alta velocidad permiten eliminar artefactos de movimiento y observar el llene vascular con medio de contraste. Ocupa menos tiempo es más fácil de hacer en pacientes gr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ngioTA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dio de contraste que permite diferenciar tipos de tejidos, especialmente la cir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Principales indicaciones del TAC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ódulos y masas de pulmón, mediastino y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tapificación del Cáncer Pulmon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onquiectas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rofesionales (ej.: neumoconiosi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umonías de curso atíp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fermedades pulmonares difusas (ej.: fibrosis pulmonar, neumonitis por hipersensibilidad, linfangioleiomiomatosis, sarcoidosi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73320"/>
            <a:ext cx="6248520" cy="47764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nsidades rad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tructuras ós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3200"/>
            </a:b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Clav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8000" y="1417680"/>
            <a:ext cx="57121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Radiología clí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aboración e interpretación de imágenes del cuerpo humano en base a medios fí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tualmente la especialidad médica dedicada a la radiología se ocup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ay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ltra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omografía axial computada (scan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cápulas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17220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iafrag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1636560"/>
            <a:ext cx="54007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iafra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24080" y="1066680"/>
            <a:ext cx="42084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Proyección traqueal en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309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de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Zonas de inter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Esquema placa 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80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Proyección aorta e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Aor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74880" y="1449360"/>
            <a:ext cx="52182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568520"/>
            <a:ext cx="5473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natomía cardi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3760" y="1600200"/>
            <a:ext cx="4064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ffff00"/>
                </a:solidFill>
                <a:uFillTx/>
                <a:latin typeface="Arial"/>
              </a:rPr>
              <a:t>Uso clínico de la image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amen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omplementari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roceso diag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Solicitud e interpretación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ntro de contexto clí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clínico debe conocer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utilidad y los inconveniente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cada 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radiólogo debe conocer lo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atos clínicos y la sospecha diagnóstica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l paciente a estud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36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nia basal dere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636560"/>
            <a:ext cx="69120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3080" y="1000080"/>
            <a:ext cx="54770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Neumo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3880" y="1268280"/>
          <a:ext cx="4595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1268280"/>
                    <a:ext cx="4595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708200"/>
            <a:ext cx="6985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27640" cy="385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79880" y="1413000"/>
            <a:ext cx="4164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2741400" cy="6377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cúbito 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a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nfis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685880"/>
            <a:ext cx="79912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733400"/>
            <a:ext cx="77104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iente (síntomas + sig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dico (historia y examen fís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ÓTESIS DIAGNO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en imagenológico permi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rmar hipótesis diagnó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magnitud del compromi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erir diagnósticos alterna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entar sobre el tratamiento y pronó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resultados del tra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squisa de secu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105264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177336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270828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bsceso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741320"/>
            <a:ext cx="76438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Atelect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51160" y="1557360"/>
            <a:ext cx="4508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Neumotórax izquierdo a ten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1619280"/>
            <a:ext cx="50403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Crecimiento cavidades izquier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652760"/>
            <a:ext cx="7872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Radiografía Tórax PA LI</a:t>
            </a:r>
            <a:br>
              <a:rPr sz="4000"/>
            </a:b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Estenosis Mi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7939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ráquea y b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1776240"/>
            <a:ext cx="50007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Metá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82800" y="981000"/>
            <a:ext cx="50036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ffff00"/>
                </a:solidFill>
                <a:uFillTx/>
                <a:latin typeface="Arial"/>
              </a:rPr>
              <a:t>Neumoperito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274760"/>
            <a:ext cx="6858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19320" y="1295280"/>
          <a:ext cx="647676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476760" cy="50468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1353960"/>
          <a:ext cx="52578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53960"/>
                    <a:ext cx="5257800" cy="4589640"/>
                  </a:xfrm>
                  <a:prstGeom prst="rect">
                    <a:avLst/>
                  </a:prstGeom>
                  <a:ln w="7632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amen básic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en el diagnóstico de las enfermedades respir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plemento del examen físico pulmonar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mayor sensibilidad y especificidad en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densación, atelectasia, derrame pleural, neumotórax y compromiso interst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uy útil 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pesqui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de nódulos, tumores, quistes y cavi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obstrucción bronquial difus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signos de hiperinsuflación (tardíos), evidencias de enfi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Derrame ple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BC 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28800" y="1039680"/>
            <a:ext cx="63244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Descri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1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Interpretación clínico rad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3573360"/>
            <a:ext cx="734544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respues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depende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la calidad de las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Formación de la imagen rad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rayos X atraviesan la estructura a estudiar e impregnan una placa fot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placa resultante muestra un dibujo en base a escala de g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blanco, las estructuras que absorbieron más rayos (radio-opacidad). Ej.: hu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negro, las estructuras atravesadas por los rayos (radio-lucidez). Ej.: 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00"/>
                </a:solidFill>
                <a:uFillTx/>
                <a:latin typeface="Arial"/>
              </a:rPr>
              <a:t>Utilidad de la Radiografía de tórax en la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ódulos y/o m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umotó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dema pulm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por depósito (silic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Pulmonares Difusas (SDRA, fibrosis, micronódu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ermedades Cardiovas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00"/>
                </a:solidFill>
                <a:uFillTx/>
                <a:latin typeface="Arial"/>
              </a:rPr>
              <a:t>Generalidades de la Radiografía de tó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gnos in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endobronquial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, hiperinsuflaciones  o neumonitis loc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Lesiones vasculare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: producen atelectasias (en caso de infarto) o derrame ple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1:33:15Z</dcterms:created>
  <dc:creator>Sergio Bozzo Navarrete</dc:creator>
  <dc:description/>
  <dc:language>en-US</dc:language>
  <cp:lastModifiedBy>Sergio Bozzo</cp:lastModifiedBy>
  <dcterms:modified xsi:type="dcterms:W3CDTF">2007-03-24T01:23:59Z</dcterms:modified>
  <cp:revision>49</cp:revision>
  <dc:subject/>
  <dc:title>Radiografía de Tórax</dc:title>
</cp:coreProperties>
</file>