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3.png" ContentType="image/pn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796200"/>
            <a:ext cx="6923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59984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79620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79620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22291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599840"/>
            <a:ext cx="22291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599840"/>
            <a:ext cx="22291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796200"/>
            <a:ext cx="22291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796200"/>
            <a:ext cx="22291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796200"/>
            <a:ext cx="22291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33782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599840"/>
            <a:ext cx="33782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3280" y="2743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599840"/>
            <a:ext cx="33782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79620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33782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59984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79620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599840"/>
            <a:ext cx="33782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796200"/>
            <a:ext cx="6923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3640" y="6165720"/>
            <a:ext cx="5487840" cy="432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ffff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eorgia"/>
              </a:rPr>
              <a:t>Unidad de Enfermedades Respiratorias HS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88400" y="260280"/>
            <a:ext cx="687240" cy="11527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2130120"/>
            <a:ext cx="611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boratorio de función pulmonar</a:t>
            </a: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 semiologí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371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Sergio Bozzo Navar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920" y="5569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Patrones alterados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a la espirometrí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dice tiff. menor al teo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8000" y="1752480"/>
            <a:ext cx="849636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atrón espirométrico obstr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2133720"/>
          <a:ext cx="821844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1844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atrón espirométrico restri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minución de la  CVF con caída proporcional del VEF1, lo que se evidencia en una relación VEF1/CVF n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valor límite inferior de VEF1/CVF es definido como el percentil 95 en la población de ref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Causas de alteraciones espirométrica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640" y="1599840"/>
            <a:ext cx="3384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stru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ma bronqu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CFA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POC, secuelas de TBC, neumoconiosis, fibrosis quística, bronquiectasi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00640" y="1599840"/>
            <a:ext cx="3386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tri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eumo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telect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cupación pleu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fermedades pulmonares (intersticiales) difu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uficiencia ventricular izquier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fermedades parietales y neuromuscu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besidad mór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formidades caja toác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5688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Arial"/>
              </a:rPr>
              <a:t>Flujometrí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63640" y="1341360"/>
            <a:ext cx="68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Medición del </a:t>
            </a:r>
            <a:r>
              <a:rPr b="1" lang="es-MX" sz="2800" spc="-1" strike="noStrike">
                <a:solidFill>
                  <a:srgbClr val="99cc00"/>
                </a:solidFill>
                <a:latin typeface="Arial"/>
              </a:rPr>
              <a:t>Flujo Espiratorio Máxi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xisten tablas para comparar val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Procedimiento simple , PERO , muy dependiente del esfuer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u gran valor radica en el paralelismo entre el PEF y el VEF 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quipo barato y conf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yuda en el diagnóstico y en el segu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76280" y="5589720"/>
            <a:ext cx="4310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ÓMETROS DE W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380880"/>
            <a:ext cx="82296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est  de 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provocación bronquia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68360" y="2060280"/>
            <a:ext cx="618984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st  de  hist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Test  de  metaco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st  de  ejercicio  en  carrera  li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st  de  ejercicio  en  cinta  rod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st con alergenos inha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ma de gases arteria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55640" y="1773360"/>
          <a:ext cx="793116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7931160" cy="417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Gases arteria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31680" y="2068560"/>
            <a:ext cx="6854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En  reposo  sin  oxíg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 reposo  con  oxíg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 ejerc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  oxígeno  100 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 simulación  de  a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ámenes d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nción respiratori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Útiles en medicina clínica y ocupacional, así como en epidemi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rias técnicas, dirigidas a distintos aspectos. Los más recurridos en clín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Función ventilatori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espirometría, curva flujo/volumen, flujome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Intercambio gaseos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gases arteriales de reposo y ejercicio, difusión de monóxido de car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ilidad de los GS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encia de hipoxemia e hipercapnia y diagnóstico de insuficiencia respir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valuación de los mecanismos de hi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sultados de la oxígenotera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valuación del equilibrio ácido-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pretación GS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quiere conocer la fracción inspirada de oxígeno (Fi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valora la ventilación con la pa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iperventilación: disminu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ipoventilación: aum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stima la oxigenación  tisular con la paO2, comparándola con lo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stima la homogeneidad de la relación ventilación/perfusión calculando la gradiente alvéolo arterial de oxí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valúa el estado ácido-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poxia e hipoxi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hipoxemia se refiere a la sang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hipoxia se refiere a los tej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y hipoxia tisular 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ipox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ída del gasto cardia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strucción ar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Solicitar  </a:t>
            </a:r>
            <a:br>
              <a:rPr sz="4000"/>
            </a:b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gases en sangre ar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31680" y="2205000"/>
            <a:ext cx="68547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fermedades que afecten directa o indirectamente al  aparato respiratorio, así como condiciones que afecten el equilibrio ácido-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valuación de la oxígenotera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16000" y="465120"/>
          <a:ext cx="633564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65120"/>
                    <a:ext cx="63356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tado ácido ba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cuación de Henderson-Hasselb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h = 6.1 + log bicarbonato/(0.03-pCO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Valor normal 7.35-7.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&lt; 7.35=acidosis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&gt; 7.45=alca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tado ácido ba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H bajo + pCO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ta = acidosis respir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H bajo + bicarbonato bajo = acidosis metabó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H alto + pCO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baja = alcalosis respir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H alto + bicarbonato alto = alcalosis metabó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Oximetría de puls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24000" y="1371600"/>
            <a:ext cx="7020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de la saturación de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la Hemoglob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 un método no inv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quiere entrenamiento míni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pende mucho del estado hemodinámico del p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 permite conocer la Pa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ni el estado ácido-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yor utilidad en el seguimiento del p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634920" y="1752120"/>
            <a:ext cx="52578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aturación normal     97 - 98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aturación deseada   &gt; 9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aturación mínima     85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aturación en paciente retenedor de 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85 a 90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Oximetría de puls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1413000"/>
          <a:ext cx="288144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288144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66560" y="3718080"/>
          <a:ext cx="3097440" cy="17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3718080"/>
                    <a:ext cx="30974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diagnóstico funcional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o 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iagnóstico clínico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73803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diagnóstico funcional es útil pa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 hacia diagnóstico de enferm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r la gravedad de una cond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r la respuesta a trat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ecer pronóstico funcional y riesgo fisio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5976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spirometrí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3280" y="1341360"/>
            <a:ext cx="69850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xamen básico en el estudio funcional de las enfermedades respirator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ermite distinguir alteraciones restrictivas de obstruc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ermite conocer el efecto del tratamiento en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 curva flujo/volumen permite diferenciar la obstrucción de vía aérea intra versus extratorác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Espirometrí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23640" y="1628640"/>
            <a:ext cx="5977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Medición basada en la espiración del paciente, idealmente for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valúa algunos flujos, volúmenes y capacidades pulmonares.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quiere de una adecuada capacitación para realizarla (paciente) e informarl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médico)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tilidades de la espirometrí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6840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iagnóstico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rmal, obstructivo, restri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valuación de mecanismo de ob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ra o extratorácica (curva flujo/volum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Graduación de la capacidad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 que no siempre correlaciona con la clí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valuación de respuesta al trat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guimiento comparativo en el ti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tilidades de la espirometrí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valuación de reactividad bronqu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 de modificación significativa de parámetros con uso de aerosol broncodila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ón de evaluación en las pruebas de provo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imación del riesgo quirúr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edición de incapacidad fís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ablecido leg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nvestigación clínica y epidemi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09680" y="1905120"/>
          <a:ext cx="31323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132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Índices espirom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752480"/>
          <a:ext cx="799308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52480"/>
                    <a:ext cx="799308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8:32:47Z</dcterms:created>
  <dc:creator>SBozzo</dc:creator>
  <dc:description/>
  <dc:language>en-US</dc:language>
  <cp:lastModifiedBy>Sergio Bozzo</cp:lastModifiedBy>
  <dcterms:modified xsi:type="dcterms:W3CDTF">2007-03-24T01:24:20Z</dcterms:modified>
  <cp:revision>43</cp:revision>
  <dc:subject/>
  <dc:title>CURSO DE  SEMIOLOGÍA MÉDICA</dc:title>
</cp:coreProperties>
</file>