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57.jpeg" ContentType="image/jpe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56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18.jpeg" ContentType="image/jpeg"/>
  <Override PartName="/ppt/media/image20.jpeg" ContentType="image/jpeg"/>
  <Override PartName="/ppt/media/image22.png" ContentType="image/png"/>
  <Override PartName="/ppt/media/image80.jpeg" ContentType="image/jpeg"/>
  <Override PartName="/ppt/media/image21.jpeg" ContentType="image/jpeg"/>
  <Override PartName="/ppt/media/image42.png" ContentType="image/png"/>
  <Override PartName="/ppt/media/image26.jpeg" ContentType="image/jpeg"/>
  <Override PartName="/ppt/media/image24.jpeg" ContentType="image/jpeg"/>
  <Override PartName="/ppt/media/image83.jpeg" ContentType="image/jpeg"/>
  <Override PartName="/ppt/media/image17.jpeg" ContentType="image/jpeg"/>
  <Override PartName="/ppt/media/image40.png" ContentType="image/png"/>
  <Override PartName="/ppt/media/image15.jpeg" ContentType="image/jpeg"/>
  <Override PartName="/ppt/media/image61.jpeg" ContentType="image/jpeg"/>
  <Override PartName="/ppt/media/image78.jpeg" ContentType="image/jpeg"/>
  <Override PartName="/ppt/media/image81.jpeg" ContentType="image/jpeg"/>
  <Override PartName="/ppt/media/image70.jpeg" ContentType="image/jpeg"/>
  <Override PartName="/ppt/media/image5.png" ContentType="image/png"/>
  <Override PartName="/ppt/media/image35.png" ContentType="image/png"/>
  <Override PartName="/ppt/media/image16.jpeg" ContentType="image/jpeg"/>
  <Override PartName="/ppt/media/image77.jpeg" ContentType="image/jpeg"/>
  <Override PartName="/ppt/media/image60.jpeg" ContentType="image/jpeg"/>
  <Override PartName="/ppt/media/image79.jpeg" ContentType="image/jpeg"/>
  <Override PartName="/ppt/media/image76.jpeg" ContentType="image/jpeg"/>
  <Override PartName="/ppt/media/image73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9.jpeg" ContentType="image/jpeg"/>
  <Override PartName="/ppt/media/image65.jpeg" ContentType="image/jpeg"/>
  <Override PartName="/ppt/media/image8.jpeg" ContentType="image/jpeg"/>
  <Override PartName="/ppt/media/image38.png" ContentType="image/png"/>
  <Override PartName="/ppt/media/image66.png" ContentType="image/png"/>
  <Override PartName="/ppt/media/image63.jpeg" ContentType="image/jpeg"/>
  <Override PartName="/ppt/media/image6.jpeg" ContentType="image/jpeg"/>
  <Override PartName="/ppt/media/image62.png" ContentType="image/png"/>
  <Override PartName="/ppt/media/image28.jpeg" ContentType="image/jpeg"/>
  <Override PartName="/ppt/media/image14.jpeg" ContentType="image/jpeg"/>
  <Override PartName="/ppt/media/image1.jpeg" ContentType="image/jpeg"/>
  <Override PartName="/ppt/media/image82.jpeg" ContentType="image/jpeg"/>
  <Override PartName="/ppt/media/image23.jpeg" ContentType="image/jpeg"/>
  <Override PartName="/ppt/media/image25.jpeg" ContentType="image/jpeg"/>
  <Override PartName="/ppt/media/image32.png" ContentType="image/png"/>
  <Override PartName="/ppt/media/image50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74.jpeg" ContentType="image/jpeg"/>
  <Override PartName="/ppt/media/image34.png" ContentType="image/png"/>
  <Override PartName="/ppt/media/image13.jpeg" ContentType="image/jpeg"/>
  <Override PartName="/ppt/media/image44.png" ContentType="image/png"/>
  <Override PartName="/ppt/media/image75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3280" y="2743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372360" y="6121080"/>
            <a:ext cx="2319120" cy="476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800" spc="-1" strike="noStrike">
                <a:solidFill>
                  <a:srgbClr val="ffff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Semiología HS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88400" y="260280"/>
            <a:ext cx="687240" cy="11527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9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240" y="1612800"/>
            <a:ext cx="90835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fecciones y sus secuela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cuelas funcionales y estructu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año Tuberculosis; actualmente virus respirat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acilo de Koch (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Mycobacterium tuberculosi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19880" y="4383000"/>
            <a:ext cx="13557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uberculo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fermedad infecto-contagiosa producida por BK, de adquisición respira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de afectar cualquier tejido del organ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ácil diagnóstico en el sintomático respiratorio (baciloscopía y cultivo de Koch) y curable con tratamiento adecuado y oportu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Tuberculosis pulmona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s y expecto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pt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G y baja de p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bre, sudoración noctu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rame ple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48360" y="1604880"/>
            <a:ext cx="37447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Tuberculosis pulmona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2159280" cy="1982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81720" y="3817800"/>
            <a:ext cx="1538280" cy="198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108400" y="1628640"/>
            <a:ext cx="1911600" cy="1973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556000" y="3860640"/>
            <a:ext cx="23032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Tuberculosis extrapulmona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enopatí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fermedad renal y génitourin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esiones de p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48360" y="1604880"/>
            <a:ext cx="37447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Síntomas respiratori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DOLOR TORÁC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s sensibles del tóra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úsculos y estructuras fibro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uesos de la caja torác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rvios intercos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e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icar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o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ófago, Estómago y Pánc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iocar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Dolor Pariet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24000" y="1844640"/>
            <a:ext cx="662472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neralmente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ordo y localizad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que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umenta con los movimientos y ciertas posici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ivia con masaje, reposo, calor local y analgésicos corr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Dolor Pleur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6718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olor punzante, generalmente intenso, a veces “transfixiante”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neralmente se siente en parrilla cos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centúa con los movimientos, especialmente la inspiración y la 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ope respiratori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5280" y="1197000"/>
          <a:ext cx="8064360" cy="461016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a: Causas de dolor ple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uma torácico complicado: lesión de pared, hemo y neumotór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monia, pleuroneumoní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motórax espontáne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euritis o pleuresía de origen infeccioso (tuberculosi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arto pulmonar (tromboembolismo pulmona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oplasia maligna primaria (mesotelioma) o metastási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oplasia benigna primaria (tumores fibrosos primitivos pleural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eurodi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Dolor Pericárdic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63280" y="148428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entroesternal o algo lateralizado a izquierd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menta con el decúbito dorsal, con la inspiración y la t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minuye al sentarse inclinado hacia del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rote pericárd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usa más frecuente: pericarditis aguda benigna (¿¿viral?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39640" y="2130120"/>
            <a:ext cx="611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miología del aparato respiratori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092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Sergio Bozzo Navarr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. San Juan de 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Arial"/>
              </a:rPr>
              <a:t>Dolor de origen cardiovascula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8000" y="1599840"/>
            <a:ext cx="6778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olor miocár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g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cordal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olor en la disección aór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lor retroesternal (puede ser precordial y/o interescapular) intenso, súbito, desgarrad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de irradiar siguiendo el trayecto aórtico (hacia las piernas por el dors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ementos clínicos de sospech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Dolor en la pericarditis ag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Otras formas de </a:t>
            </a: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dolor torácico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14040" y="1484280"/>
            <a:ext cx="63579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uralgia intercos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olor esofá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olor referid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olor sicóg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35080" y="4145040"/>
            <a:ext cx="1844640" cy="245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19920" y="481176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uritis intercostal herp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</a:rPr>
              <a:t>Disn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snea de esfuer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rtop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snea Paroxística Noctu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snea sibi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nsidad de disn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volución de dis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</a:rPr>
              <a:t>Disnea grav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imita la actividad habitual (en casos severos puede dificultar el hablar)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bliga al paciente a permanecer sentado (no tolera el decúbito, que agrava la disne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bliga a consultar Servicios de Urgencia o pedir repetidamente evaluación mé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</a:rPr>
              <a:t>Disnea grav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socia sign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ficultad respirat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uficiencia respiratoria (hipoxemia, hipercapn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promiso hemodiná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lteraciones de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70600" y="3716280"/>
            <a:ext cx="1733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ausas de disn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63640" y="1599840"/>
            <a:ext cx="3384720" cy="2260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ovasc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00640" y="1599840"/>
            <a:ext cx="3386160" cy="2260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u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ón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55640" y="476280"/>
          <a:ext cx="7416720" cy="60228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a: Causas agudas de disn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piración hacia vía aérea de líquidos o cuerpos extrañ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halación de agentes tóxicos y/o irrit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sis de asma bronqu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sis de angust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erpo extraño en la vía aére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motórax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cciones respiratorias agudas: laringitis, bronquit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ingitis pépti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mon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mboembolismo pulmon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arto agudo del miocardi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ema pulmonar agu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arritmi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24000" y="189000"/>
          <a:ext cx="7920000" cy="659448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a: Causas respiratorias agudas de dis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eccio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nquitis agu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umon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uresía con der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u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ctura costal y contusión pulmo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umotóra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motór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ptura diafragmá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upaciones pleur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drotór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rame pleural tuberculo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rame pleural neoplá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umotórax espontán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piema ple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fermedades vascu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omboembolismo pulmo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arto pulmo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bolía pulmonar no trombó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electas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erpo extraño endobronqu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trucción bronquial por secreciones o tum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ánce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lmo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otelioma ple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ástasis a pulmón y/o ple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mores fibrosos primarios pleur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trucciones de la vía aé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erpo extraño, secreciones, aspiración, compresión extríns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476280"/>
          <a:ext cx="7632720" cy="60976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a: Causas respiratorias crónicas de dis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ma bronqu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mitación crónica al flujo aér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fermedad pulmonar obstructiva cró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uelas de tubercul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nquiectasi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umoconi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ma bronquial cró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berculosis pulmo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ceso pulmo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iema ple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fermedades pulmonares (intersticiales) difu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brosis pulmonar idiop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berculosis miliar (granul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nfangitis carcinomat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umonitis por dro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umoconi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fermedades pulmonares restrictiv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esidad mórb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ifoescoliosis sev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álisis diafragm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cciones pulmon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apso pulmonar, atelecta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00000" y="1773360"/>
          <a:ext cx="7559280" cy="3454920"/>
        </p:xfrm>
        <a:graphic>
          <a:graphicData uri="http://schemas.openxmlformats.org/drawingml/2006/table">
            <a:tbl>
              <a:tblPr/>
              <a:tblGrid>
                <a:gridCol w="75592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a: Causas de disnea no cardiorrespirat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ndrome aném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ndrome febr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idosis metaból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globinopat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cogénica: trastornos de ansiedad, depresión, his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63720" y="404640"/>
            <a:ext cx="5624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</a:rPr>
              <a:t>To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piración violenta con glotis cer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Húme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ductiva o no produc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especiales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s bit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s emetiz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íncope tusíg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s disfónica (ron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99280" y="357336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</a:rPr>
              <a:t>Expectoració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creciones infraglóticas que se eliminan por la bo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os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Muco)purul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rrumbr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 estrías de sang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mopto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48360" y="3697200"/>
            <a:ext cx="1685880" cy="2108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77080" y="2133720"/>
            <a:ext cx="17272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Broncorrea y vómic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23640" y="1628640"/>
            <a:ext cx="657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roncorrea: eliminación de gran cantidad de expectoración en el curso del d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ómica: eliminación de una gran cantidad de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íquido por la boca, proveniente del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parato respir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bsceso pulmona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s, expecto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or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pt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48360" y="177156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datidosis pulmona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quiste del parásito puede crecer silenciosamente sin dar sínt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vaciarse a bronquio produce v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950920" cy="208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9509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Hemopti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7640" y="1773000"/>
            <a:ext cx="67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angramiento proveniente del aparato respir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ariabilidad de cau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ravedad: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 la ca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mopti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gre roja, batida en la vía aérea, espumosa, expulsada con picor ó ardor traqueo-laríng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ra vez cuantiosa (masi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esgo de asfi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e asocia a me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en de nariz y boca sin lesiones etiológ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mopti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chas causas, siempre se debe pensar en tuberculosis (activa o sus secuelas fibrosas) y en cáncer pulmo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empre hacer radiografía de tórax y considerar la baciloscopía de expecto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11280" y="692280"/>
          <a:ext cx="7705800" cy="5643360"/>
        </p:xfrm>
        <a:graphic>
          <a:graphicData uri="http://schemas.openxmlformats.org/drawingml/2006/table">
            <a:tbl>
              <a:tblPr/>
              <a:tblGrid>
                <a:gridCol w="770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a: Causas de hemopti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monia necrotiz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ceso pulmon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nquiectas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uelas de tubercul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berculosis pulmonar ac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etoma pulmonar (Aspergilom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áncer broncóge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ástasis pulmo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iones de vía aé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uma torác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noma bronqu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sider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imientos endoscóp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1280" y="692280"/>
          <a:ext cx="7705800" cy="5703840"/>
        </p:xfrm>
        <a:graphic>
          <a:graphicData uri="http://schemas.openxmlformats.org/drawingml/2006/table">
            <a:tbl>
              <a:tblPr/>
              <a:tblGrid>
                <a:gridCol w="770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a: Causas de hemoptisis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scu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agias alveolares: vasculitis, síndrome de Goodpasture, Granulomatosis de Wege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artos pulmo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mboembolismo pulmon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ertensión pulmonar (primaria o secundari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uras de vaso sanguíneo a vía aérea (disección aórtica, malformación vascular, fístula arterio-veno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dia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vulopatías (estenosis mitr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Factores de riesgo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e enfermedad respiratori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63280" y="2347560"/>
            <a:ext cx="6923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Tabac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Ambientales y/o labor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Infec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Alerg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ngramiento por la boc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ingivorra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matem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mopt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pist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ómo se diferencian anamnésticam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2130120"/>
            <a:ext cx="626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amen físico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rácico pulmona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en físico pulmona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63280" y="16398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e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p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UL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en físico pulmona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12500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e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p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cul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QUIN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MP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16360" y="3645000"/>
            <a:ext cx="4032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ntos y líneas de referencia torácic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gulo manubrio esternal (Lou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ínea medio clavi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íneas ax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Xifo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áp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70440" y="1773360"/>
            <a:ext cx="297828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1017720"/>
            <a:ext cx="864216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360" y="134100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ectum excavatu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9280" y="404640"/>
          <a:ext cx="2148120" cy="31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2148120" cy="31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940360" y="4290840"/>
            <a:ext cx="2808360" cy="2102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7280" y="4724280"/>
            <a:ext cx="33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ectum </a:t>
            </a:r>
            <a:br>
              <a:rPr sz="4000"/>
            </a:b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carina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1916280" cy="2849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411280" y="476280"/>
            <a:ext cx="21258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92000" y="119664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Tórax </a:t>
            </a:r>
            <a:br>
              <a:rPr sz="4000"/>
            </a:b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irifor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4797360"/>
            <a:ext cx="406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órax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fisemat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868400" cy="2778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6760" y="3789360"/>
            <a:ext cx="18399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nfisem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25480" y="1413000"/>
          <a:ext cx="3284640" cy="48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413000"/>
                    <a:ext cx="32846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397480" y="1514520"/>
          <a:ext cx="3301920" cy="501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7480" y="1514520"/>
                    <a:ext cx="330192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Tórax cifoescoliótic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56000" y="1341360"/>
          <a:ext cx="3295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3295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baco y patologí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áncer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ía aérea y digestiva (desde labios a bronquios y col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j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ucemias y linf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2519640" cy="1859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04360" y="4227480"/>
            <a:ext cx="359892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ABACO ES EL PRIN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TE ET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ITABLE DE CÁ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tracción intercosta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92360" y="1544760"/>
          <a:ext cx="575928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544760"/>
                    <a:ext cx="575928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345440" cy="5376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s de tórax: visión transversa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643560" cy="4941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pos respiratorios según género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lpació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4920" y="2054160"/>
            <a:ext cx="3583080" cy="4111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743280" y="2060640"/>
            <a:ext cx="540072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rcusión directa e indirec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60480" y="2411280"/>
            <a:ext cx="3205080" cy="2903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84880" y="2278080"/>
            <a:ext cx="3205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uscultació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iempo clínico de mayor rendimiento diagnós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perado por la radiología en el estudio de pleura y parénquima pulmo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umerosas denominaciones de los signos auscultat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1280" y="836640"/>
          <a:ext cx="7705800" cy="5549760"/>
        </p:xfrm>
        <a:graphic>
          <a:graphicData uri="http://schemas.openxmlformats.org/drawingml/2006/table">
            <a:tbl>
              <a:tblPr/>
              <a:tblGrid>
                <a:gridCol w="7705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a: Recomendaciones para la nomencl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la auscultación pulm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idos de la respi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idos respiratorios n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ido laringo-traqu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rmullo pulmon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eraciones del ruido respi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iración ruido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iración soplante (tubari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minución o abolición del murmullo pulmon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ión de la v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ncofoní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ofoní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611280" y="836640"/>
          <a:ext cx="7705800" cy="5549760"/>
        </p:xfrm>
        <a:graphic>
          <a:graphicData uri="http://schemas.openxmlformats.org/drawingml/2006/table">
            <a:tbl>
              <a:tblPr/>
              <a:tblGrid>
                <a:gridCol w="7705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a: Recomendaciones para la nomencl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la auscultación pulm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idos agregados o advent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n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bilanc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i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continu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pit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tes pleu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rtores traque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846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índrome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piratorio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rácic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Síndrome de </a:t>
            </a:r>
            <a:br>
              <a:rPr sz="4000"/>
            </a:b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condensació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28280"/>
            <a:ext cx="6923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aire de los alvéolos es reemplazado por líquido o célul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Exudado inflamatorio (Neumonia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Líquido (edema pulmonar, aspiración de agua de mar o agua dulce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Sangre  (infartos pulmonares, hemoptisis masiva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Células neoplásicas (Cáncer bronquíolo-alveola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baco y patologí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4360" y="4227480"/>
            <a:ext cx="359892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ABACO ES EL PRIN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TE ET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ITABLE DE CÁ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189240"/>
            <a:ext cx="2027160" cy="340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75320" y="1851120"/>
            <a:ext cx="30290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Condensación clínic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Alcanza la superficie del pulm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iene más de 6 cm. de diáme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Contacta un bronquio de más de tres mm. de diáme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densación clí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68000" y="1628640"/>
            <a:ext cx="64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specció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de haber disminución de la excursión ipsilate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pación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mento de las vibraciones voc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minución de la excursión respiratoria ipsilate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cusió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idez de la zona afectada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densación clí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scultació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aparición del murmullo pulmon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iración soplan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ásicamente “soplo tubar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epitaciones (generalmente finas o crépitos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roncofonía, pectoriloquia áfo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entualmente frotes pleur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527640" cy="2884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55640" y="289080"/>
            <a:ext cx="3529080" cy="2817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05320" y="1628640"/>
            <a:ext cx="25797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Derrame pleural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índrome frecuente derivado de la acumulación de líquido en el espacio 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leva a colapso del pulmón subyacente (atelectasia pasiva) y deterioro de la función respir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íntomas dependen de la ca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 se: disnea y ortop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Derrame pleural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ansudad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ultrafiltración de plasma, traduce enfermedad extrapleu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udad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inflamación o infiltración neoplásica ple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angre (hemotóra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infa (quilotóra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s (empiem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Derrame pleur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specció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ción de la excursión respiratoria ipsilat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bombamiento del hemitór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pació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ción o abolición de las vibraciones v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viación de la tráquea a contralate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cusió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idez hídrica con curva parabó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Derrame pleur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scultació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bolición del murmullo pulmonar (silencio respiratorio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spiración soplante en borde superior (soplo “pleurítico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gofon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63640" y="658800"/>
            <a:ext cx="5616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1104840" cy="914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1295280" cy="849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82280" y="784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38360" y="1865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n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9800" y="34480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parab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659040" y="5013360"/>
            <a:ext cx="1849680" cy="1657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5580000" y="5013360"/>
            <a:ext cx="1944720" cy="1670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63480" y="5321160"/>
            <a:ext cx="28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imáge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damental la radiografí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lementa la ec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5796000" y="868320"/>
            <a:ext cx="2305080" cy="1498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5580000" y="2637000"/>
            <a:ext cx="1871640" cy="1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baco y patologí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no neoplás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ronquitis crónica, EP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teroesclerosis (enfermedad coronaria, cerebrovascular, de extremidades inferio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91360" y="3789360"/>
            <a:ext cx="1484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4360" y="1130400"/>
            <a:ext cx="3024000" cy="2708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62400" y="1125360"/>
            <a:ext cx="2794320" cy="2746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68360" y="4797360"/>
            <a:ext cx="1143000" cy="981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7440" y="4797360"/>
            <a:ext cx="706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otomografía es de eleci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TECCIÓN DE DERRAMES PEQUE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DIAGNÓSTICO DE DERRAMES TABICADOS (“enquistado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826160" y="2419200"/>
            <a:ext cx="3058920" cy="1949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042920" y="2281320"/>
            <a:ext cx="2881440" cy="216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74560" y="71136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curva parabólica es una ilusión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00720" y="4456080"/>
            <a:ext cx="43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versalmente, el líqu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vuelve el pulmón y la zona de mayor matidez es hacia el borde axilar, en el que predomina el líquido sobre el 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Atelectasi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spección: Disminución de excursión respiratoria y retracción del hemitórax afect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lpación: Confirma lo anter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minución de las vibraciones vo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viación de tráquea hacia el lado afec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telectasi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cusión: Matidez no paraból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scultación: Abolición del murmullo pulmon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entualmente respiración sopl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835280" y="19288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electasi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316480" y="1268280"/>
            <a:ext cx="2640240" cy="2770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240000" cy="266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86680" y="4600440"/>
            <a:ext cx="791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lapso pulmonar desplaza hacia sí las estructuras vec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caso de los grandes derrames pleurales, las estructuras intratorác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esplazan a contralat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s hechos son de utilidad diagnóstica en clínica y radi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Neumotóra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6778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spección: Disminución de la excursión respiratoria ipsilat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 haber cierto abombamiento del lado afec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lpación: Confirma lo anter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minución o abolición de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vibraciones voc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71640" y="3198960"/>
            <a:ext cx="3384360" cy="2606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816360" cy="3040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771640" y="476280"/>
            <a:ext cx="2592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motórax espontáne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debido a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ruptura espontánea de bulas subpleu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mbres jóv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olor pleurítico y disnea brus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835280" y="4498920"/>
            <a:ext cx="30225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motórax por trau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comunicación entre el espacio pleural y el exterior permite la entrada inspiratoria de aire al tó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produce colapso del pulmón subya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18525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32320" y="108000"/>
          <a:ext cx="557676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2320" y="108000"/>
                    <a:ext cx="5576760" cy="67057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7080" y="476280"/>
            <a:ext cx="3292560" cy="587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motórax a tensió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gencia v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omiso respiratorio y hemodiná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dro clínico compl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26040" y="3666960"/>
            <a:ext cx="26496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Obstrucción Bronquial Difus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63280" y="1699920"/>
            <a:ext cx="69231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spección: Dificultad respiratoria variable. En grados máximos disnea de reposo e intolerancia al decúbi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mento del diámetro ántero-posterior del tórax (aplanamiento del diafragm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pación: Confirma lo an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cursión respiratoria y vibraciones vocales disminui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Obstrucción bronquial difus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63280" y="1699920"/>
            <a:ext cx="69231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cusión: Suele ser normal, salvo descenso de las bases pulmon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 haber hipersonorid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scultación: Respiración ruido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iración prolong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oncus y Sibila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minución y hasta abolición del murmullo pulmo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sma bronquia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flamación bronquial crónica asociada a hiperrea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manifiesta por obstrucción bronquial difusa episód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crisis suelen tener desencadenantes identific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sma bronquia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2314440" cy="126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4000" y="4235400"/>
            <a:ext cx="2001600" cy="2001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2160720" cy="1265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s, poca expecto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nsación de pecho apre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nea sibil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olución crónica intermit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recuencia e intensidad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recuente realción con alerg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fermedad pulmonar obstructiva cró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OC: efecto del tabaco, con enfisema e inflamación bronqu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caracteriza por la obstrucción bronquial difusa crónica progres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cu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leva a complicaciones: insuficiencia respiratoria, poliglobulia, corazón pulmonar, desnutrición y mue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POC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63640" y="160020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s, expecto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nea de esfuerzo progres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ifestaciones de las com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1233360" cy="1656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236000" y="1844640"/>
            <a:ext cx="1657080" cy="10778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083280" y="357336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662472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La OBD se maneja mejor con broncodilatadores inhalatori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219640" y="2997360"/>
            <a:ext cx="2906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índrome Mediastínico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(Síndrome de Vena Cava Superior)</a:t>
            </a: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677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spección: Edema de la pared "en esclavina” (cara, tórax superior y miembros superiores); circulación colate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lpación: Conservación o disminución de las vibraciones voc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cusión: Resonancia normal o matidez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scultación: Conservación o disminución del murmullo pulmo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240000" cy="2862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1028880" cy="1360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356000" y="1360440"/>
            <a:ext cx="448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ma en esclav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trucción de vena cava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síndrome de vana cava sup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una urgencia oncológica, se debe generalmente a neoplasia maligna (cáncer de pulmón o linfo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332320" y="4005360"/>
            <a:ext cx="2192400" cy="2448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84360" y="5634000"/>
            <a:ext cx="129672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57800" y="257040"/>
            <a:ext cx="3695760" cy="265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054160" cy="30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867280" y="3284640"/>
            <a:ext cx="2729160" cy="2311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771640" y="3068640"/>
            <a:ext cx="22384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Insuficiencia Respiratori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lteración grave de los gases arteriales por incapacidad del aparato respi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suficiencia Respiratoria Parcial: hipox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 p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&lt; 60 mm H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suficiencia Respiratoria Global: lo anterior má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&gt; 50 mm H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Manifestaciones de hipoxemia</a:t>
            </a: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79280" y="1557000"/>
            <a:ext cx="6707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pecto de ebrio agitad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romiso neurológico (desde agitación, confusión, ansiedad, convulsiones, com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romiso cardiocirculatorio (taquicardia, hiper o hipotensión, arritmias, insuficiencia cardiaca, ang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iano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Manifestaciones de hipercapni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pecto de sedació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romiso neurológico (cefalea por edema cerebral, somnolencia, sopor, confusión, convulsiones, asterixis, mioclonías, papiledem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romiso circulatorio (hipotensión, edemas, eritema por vasodilataci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539640" y="1268280"/>
          <a:ext cx="8064720" cy="414828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a: Formas de insuficiencia respirator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ún evolu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uficiencia respirator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uficiencia respirator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ó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ción ráp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 tolerada por el paciente, con desarrollo de hipox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aparecer hipercapnia, produce acidosis respirator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 tiempo suficiente para establecimiento de mecanismos compensadores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arrollo progresivo en meses o años de enferme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do de equilibrio “frágil”, con tolerancia  a costa de una disminución de las reservas funcion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ede haber hipercapnia sin acidemia por compensación metabólic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0"/>
          <a:ext cx="9143640" cy="6856920"/>
        </p:xfrm>
        <a:graphic>
          <a:graphicData uri="http://schemas.openxmlformats.org/drawingml/2006/table">
            <a:tbl>
              <a:tblPr/>
              <a:tblGrid>
                <a:gridCol w="5248440"/>
                <a:gridCol w="3895200"/>
              </a:tblGrid>
              <a:tr h="65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a: Causas de insuficiencia respirat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ó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rés respiratorio del adul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ema pulmonar cardiogén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monia extens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mboembolismo pulmon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lectasia extens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sis asmática seve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rrame pleural mas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agia alveol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motórax exten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esión de centros respiratorios por intoxicaciones o traumatismo encéfalo-cranea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umatismo encéfalo craneano con depresión respirator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ndrome de Guillain Barr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astenia grav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fermedad pulmonar obstructiva crónica avanz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itación crónica del flujo aéreo avanz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osis pulmonar idiopát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foescoliosis marc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ormaciones torác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ndrome apnea obstructiva del sueñ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rofias muscula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lerosis lateral amiotróf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racoplastía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8:32:47Z</dcterms:created>
  <dc:creator>SBozzo</dc:creator>
  <dc:description/>
  <dc:language>en-US</dc:language>
  <cp:lastModifiedBy>Sergio Bozzo</cp:lastModifiedBy>
  <dcterms:modified xsi:type="dcterms:W3CDTF">2007-03-17T17:21:23Z</dcterms:modified>
  <cp:revision>74</cp:revision>
  <dc:subject/>
  <dc:title>CURSO DE  SEMIOLOGÍA MÉDICA</dc:title>
</cp:coreProperties>
</file>