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AE9-B040-43B0-9751-4D88E2A9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EF7-842C-44D8-8617-B2B9C64D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F99-F8CA-4F93-8A5D-4AB9C335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27C-82B5-4185-AC62-6DCD0D82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971-935B-4AE8-A8C4-172BFE92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8B9B-741C-46CE-86C5-C4DB5020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7334-30BF-4033-A2B7-2B89F86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01A-959C-42EB-9228-0FB4903B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3A9E-E699-4FCF-BCE7-A50B05B2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D8D2-B93C-4A7A-968F-DBDEF099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DB49-2E9B-4725-A84B-AD9D486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C73-F5B3-4121-84FF-537CC2B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578F-16B1-4867-9276-DB6B90EC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323F-1B5F-49DD-AA92-F992E9B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FFCC-FACB-47C4-BE38-E4D98094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4868-1FCE-4CF7-9FDB-C97E4F22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8E6D-D5F9-4BED-8AC9-15CD870D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B448-92BE-4084-9341-85E19EB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D81-2AD6-4670-A9A2-28B656B3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015-F0B7-4EE8-BF6C-787EFA14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D0E2-8FD2-402D-89ED-8E52C727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2A2-8879-4483-B2B3-EF0F33A7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4D4-474C-43B3-A4C8-E85120A5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44C-BB25-4662-A429-C9AA962E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F344-03E4-492B-81C1-2F27FF40709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D18F-AC21-4F34-8AC4-6360557F18A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signatu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pidemiología y Salud Púb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844640"/>
            <a:ext cx="6515280" cy="38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74293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916280"/>
            <a:ext cx="12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OBL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nive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3357720"/>
            <a:ext cx="3603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734080"/>
            <a:ext cx="1160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28640"/>
            <a:ext cx="36036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G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9120" y="473040"/>
            <a:ext cx="49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Verdana"/>
              </a:rPr>
              <a:t>Concepto de Salud </a:t>
            </a:r>
            <a:r>
              <a:rPr b="0" i="1" lang="es-ES" sz="2400" spc="-1" strike="noStrike">
                <a:solidFill>
                  <a:srgbClr val="5f5f5f"/>
                </a:solidFill>
                <a:latin typeface="Verdana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66"/>
                </a:solidFill>
                <a:latin typeface="Verdana"/>
              </a:rPr>
              <a:t>(Esquema simplificado de J. Fre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565360"/>
            <a:ext cx="1189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565360"/>
            <a:ext cx="1388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GRUP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565360"/>
            <a:ext cx="10461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141720"/>
            <a:ext cx="1224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41720"/>
            <a:ext cx="11527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iqu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l 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 Cl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068640"/>
            <a:ext cx="151308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teria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del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ut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or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76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3716280"/>
            <a:ext cx="8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4365720"/>
            <a:ext cx="9144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es y 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141720"/>
            <a:ext cx="1297080" cy="17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tructu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fun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Susceptibi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5084640"/>
            <a:ext cx="10983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ÓRB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9337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72428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86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7242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393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6000" y="44370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6165720"/>
            <a:ext cx="417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PROCESO SALUD – ENFERMEDAD - 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(Modelo Explicativo Canadiense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Socioeconóm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greso y posición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es de apoyo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leo y condiciones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ábitos Personale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dad Individual y Aptitudes de Adapt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acterísticas biológ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ros: desarrollo del niño; gén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quidad y Salu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a idealiz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rreras que limitan el acceso a la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tuaciones de inequidad a nivel mund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riables que inciden en la inequidad en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completo estado de biene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ísico, mental y social del individuo,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amilia y la sociedad en su conjunto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y no sólo la ausencia de enfermed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OMS, 194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derecho humano fundamen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imperativo social y económico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Alma Ata, 197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como proyecto social, no como utop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tencial biológico expresado en un amb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relativa, más que absol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complejo y dinámico. Dimens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sonal y való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volu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icultad para definir límites entre salud y enferm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unidad: rol de mayor participación y responsa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cepto dinám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ado de la relación población – medio amb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pacidades de tolerancia, compensación y adapt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Nuevo Enfoqu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afíos aún pendi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jos de “producir salud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icipación de distintos sect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grar situación de bienest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sarrollo Hum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lación estrecha entre salud y desarro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alud ligada  a modos de vi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mponentes interrelacionados en nivel de salud individual y pobl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bjetivo último del desarrollo: crear condiciones para vida prolongada, saludable y creativ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humano: dos dimension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sarrollo de capac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so de esas capacidda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jemplo: IDH (salud; educación; nivel e ingreso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3200" spc="-1" strike="noStrike">
                <a:solidFill>
                  <a:srgbClr val="5f5f5f"/>
                </a:solidFill>
                <a:latin typeface="Trebuchet MS"/>
              </a:rPr>
              <a:t>Concepto Dinámi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ambios in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lob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vergencia entre problemas del desarrollo y sub desarrollo. Desarrollo económico marcado por la desigual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– Subdesarro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obreza – Rique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rbano - Ru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iología y sociedad se revelan y reflejan en la sal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d multicausal de factores biológicos y socia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rganización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ructura 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Nivel de Democra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ecundid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cola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rban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s-ES" sz="3200" spc="-1" strike="noStrike">
                <a:solidFill>
                  <a:srgbClr val="5f5f5f"/>
                </a:solidFill>
                <a:latin typeface="Trebuchet MS"/>
              </a:rPr>
              <a:t>Determinantes </a:t>
            </a:r>
            <a:r>
              <a:rPr b="0" lang="es-ES" sz="2000" spc="-1" strike="noStrike">
                <a:solidFill>
                  <a:srgbClr val="006666"/>
                </a:solidFill>
                <a:latin typeface="Trebuchet MS"/>
              </a:rPr>
              <a:t>(Informe Lalonde, Canadá 1974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30400" y="3716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6440" y="2133720"/>
            <a:ext cx="1927080" cy="7038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19120" y="3789360"/>
            <a:ext cx="189216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80280" y="3789360"/>
            <a:ext cx="215424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1560" y="5300640"/>
            <a:ext cx="232200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068640"/>
            <a:ext cx="2016000" cy="1944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40:01Z</dcterms:created>
  <dc:creator>mele</dc:creator>
  <dc:description/>
  <dc:language>en-US</dc:language>
  <cp:lastModifiedBy>Ministerio</cp:lastModifiedBy>
  <dcterms:modified xsi:type="dcterms:W3CDTF">2011-11-14T14:05:56Z</dcterms:modified>
  <cp:revision>24</cp:revision>
  <dc:subject/>
  <dc:title>Concepto de Salud</dc:title>
</cp:coreProperties>
</file>