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F9A6-9096-41F8-958B-B2F695D8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36F-5048-42A0-A54F-4EC125E9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5F8-F6D0-4637-B0E2-4BB627AA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6F0-A72F-4AE4-B3A6-8A6C7752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4457-1F63-49EF-A697-D97740E6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194E-0F00-4095-9D89-20D0EE39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BB65-DD31-433B-B625-0EC81478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683A-5314-41E9-93A5-46B4FE2E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6332-9CE0-4E50-91BE-A3B6CA10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4030-D6C3-4012-8953-1AAA83A6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B84F-7090-4A08-BB46-8825CAB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832-FB15-426D-9CAB-1F3C15A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1EB4-3492-4053-9755-998ABD76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3C31-10A6-4B4D-8918-C459DDFA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606E-E1BE-4226-ACB0-DD100E4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5843-7573-4827-9475-8D9A18A2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DF74-87D3-47FD-915E-72DD1CB1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A36-D1DB-4BC2-AA03-CA0DF593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BE95-6D06-41D0-A4C3-40485CD8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5FE-1BA5-4CF4-9DAC-9751DD7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2CD-37CA-421E-95BE-5275B5E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B7D-27C2-4FE3-B90B-9BA6793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07A-5B59-41AE-80BE-3B8F2AC6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378-3015-4EFA-B474-A9FF697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4B86-1510-4F82-8714-D2CFE771F2E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5601-F38F-41B2-9D4B-35495B47077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signatu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pidemiología y Salud Públic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03280" y="1844640"/>
            <a:ext cx="6515280" cy="38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2421000"/>
            <a:ext cx="74293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1916280"/>
            <a:ext cx="12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OBL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nive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956720" y="3357720"/>
            <a:ext cx="360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GEN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734080"/>
            <a:ext cx="1160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628640"/>
            <a:ext cx="36036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ORGA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Z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69120" y="473040"/>
            <a:ext cx="492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Verdana"/>
              </a:rPr>
              <a:t>Concepto de Salud </a:t>
            </a:r>
            <a:r>
              <a:rPr b="0" i="1" lang="es-ES" sz="2400" spc="-1" strike="noStrike">
                <a:solidFill>
                  <a:srgbClr val="5f5f5f"/>
                </a:solidFill>
                <a:latin typeface="Verdana"/>
              </a:rPr>
              <a:t>Determin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66"/>
                </a:solidFill>
                <a:latin typeface="Verdana"/>
              </a:rPr>
              <a:t>(Esquema simplificado de J. Fre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565360"/>
            <a:ext cx="11890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565360"/>
            <a:ext cx="138888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GRUPO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2565360"/>
            <a:ext cx="104616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INDIVI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3141720"/>
            <a:ext cx="122400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d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i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stitu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3141720"/>
            <a:ext cx="115272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ique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istrib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l 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str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y Cl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3068640"/>
            <a:ext cx="1513080" cy="27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teria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l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Vivi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ndi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del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ut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ort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27280" y="4076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3716280"/>
            <a:ext cx="863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95640" y="4365720"/>
            <a:ext cx="9144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Sociales y 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59640" y="3141720"/>
            <a:ext cx="1297080" cy="17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Estructu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y fun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corpo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Susceptibil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individ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5084640"/>
            <a:ext cx="109836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AG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MÓRBI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0000" y="39337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472428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9280" y="38606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72428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3933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6000" y="443700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6165720"/>
            <a:ext cx="4176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rebuchet MS"/>
              </a:rPr>
              <a:t>PROCESO SALUD – ENFERMEDAD - M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br>
              <a:rPr sz="2800"/>
            </a:br>
            <a:r>
              <a:rPr b="0" lang="en-US" sz="2400" spc="-1" strike="noStrike">
                <a:solidFill>
                  <a:srgbClr val="006666"/>
                </a:solidFill>
                <a:latin typeface="Trebuchet MS"/>
              </a:rPr>
              <a:t>(Modelo Explicativo Canadiense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Socioeconóm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greso y posición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es de apoyo so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du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mpleo y condiciones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torno Fís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ábitos Personale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acidad Individual y Aptitudes de Adapt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racterísticas biológ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tros: desarrollo del niño; gén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quidad y Salud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eta idealiz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arreras que limitan el acceso a la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tuaciones de inequidad a nivel mundi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riables que inciden en la inequidad en sal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66"/>
                </a:solidFill>
                <a:latin typeface="Trebuchet MS"/>
              </a:rPr>
              <a:t>Concepto de Salud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El completo estado de bienest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ísico, mental y social del individuo,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familia y la sociedad en su conjunto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rebuchet MS"/>
              </a:rPr>
              <a:t>y no sólo la ausencia de enfermed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OMS, 1948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derecho humano fundament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rebuchet MS"/>
              </a:rPr>
              <a:t>imperativo social y económico</a:t>
            </a: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(Alma Ata, 197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como proyecto social, no como utop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tencial biológico expresado en un amb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lud relativa, más que absolu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junto complejo y dinámico. Dimension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lóg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rsonal y való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Evoluc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icultad para definir límites entre salud y enferme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unidad: rol de mayor participación y responsa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cepto dinám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sultado de la relación población – medio ambi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pacidades de tolerancia, compensación y adapt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Nuevo Enfoqu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safíos aún pendi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ejos de “producir salud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rticipación de distintos secto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ograr situación de bienest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sarrollo Human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Relación estrecha entre salud y desarroll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Salud ligada  a modos de vid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Componentes interrelacionados en nivel de salud individual y pobl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Objetivo último del desarrollo: crear condiciones para vida prolongada, saludable y creativ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humano: dos dimension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Desarrollo de capacida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Uso de esas capacidda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Ejemplo: IDH (salud; educación; nivel e ingreso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3200" spc="-1" strike="noStrike">
                <a:solidFill>
                  <a:srgbClr val="5f5f5f"/>
                </a:solidFill>
                <a:latin typeface="Trebuchet MS"/>
              </a:rPr>
              <a:t>Concepto Dinámi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ambios inten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Glob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onvergencia entre problemas del desarrollo y sub desarrollo. Desarrollo económico marcado por la desigual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Desarrollo – Subdesarrol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Pobreza – Rique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rebuchet MS"/>
              </a:rPr>
              <a:t>Urbano - Rur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iología y sociedad se revelan y reflejan en la sal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n-US" sz="2800" spc="-1" strike="noStrike">
                <a:solidFill>
                  <a:srgbClr val="5f5f5f"/>
                </a:solidFill>
                <a:latin typeface="Trebuchet MS"/>
              </a:rPr>
              <a:t>Determinant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d multicausal de factores biológicos y soci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rganización 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ructura económ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Nivel de Democra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Fecundida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cola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Urbaniz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66"/>
                </a:solidFill>
                <a:latin typeface="Trebuchet MS"/>
              </a:rPr>
              <a:t>Concepto de Salud </a:t>
            </a:r>
            <a:r>
              <a:rPr b="0" i="1" lang="es-ES" sz="3200" spc="-1" strike="noStrike">
                <a:solidFill>
                  <a:srgbClr val="5f5f5f"/>
                </a:solidFill>
                <a:latin typeface="Trebuchet MS"/>
              </a:rPr>
              <a:t>Determinantes </a:t>
            </a:r>
            <a:r>
              <a:rPr b="0" lang="es-ES" sz="2000" spc="-1" strike="noStrike">
                <a:solidFill>
                  <a:srgbClr val="006666"/>
                </a:solidFill>
                <a:latin typeface="Trebuchet MS"/>
              </a:rPr>
              <a:t>(Informe Lalonde, Canadá 1974)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30400" y="3716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tu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6440" y="2133720"/>
            <a:ext cx="1927080" cy="70380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19120" y="3789360"/>
            <a:ext cx="189216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stilos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80280" y="3789360"/>
            <a:ext cx="215424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01560" y="5300640"/>
            <a:ext cx="2322000" cy="39888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3068640"/>
            <a:ext cx="2016000" cy="194472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0560" y="6429240"/>
            <a:ext cx="105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MER/ETO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40:01Z</dcterms:created>
  <dc:creator>mele</dc:creator>
  <dc:description/>
  <dc:language>en-US</dc:language>
  <cp:lastModifiedBy>Ministerio</cp:lastModifiedBy>
  <dcterms:modified xsi:type="dcterms:W3CDTF">2011-11-14T14:05:56Z</dcterms:modified>
  <cp:revision>24</cp:revision>
  <dc:subject/>
  <dc:title>Concepto de Salud</dc:title>
</cp:coreProperties>
</file>