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68E-0718-4E93-A6CE-9A5D9B34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DB1-C8DB-4420-BA75-2EB8F2B4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AA7-7820-4AE6-968F-4DAC8462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A7C-83E1-4BCD-ACCE-AA34B37D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1D23-CC75-4559-9894-40E5A2A7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D7B8-94D1-4B59-84D6-B4971FD5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31E4-2A1C-4222-A3F9-A9E56B4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9A2F-4175-4060-9852-B1361870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E284-5053-4508-9BD3-95E30A9D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6601-AD22-480A-A122-1D93F2E0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7B9F-1BF7-4F06-ACA0-15D87A9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27E-9417-4BB7-BA31-1549C11A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09B8-FFCB-4918-85BA-A92FD93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C5F-9025-451E-85C8-8176DED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94B6-F652-4AA8-9B9B-223D5594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CF3B-4A95-4C56-98CF-4E41DBE6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DD77-2814-4D4C-A71A-5ECFCF46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9A3-0C4D-4F61-B8B0-F37096C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851-ADC9-48FE-9C8C-FA58BCB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879-7266-42CD-A9E3-5BC13A2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E8E-61DE-4587-A80F-748A4646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D44-2ADA-4025-8688-608C0BA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E4D-CE40-4154-B8AC-6B00FA1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766-2739-4CA1-94C4-F32A541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4F80-2732-4E89-B569-B53295FCC98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705-28EA-41D1-B8CE-D1F3FC91E40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signatu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pidemiología y Salud Púb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844640"/>
            <a:ext cx="6515280" cy="38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74293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916280"/>
            <a:ext cx="12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OBL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nive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3357720"/>
            <a:ext cx="3603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734080"/>
            <a:ext cx="1160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28640"/>
            <a:ext cx="36036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G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9120" y="473040"/>
            <a:ext cx="49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Verdana"/>
              </a:rPr>
              <a:t>Concepto de Salud </a:t>
            </a:r>
            <a:r>
              <a:rPr b="0" i="1" lang="es-ES" sz="2400" spc="-1" strike="noStrike">
                <a:solidFill>
                  <a:srgbClr val="5f5f5f"/>
                </a:solidFill>
                <a:latin typeface="Verdana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66"/>
                </a:solidFill>
                <a:latin typeface="Verdana"/>
              </a:rPr>
              <a:t>(Esquema simplificado de J. Fre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565360"/>
            <a:ext cx="1189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565360"/>
            <a:ext cx="1388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GRUP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565360"/>
            <a:ext cx="10461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141720"/>
            <a:ext cx="1224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41720"/>
            <a:ext cx="11527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iqu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l 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 Cl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068640"/>
            <a:ext cx="151308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teria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del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ut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or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76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3716280"/>
            <a:ext cx="8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4365720"/>
            <a:ext cx="9144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es y 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141720"/>
            <a:ext cx="1297080" cy="17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tructu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fun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Susceptibi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5084640"/>
            <a:ext cx="10983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ÓRB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9337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72428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86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7242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393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6000" y="44370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6165720"/>
            <a:ext cx="417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PROCESO SALUD – ENFERMEDAD - 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(Modelo Explicativo Canadiense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Socioeconóm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greso y posición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es de apoyo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leo y condiciones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ábitos Personale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dad Individual y Aptitudes de Adapt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acterísticas biológ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ros: desarrollo del niño; gén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quidad y Salu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a idealiz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rreras que limitan el acceso a la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tuaciones de inequidad a nivel mund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riables que inciden en la inequidad en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completo estado de biene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ísico, mental y social del individuo,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amilia y la sociedad en su conjunto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y no sólo la ausencia de enfermed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OMS, 194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derecho humano fundamen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imperativo social y económico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Alma Ata, 197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como proyecto social, no como utop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tencial biológico expresado en un amb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relativa, más que absol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complejo y dinámico. Dimens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sonal y való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volu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icultad para definir límites entre salud y enferm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unidad: rol de mayor participación y responsa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cepto dinám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ado de la relación población – medio amb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pacidades de tolerancia, compensación y adapt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Nuevo Enfoqu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afíos aún pendi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jos de “producir salud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icipación de distintos sect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grar situación de bienest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sarrollo Hum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lación estrecha entre salud y desarro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alud ligada  a modos de vi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mponentes interrelacionados en nivel de salud individual y pobl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bjetivo último del desarrollo: crear condiciones para vida prolongada, saludable y creativ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humano: dos dimension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sarrollo de capac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so de esas capacidda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jemplo: IDH (salud; educación; nivel e ingreso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3200" spc="-1" strike="noStrike">
                <a:solidFill>
                  <a:srgbClr val="5f5f5f"/>
                </a:solidFill>
                <a:latin typeface="Trebuchet MS"/>
              </a:rPr>
              <a:t>Concepto Dinámi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ambios in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lob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vergencia entre problemas del desarrollo y sub desarrollo. Desarrollo económico marcado por la desigual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– Subdesarro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obreza – Rique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rbano - Ru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iología y sociedad se revelan y reflejan en la sal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d multicausal de factores biológicos y socia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rganización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ructura 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Nivel de Democra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ecundid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cola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rban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s-ES" sz="3200" spc="-1" strike="noStrike">
                <a:solidFill>
                  <a:srgbClr val="5f5f5f"/>
                </a:solidFill>
                <a:latin typeface="Trebuchet MS"/>
              </a:rPr>
              <a:t>Determinantes </a:t>
            </a:r>
            <a:r>
              <a:rPr b="0" lang="es-ES" sz="2000" spc="-1" strike="noStrike">
                <a:solidFill>
                  <a:srgbClr val="006666"/>
                </a:solidFill>
                <a:latin typeface="Trebuchet MS"/>
              </a:rPr>
              <a:t>(Informe Lalonde, Canadá 1974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30400" y="3716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6440" y="2133720"/>
            <a:ext cx="1927080" cy="7038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19120" y="3789360"/>
            <a:ext cx="189216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80280" y="3789360"/>
            <a:ext cx="215424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1560" y="5300640"/>
            <a:ext cx="232200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068640"/>
            <a:ext cx="2016000" cy="1944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40:01Z</dcterms:created>
  <dc:creator>mele</dc:creator>
  <dc:description/>
  <dc:language>en-US</dc:language>
  <cp:lastModifiedBy>Ministerio</cp:lastModifiedBy>
  <dcterms:modified xsi:type="dcterms:W3CDTF">2011-11-14T14:05:56Z</dcterms:modified>
  <cp:revision>24</cp:revision>
  <dc:subject/>
  <dc:title>Concepto de Salud</dc:title>
</cp:coreProperties>
</file>