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22B-F79E-4382-B7AB-AC7339BB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EF6-D9A0-494D-AE8A-DCEEA6E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BF9-2CDD-4006-9E85-0CDE1DD4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A34-97DA-42AA-929E-18F98062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8413-265F-4659-83FD-852D68A3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7139-688F-465A-A31D-1C3802D1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2426-2F1C-44FF-A435-9C27DD7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D35E-DD8B-44B8-B3B0-78180BB3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C470-CF86-47DD-9FE6-BDC2543B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BF01-248E-4F97-9D2D-BDDA78C3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16FA-49BA-4DE8-9551-AD04C77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661-C26D-4060-8712-FA33704C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F3A0-FE5D-427B-9F76-0FF4871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F54C-4483-45C6-8D42-91BCAA9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4C1A-86AF-4E22-A9C9-9402EF60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3CB5-D643-4DA7-BE57-5468722E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586D-F608-43E7-AD49-AD3B0551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AD9-D15F-4D0C-8553-3154970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6CF-A420-42A1-A4DF-C2978B9D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B51-9A13-422D-AACD-AB913302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573-2222-4708-B848-0C3A80F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9B6-5C98-41F0-BD72-98C7D1B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55B-FA55-4D32-9CCC-529F1CB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DA8-60C2-4323-8A34-12DE197D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0F4E-8AB8-4B3A-AD77-55B908DE9A5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4BE9-20CE-42F8-AD9F-3388DEA567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signatu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pidemiología y Salud Púb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6515280" cy="38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7429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916280"/>
            <a:ext cx="12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OBL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niv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3357720"/>
            <a:ext cx="360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734080"/>
            <a:ext cx="1160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28640"/>
            <a:ext cx="36036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G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9120" y="473040"/>
            <a:ext cx="49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Verdana"/>
              </a:rPr>
              <a:t>Concepto de Salud </a:t>
            </a:r>
            <a:r>
              <a:rPr b="0" i="1" lang="es-ES" sz="2400" spc="-1" strike="noStrike">
                <a:solidFill>
                  <a:srgbClr val="5f5f5f"/>
                </a:solidFill>
                <a:latin typeface="Verdana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66"/>
                </a:solidFill>
                <a:latin typeface="Verdana"/>
              </a:rPr>
              <a:t>(Esquema simplificado de J. Fre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565360"/>
            <a:ext cx="1189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565360"/>
            <a:ext cx="1388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GRUP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565360"/>
            <a:ext cx="10461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1224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1527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iqu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 Cl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068640"/>
            <a:ext cx="151308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del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ut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or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76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3716280"/>
            <a:ext cx="8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4365720"/>
            <a:ext cx="9144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es y 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41720"/>
            <a:ext cx="1297080" cy="17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tructu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fun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Susceptibi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084640"/>
            <a:ext cx="10983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ÓRB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9337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72428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7242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393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6000" y="44370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6165720"/>
            <a:ext cx="41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PROCESO SALUD – ENFERMEDAD - 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(Modelo Explicativo Canadiense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Socio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greso y posición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es de apoy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leo y condiciones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ábitos Personale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dad Individual y Aptitudes de Adapt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acterísticas biológ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ros: desarrollo del niño; gén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quidad y Salu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 idealiz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rreras que limitan el acceso a la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tuaciones de inequidad a nivel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bles que inciden en la inequidad en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completo estado de biene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ísico, mental y social del individuo,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amilia y la sociedad en su conjunto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y no sólo la ausencia de enfermed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OMS, 194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derecho humano fundamen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imperativo social y económico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Alma Ata, 19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como proyecto social, no como utop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cial biológico expresado en un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relativa, más que absol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complejo y dinámico. Dimens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sonal y való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volu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icultad para definir límites entre salud y enferm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unidad: rol de mayor participación y responsa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cepto dinám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ado de la relación población – medi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pacidades de tolerancia, compensación y adapt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Nuevo Enfoqu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afíos aún pendi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jos de “producir salud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icipación de distintos sect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grar situación de bienes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sarrollo Hum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lación estrecha entre salud y desarro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alud ligada  a modos de v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mponentes interrelacionados en nivel de salud individual y pobl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bjetivo último del desarrollo: crear condiciones para vida prolongada, saludable y creativ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humano: dos dimension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sarrollo de capac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so de esas capacidda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jemplo: IDH (salud; educación; nivel e ingreso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3200" spc="-1" strike="noStrike">
                <a:solidFill>
                  <a:srgbClr val="5f5f5f"/>
                </a:solidFill>
                <a:latin typeface="Trebuchet MS"/>
              </a:rPr>
              <a:t>Concepto Dinám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ambios in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lob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vergencia entre problemas del desarrollo y sub desarrollo. Desarrollo económico marcado por la desigual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– Subdesarro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obreza – Rique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rbano - Ru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iología y sociedad se revelan y reflejan en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d multicausal de factores biológicos y soci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rganizaci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ructura 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Nivel de Democr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ecundid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rban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s-ES" sz="3200" spc="-1" strike="noStrike">
                <a:solidFill>
                  <a:srgbClr val="5f5f5f"/>
                </a:solidFill>
                <a:latin typeface="Trebuchet MS"/>
              </a:rPr>
              <a:t>Determinantes </a:t>
            </a:r>
            <a:r>
              <a:rPr b="0" lang="es-ES" sz="2000" spc="-1" strike="noStrike">
                <a:solidFill>
                  <a:srgbClr val="006666"/>
                </a:solidFill>
                <a:latin typeface="Trebuchet MS"/>
              </a:rPr>
              <a:t>(Informe Lalonde, Canadá 1974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0400" y="3716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6440" y="2133720"/>
            <a:ext cx="1927080" cy="7038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19120" y="3789360"/>
            <a:ext cx="189216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0280" y="3789360"/>
            <a:ext cx="215424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1560" y="5300640"/>
            <a:ext cx="232200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068640"/>
            <a:ext cx="2016000" cy="1944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40:01Z</dcterms:created>
  <dc:creator>mele</dc:creator>
  <dc:description/>
  <dc:language>en-US</dc:language>
  <cp:lastModifiedBy>Ministerio</cp:lastModifiedBy>
  <dcterms:modified xsi:type="dcterms:W3CDTF">2011-11-14T14:05:56Z</dcterms:modified>
  <cp:revision>24</cp:revision>
  <dc:subject/>
  <dc:title>Concepto de Salud</dc:title>
</cp:coreProperties>
</file>