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3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72.png" ContentType="image/png"/>
  <Override PartName="/ppt/media/image23.png" ContentType="image/png"/>
  <Override PartName="/ppt/media/image60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32.png" ContentType="image/png"/>
  <Override PartName="/ppt/media/image2.png" ContentType="image/png"/>
  <Override PartName="/ppt/media/image33.png" ContentType="image/png"/>
  <Override PartName="/ppt/media/image15.png" ContentType="image/png"/>
  <Override PartName="/ppt/media/image3.png" ContentType="image/png"/>
  <Override PartName="/ppt/media/image70.png" ContentType="image/png"/>
  <Override PartName="/ppt/media/image28.png" ContentType="image/png"/>
  <Override PartName="/ppt/media/image68.png" ContentType="image/png"/>
  <Override PartName="/ppt/media/image31.png" ContentType="image/png"/>
  <Override PartName="/ppt/media/image67.png" ContentType="image/png"/>
  <Override PartName="/ppt/media/image30.png" ContentType="image/png"/>
  <Override PartName="/ppt/media/image66.png" ContentType="image/png"/>
  <Override PartName="/ppt/media/image65.png" ContentType="image/png"/>
  <Override PartName="/ppt/media/image64.png" ContentType="image/png"/>
  <Override PartName="/ppt/media/image26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24.png" ContentType="image/png"/>
  <Override PartName="/ppt/media/image61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14.jpeg" ContentType="image/jpeg"/>
  <Override PartName="/ppt/media/image54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39928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1280" cy="37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0720" cy="38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0720" cy="38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0720" cy="38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0720" cy="38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0720" cy="38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0720" cy="38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0720" cy="38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0720" cy="38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0720" cy="38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0720" cy="38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0720" cy="38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0720" cy="38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0720" cy="38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0720" cy="38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0720" cy="38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0720" cy="38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0720" cy="38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0720" cy="38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0720" cy="38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0720" cy="38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0720" cy="38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body"/>
          </p:nvPr>
        </p:nvSpPr>
        <p:spPr>
          <a:xfrm>
            <a:off x="1185480" y="4787640"/>
            <a:ext cx="534348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body"/>
          </p:nvPr>
        </p:nvSpPr>
        <p:spPr>
          <a:xfrm>
            <a:off x="1185480" y="4787640"/>
            <a:ext cx="534348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body"/>
          </p:nvPr>
        </p:nvSpPr>
        <p:spPr>
          <a:xfrm>
            <a:off x="1185480" y="4787640"/>
            <a:ext cx="534348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body"/>
          </p:nvPr>
        </p:nvSpPr>
        <p:spPr>
          <a:xfrm>
            <a:off x="1185480" y="4787640"/>
            <a:ext cx="534348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body"/>
          </p:nvPr>
        </p:nvSpPr>
        <p:spPr>
          <a:xfrm>
            <a:off x="1185480" y="4787640"/>
            <a:ext cx="534348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body"/>
          </p:nvPr>
        </p:nvSpPr>
        <p:spPr>
          <a:xfrm>
            <a:off x="1185480" y="4787640"/>
            <a:ext cx="534348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body"/>
          </p:nvPr>
        </p:nvSpPr>
        <p:spPr>
          <a:xfrm>
            <a:off x="1185480" y="4787640"/>
            <a:ext cx="534348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body"/>
          </p:nvPr>
        </p:nvSpPr>
        <p:spPr>
          <a:xfrm>
            <a:off x="1185480" y="4787640"/>
            <a:ext cx="534348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body"/>
          </p:nvPr>
        </p:nvSpPr>
        <p:spPr>
          <a:xfrm>
            <a:off x="1185480" y="4787640"/>
            <a:ext cx="534348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body"/>
          </p:nvPr>
        </p:nvSpPr>
        <p:spPr>
          <a:xfrm>
            <a:off x="1185480" y="4787640"/>
            <a:ext cx="534348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body"/>
          </p:nvPr>
        </p:nvSpPr>
        <p:spPr>
          <a:xfrm>
            <a:off x="1185480" y="4787640"/>
            <a:ext cx="534348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body"/>
          </p:nvPr>
        </p:nvSpPr>
        <p:spPr>
          <a:xfrm>
            <a:off x="1185480" y="4787640"/>
            <a:ext cx="534348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body"/>
          </p:nvPr>
        </p:nvSpPr>
        <p:spPr>
          <a:xfrm>
            <a:off x="1185480" y="4787640"/>
            <a:ext cx="534348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body"/>
          </p:nvPr>
        </p:nvSpPr>
        <p:spPr>
          <a:xfrm>
            <a:off x="1185480" y="4787640"/>
            <a:ext cx="534348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body"/>
          </p:nvPr>
        </p:nvSpPr>
        <p:spPr>
          <a:xfrm>
            <a:off x="1185480" y="4787640"/>
            <a:ext cx="534348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59788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59788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39440" y="4586400"/>
            <a:ext cx="859788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59788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419544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5120" y="2101680"/>
            <a:ext cx="419544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39440" y="4586400"/>
            <a:ext cx="419544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45120" y="4586400"/>
            <a:ext cx="419544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59788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276840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46800" y="2101680"/>
            <a:ext cx="276840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53800" y="2101680"/>
            <a:ext cx="276840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39440" y="4586400"/>
            <a:ext cx="276840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46800" y="4586400"/>
            <a:ext cx="276840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53800" y="4586400"/>
            <a:ext cx="276840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59788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597880" cy="47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0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59788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597880" cy="47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59788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4195440" cy="47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45120" y="2101680"/>
            <a:ext cx="4195440" cy="47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59788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59788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10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59788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419544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45120" y="2101680"/>
            <a:ext cx="4195440" cy="47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39440" y="4586400"/>
            <a:ext cx="419544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59788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4195440" cy="47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5120" y="2101680"/>
            <a:ext cx="419544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45120" y="4586400"/>
            <a:ext cx="419544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59788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419544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5120" y="2101680"/>
            <a:ext cx="419544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39440" y="4586400"/>
            <a:ext cx="859788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59788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440" y="2101680"/>
            <a:ext cx="8597880" cy="47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0">
              <a:lnSpc>
                <a:spcPct val="109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lnSpc>
                <a:spcPct val="109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lnSpc>
                <a:spcPct val="109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lnSpc>
                <a:spcPct val="109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lnSpc>
                <a:spcPct val="109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lnSpc>
                <a:spcPct val="109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lnSpc>
                <a:spcPct val="109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2.png"/><Relationship Id="rId3" Type="http://schemas.openxmlformats.org/officeDocument/2006/relationships/image" Target="../media/image21.png"/><Relationship Id="rId4" Type="http://schemas.openxmlformats.org/officeDocument/2006/relationships/image" Target="../media/image19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image" Target="../media/image5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image" Target="../media/image5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3.png"/><Relationship Id="rId3" Type="http://schemas.openxmlformats.org/officeDocument/2006/relationships/image" Target="../media/image54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4.png"/><Relationship Id="rId3" Type="http://schemas.openxmlformats.org/officeDocument/2006/relationships/image" Target="../media/image55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7.png"/><Relationship Id="rId3" Type="http://schemas.openxmlformats.org/officeDocument/2006/relationships/image" Target="../media/image58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8.png"/><Relationship Id="rId3" Type="http://schemas.openxmlformats.org/officeDocument/2006/relationships/image" Target="../media/image59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6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2.png"/><Relationship Id="rId3" Type="http://schemas.openxmlformats.org/officeDocument/2006/relationships/image" Target="../media/image63.png"/><Relationship Id="rId4" Type="http://schemas.openxmlformats.org/officeDocument/2006/relationships/image" Target="../media/image6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66.png"/><Relationship Id="rId3" Type="http://schemas.openxmlformats.org/officeDocument/2006/relationships/image" Target="../media/image67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68.png"/><Relationship Id="rId3" Type="http://schemas.openxmlformats.org/officeDocument/2006/relationships/image" Target="../media/image69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69.png"/><Relationship Id="rId3" Type="http://schemas.openxmlformats.org/officeDocument/2006/relationships/image" Target="../media/image70.png"/><Relationship Id="rId4" Type="http://schemas.openxmlformats.org/officeDocument/2006/relationships/image" Target="../media/image71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71.png"/><Relationship Id="rId3" Type="http://schemas.openxmlformats.org/officeDocument/2006/relationships/image" Target="../media/image7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4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371600" y="228600"/>
            <a:ext cx="6858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densadores y Dieléctricos (no conductor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14400" y="1600200"/>
            <a:ext cx="8661240" cy="32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pacitores o Condensadores, dispositivos que almacenan 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léctr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n condensador se compone de dos elementos conductores, separados por un dieléctrico (no conductor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a capacidad de un dispositivo dado, depende tanto de su geometrí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o del material dieléctrico que separa a los conduct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398160"/>
            <a:ext cx="748980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mbinación de Condensad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600" y="1181160"/>
            <a:ext cx="5029200" cy="544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01760" indent="-2970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01760"/>
                <a:tab algn="l" pos="514440"/>
                <a:tab algn="l" pos="971640"/>
                <a:tab algn="l" pos="1428840"/>
                <a:tab algn="l" pos="1886040"/>
                <a:tab algn="l" pos="2343240"/>
                <a:tab algn="l" pos="2800440"/>
                <a:tab algn="l" pos="3257640"/>
                <a:tab algn="l" pos="3714840"/>
                <a:tab algn="l" pos="4172040"/>
                <a:tab algn="l" pos="4629240"/>
                <a:tab algn="l" pos="5086440"/>
                <a:tab algn="l" pos="5543640"/>
                <a:tab algn="l" pos="6000840"/>
                <a:tab algn="l" pos="6458040"/>
                <a:tab algn="l" pos="6915240"/>
                <a:tab algn="l" pos="7372440"/>
                <a:tab algn="l" pos="7829640"/>
                <a:tab algn="l" pos="8286840"/>
                <a:tab algn="l" pos="8744040"/>
                <a:tab algn="l" pos="920124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Cuando 2 o más condensadores se conectan en un circuito eléctrico, existen métodos para calcular el valor del Condensador “equivalente”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-297000">
              <a:lnSpc>
                <a:spcPct val="12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01760"/>
                <a:tab algn="l" pos="514440"/>
                <a:tab algn="l" pos="971640"/>
                <a:tab algn="l" pos="1428840"/>
                <a:tab algn="l" pos="1886040"/>
                <a:tab algn="l" pos="2343240"/>
                <a:tab algn="l" pos="2800440"/>
                <a:tab algn="l" pos="3257640"/>
                <a:tab algn="l" pos="3714840"/>
                <a:tab algn="l" pos="4172040"/>
                <a:tab algn="l" pos="4629240"/>
                <a:tab algn="l" pos="5086440"/>
                <a:tab algn="l" pos="5543640"/>
                <a:tab algn="l" pos="6000840"/>
                <a:tab algn="l" pos="6458040"/>
                <a:tab algn="l" pos="6915240"/>
                <a:tab algn="l" pos="7372440"/>
                <a:tab algn="l" pos="7829640"/>
                <a:tab algn="l" pos="8286840"/>
                <a:tab algn="l" pos="8744040"/>
                <a:tab algn="l" pos="920124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El símbolo usado en los diagramas, refleja la geometría del condensador más común, el de placas paralela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486400" y="1143000"/>
            <a:ext cx="434340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05704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ndensadores en Parale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10680" y="5714640"/>
            <a:ext cx="9518760" cy="169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01760" indent="-2970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01760"/>
                <a:tab algn="l" pos="514440"/>
                <a:tab algn="l" pos="971640"/>
                <a:tab algn="l" pos="1428840"/>
                <a:tab algn="l" pos="1886040"/>
                <a:tab algn="l" pos="2343240"/>
                <a:tab algn="l" pos="2800440"/>
                <a:tab algn="l" pos="3257640"/>
                <a:tab algn="l" pos="3714840"/>
                <a:tab algn="l" pos="4172040"/>
                <a:tab algn="l" pos="4629240"/>
                <a:tab algn="l" pos="5086440"/>
                <a:tab algn="l" pos="5543640"/>
                <a:tab algn="l" pos="6000840"/>
                <a:tab algn="l" pos="6458040"/>
                <a:tab algn="l" pos="6915240"/>
                <a:tab algn="l" pos="7372440"/>
                <a:tab algn="l" pos="7829640"/>
                <a:tab algn="l" pos="8286840"/>
                <a:tab algn="l" pos="8744040"/>
                <a:tab algn="l" pos="920124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) Condensadores C</a:t>
            </a:r>
            <a:r>
              <a:rPr b="0" lang="en-GB" sz="2400" spc="-1" strike="noStrike" baseline="-33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y C</a:t>
            </a:r>
            <a:r>
              <a:rPr b="0" lang="en-GB" sz="2400" spc="-1" strike="noStrike" baseline="-33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conectados a una batería con </a:t>
            </a:r>
            <a:r>
              <a:rPr b="0" lang="en-GB" sz="2400" spc="-1" strike="noStrike">
                <a:solidFill>
                  <a:srgbClr val="000000"/>
                </a:solidFill>
                <a:latin typeface="DejaVu Sans"/>
              </a:rPr>
              <a:t>Δ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V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-297000">
              <a:lnSpc>
                <a:spcPct val="12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01760"/>
                <a:tab algn="l" pos="514440"/>
                <a:tab algn="l" pos="971640"/>
                <a:tab algn="l" pos="1428840"/>
                <a:tab algn="l" pos="1886040"/>
                <a:tab algn="l" pos="2343240"/>
                <a:tab algn="l" pos="2800440"/>
                <a:tab algn="l" pos="3257640"/>
                <a:tab algn="l" pos="3714840"/>
                <a:tab algn="l" pos="4172040"/>
                <a:tab algn="l" pos="4629240"/>
                <a:tab algn="l" pos="5086440"/>
                <a:tab algn="l" pos="5543640"/>
                <a:tab algn="l" pos="6000840"/>
                <a:tab algn="l" pos="6458040"/>
                <a:tab algn="l" pos="6915240"/>
                <a:tab algn="l" pos="7372440"/>
                <a:tab algn="l" pos="7829640"/>
                <a:tab algn="l" pos="8286840"/>
                <a:tab algn="l" pos="8744040"/>
                <a:tab algn="l" pos="920124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) Diagrama del mismo circui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-297000">
              <a:lnSpc>
                <a:spcPct val="12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01760"/>
                <a:tab algn="l" pos="514440"/>
                <a:tab algn="l" pos="971640"/>
                <a:tab algn="l" pos="1428840"/>
                <a:tab algn="l" pos="1886040"/>
                <a:tab algn="l" pos="2343240"/>
                <a:tab algn="l" pos="2800440"/>
                <a:tab algn="l" pos="3257640"/>
                <a:tab algn="l" pos="3714840"/>
                <a:tab algn="l" pos="4172040"/>
                <a:tab algn="l" pos="4629240"/>
                <a:tab algn="l" pos="5086440"/>
                <a:tab algn="l" pos="5543640"/>
                <a:tab algn="l" pos="6000840"/>
                <a:tab algn="l" pos="6458040"/>
                <a:tab algn="l" pos="6915240"/>
                <a:tab algn="l" pos="7372440"/>
                <a:tab algn="l" pos="7829640"/>
                <a:tab algn="l" pos="8286840"/>
                <a:tab algn="l" pos="8744040"/>
                <a:tab algn="l" pos="920124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) Diagrama de circuito “equivalente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28600" y="685800"/>
            <a:ext cx="9601200" cy="50292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715000" y="6400800"/>
            <a:ext cx="4114800" cy="91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ndensadores en paralelo, Dem. que C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Times New Roman"/>
              </a:rPr>
              <a:t>eq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=C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+C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240" y="952560"/>
            <a:ext cx="4800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01760" indent="-2970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01760"/>
                <a:tab algn="l" pos="514440"/>
                <a:tab algn="l" pos="971640"/>
                <a:tab algn="l" pos="1428840"/>
                <a:tab algn="l" pos="1886040"/>
                <a:tab algn="l" pos="2343240"/>
                <a:tab algn="l" pos="2800440"/>
                <a:tab algn="l" pos="3257640"/>
                <a:tab algn="l" pos="3714840"/>
                <a:tab algn="l" pos="4172040"/>
                <a:tab algn="l" pos="4629240"/>
                <a:tab algn="l" pos="5086440"/>
                <a:tab algn="l" pos="5543640"/>
                <a:tab algn="l" pos="6000840"/>
                <a:tab algn="l" pos="6458040"/>
                <a:tab algn="l" pos="6915240"/>
                <a:tab algn="l" pos="7372440"/>
                <a:tab algn="l" pos="7829640"/>
                <a:tab algn="l" pos="8286840"/>
                <a:tab algn="l" pos="8744040"/>
                <a:tab algn="l" pos="920124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El flujo de carga cesa cuando la diferencia de potencial en los condensadores es la misma que en la batería, es decir, </a:t>
            </a:r>
            <a:r>
              <a:rPr b="0" lang="en-GB" sz="2600" spc="-1" strike="noStrike">
                <a:solidFill>
                  <a:srgbClr val="000000"/>
                </a:solidFill>
                <a:latin typeface="DejaVu Sans"/>
              </a:rPr>
              <a:t>Δ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-297000">
              <a:lnSpc>
                <a:spcPct val="12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01760"/>
                <a:tab algn="l" pos="514440"/>
                <a:tab algn="l" pos="971640"/>
                <a:tab algn="l" pos="1428840"/>
                <a:tab algn="l" pos="1886040"/>
                <a:tab algn="l" pos="2343240"/>
                <a:tab algn="l" pos="2800440"/>
                <a:tab algn="l" pos="3257640"/>
                <a:tab algn="l" pos="3714840"/>
                <a:tab algn="l" pos="4172040"/>
                <a:tab algn="l" pos="4629240"/>
                <a:tab algn="l" pos="5086440"/>
                <a:tab algn="l" pos="5543640"/>
                <a:tab algn="l" pos="6000840"/>
                <a:tab algn="l" pos="6458040"/>
                <a:tab algn="l" pos="6915240"/>
                <a:tab algn="l" pos="7372440"/>
                <a:tab algn="l" pos="7829640"/>
                <a:tab algn="l" pos="8286840"/>
                <a:tab algn="l" pos="8744040"/>
                <a:tab algn="l" pos="920124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Los condensadores alcanzan entonces su máxima carga, Q</a:t>
            </a:r>
            <a:r>
              <a:rPr b="0" lang="en-GB" sz="2600" spc="-1" strike="noStrike" baseline="-33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y Q</a:t>
            </a:r>
            <a:r>
              <a:rPr b="0" lang="en-GB" sz="2600" spc="-1" strike="noStrike" baseline="-33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-297000">
              <a:lnSpc>
                <a:spcPct val="12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01760"/>
                <a:tab algn="l" pos="514440"/>
                <a:tab algn="l" pos="971640"/>
                <a:tab algn="l" pos="1428840"/>
                <a:tab algn="l" pos="1886040"/>
                <a:tab algn="l" pos="2343240"/>
                <a:tab algn="l" pos="2800440"/>
                <a:tab algn="l" pos="3257640"/>
                <a:tab algn="l" pos="3714840"/>
                <a:tab algn="l" pos="4172040"/>
                <a:tab algn="l" pos="4629240"/>
                <a:tab algn="l" pos="5086440"/>
                <a:tab algn="l" pos="5543640"/>
                <a:tab algn="l" pos="6000840"/>
                <a:tab algn="l" pos="6458040"/>
                <a:tab algn="l" pos="6915240"/>
                <a:tab algn="l" pos="7372440"/>
                <a:tab algn="l" pos="7829640"/>
                <a:tab algn="l" pos="8286840"/>
                <a:tab algn="l" pos="8744040"/>
                <a:tab algn="l" pos="920124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La carga total almacenada e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5257800" y="1371600"/>
            <a:ext cx="4548240" cy="5029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279440" y="5656320"/>
            <a:ext cx="3063960" cy="97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ndensadores en paralelo, Dem. que C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Times New Roman"/>
              </a:rPr>
              <a:t>eq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=C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+C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240" y="952200"/>
            <a:ext cx="4800600" cy="43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01760" indent="-2970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01760"/>
                <a:tab algn="l" pos="514440"/>
                <a:tab algn="l" pos="971640"/>
                <a:tab algn="l" pos="1428840"/>
                <a:tab algn="l" pos="1886040"/>
                <a:tab algn="l" pos="2343240"/>
                <a:tab algn="l" pos="2800440"/>
                <a:tab algn="l" pos="3257640"/>
                <a:tab algn="l" pos="3714840"/>
                <a:tab algn="l" pos="4172040"/>
                <a:tab algn="l" pos="4629240"/>
                <a:tab algn="l" pos="5086440"/>
                <a:tab algn="l" pos="5543640"/>
                <a:tab algn="l" pos="6000840"/>
                <a:tab algn="l" pos="6458040"/>
                <a:tab algn="l" pos="6915240"/>
                <a:tab algn="l" pos="7372440"/>
                <a:tab algn="l" pos="7829640"/>
                <a:tab algn="l" pos="8286840"/>
                <a:tab algn="l" pos="8744040"/>
                <a:tab algn="l" pos="920124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Si pretendemos reemplazar C</a:t>
            </a:r>
            <a:r>
              <a:rPr b="0" lang="en-GB" sz="2600" spc="-1" strike="noStrike" baseline="-33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y C</a:t>
            </a:r>
            <a:r>
              <a:rPr b="0" lang="en-GB" sz="2600" spc="-1" strike="noStrike" baseline="-33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por un “condensador equivalente” C</a:t>
            </a:r>
            <a:r>
              <a:rPr b="0" lang="en-GB" sz="2600" spc="-1" strike="noStrike" baseline="-33000">
                <a:solidFill>
                  <a:srgbClr val="000000"/>
                </a:solidFill>
                <a:latin typeface="Times New Roman"/>
              </a:rPr>
              <a:t>eq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, este debe tener el mismo comportamiento que la combinación de C</a:t>
            </a:r>
            <a:r>
              <a:rPr b="0" lang="en-GB" sz="2600" spc="-1" strike="noStrike" baseline="-33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y C</a:t>
            </a:r>
            <a:r>
              <a:rPr b="0" lang="en-GB" sz="2600" spc="-1" strike="noStrike" baseline="-33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-297000">
              <a:lnSpc>
                <a:spcPct val="12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01760"/>
                <a:tab algn="l" pos="514440"/>
                <a:tab algn="l" pos="971640"/>
                <a:tab algn="l" pos="1428840"/>
                <a:tab algn="l" pos="1886040"/>
                <a:tab algn="l" pos="2343240"/>
                <a:tab algn="l" pos="2800440"/>
                <a:tab algn="l" pos="3257640"/>
                <a:tab algn="l" pos="3714840"/>
                <a:tab algn="l" pos="4172040"/>
                <a:tab algn="l" pos="4629240"/>
                <a:tab algn="l" pos="5086440"/>
                <a:tab algn="l" pos="5543640"/>
                <a:tab algn="l" pos="6000840"/>
                <a:tab algn="l" pos="6458040"/>
                <a:tab algn="l" pos="6915240"/>
                <a:tab algn="l" pos="7372440"/>
                <a:tab algn="l" pos="7829640"/>
                <a:tab algn="l" pos="8286840"/>
                <a:tab algn="l" pos="8744040"/>
                <a:tab algn="l" pos="920124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GB" sz="2600" spc="-1" strike="noStrike" baseline="-33000">
                <a:solidFill>
                  <a:srgbClr val="000000"/>
                </a:solidFill>
                <a:latin typeface="Times New Roman"/>
              </a:rPr>
              <a:t>eq 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debe almacenar una carga total Q cuando se conecta a una diferencia de potencial </a:t>
            </a:r>
            <a:r>
              <a:rPr b="0" lang="en-GB" sz="2600" spc="-1" strike="noStrike">
                <a:solidFill>
                  <a:srgbClr val="000000"/>
                </a:solidFill>
                <a:latin typeface="DejaVu Sans"/>
              </a:rPr>
              <a:t>Δ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V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257800" y="1371600"/>
            <a:ext cx="4548240" cy="50292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227240" y="5621400"/>
            <a:ext cx="3116160" cy="123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ndensadores en paralelo, Dem. que C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Times New Roman"/>
              </a:rPr>
              <a:t>eq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=C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+C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240" y="952560"/>
            <a:ext cx="4800600" cy="41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01760" indent="-2970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01760"/>
                <a:tab algn="l" pos="514440"/>
                <a:tab algn="l" pos="971640"/>
                <a:tab algn="l" pos="1428840"/>
                <a:tab algn="l" pos="1886040"/>
                <a:tab algn="l" pos="2343240"/>
                <a:tab algn="l" pos="2800440"/>
                <a:tab algn="l" pos="3257640"/>
                <a:tab algn="l" pos="3714840"/>
                <a:tab algn="l" pos="4172040"/>
                <a:tab algn="l" pos="4629240"/>
                <a:tab algn="l" pos="5086440"/>
                <a:tab algn="l" pos="5543640"/>
                <a:tab algn="l" pos="6000840"/>
                <a:tab algn="l" pos="6458040"/>
                <a:tab algn="l" pos="6915240"/>
                <a:tab algn="l" pos="7372440"/>
                <a:tab algn="l" pos="7829640"/>
                <a:tab algn="l" pos="8286840"/>
                <a:tab algn="l" pos="8744040"/>
                <a:tab algn="l" pos="920124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Tenemos entonce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257800" y="1371600"/>
            <a:ext cx="4548240" cy="5029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1160640" y="1455840"/>
            <a:ext cx="3116160" cy="10587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1262160" y="2784600"/>
            <a:ext cx="3063600" cy="9745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457200" y="4114800"/>
            <a:ext cx="4572000" cy="13716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5"/>
          <a:stretch/>
        </p:blipFill>
        <p:spPr>
          <a:xfrm>
            <a:off x="457200" y="5715000"/>
            <a:ext cx="5029200" cy="13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ndensadores en paralelo, Dem. que C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Times New Roman"/>
              </a:rPr>
              <a:t>eq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=C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+C</a:t>
            </a:r>
            <a:r>
              <a:rPr b="0" lang="en-GB" sz="2800" spc="-1" strike="noStrike" baseline="-33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240" y="952560"/>
            <a:ext cx="4800600" cy="41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01760" indent="-2970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01760"/>
                <a:tab algn="l" pos="514440"/>
                <a:tab algn="l" pos="971640"/>
                <a:tab algn="l" pos="1428840"/>
                <a:tab algn="l" pos="1886040"/>
                <a:tab algn="l" pos="2343240"/>
                <a:tab algn="l" pos="2800440"/>
                <a:tab algn="l" pos="3257640"/>
                <a:tab algn="l" pos="3714840"/>
                <a:tab algn="l" pos="4172040"/>
                <a:tab algn="l" pos="4629240"/>
                <a:tab algn="l" pos="5086440"/>
                <a:tab algn="l" pos="5543640"/>
                <a:tab algn="l" pos="6000840"/>
                <a:tab algn="l" pos="6458040"/>
                <a:tab algn="l" pos="6915240"/>
                <a:tab algn="l" pos="7372440"/>
                <a:tab algn="l" pos="7829640"/>
                <a:tab algn="l" pos="8286840"/>
                <a:tab algn="l" pos="8744040"/>
                <a:tab algn="l" pos="920124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Finalmente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257800" y="1371600"/>
            <a:ext cx="4548240" cy="50292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941400" y="2057400"/>
            <a:ext cx="3173400" cy="11430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457200" y="3621240"/>
            <a:ext cx="40863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Que puede ser generalizado a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457200" y="4800600"/>
            <a:ext cx="4800600" cy="160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ndensadores en Ser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" y="5943600"/>
            <a:ext cx="2971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Demostraremos que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57200" y="914400"/>
            <a:ext cx="9372600" cy="44737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4172040" y="5586480"/>
            <a:ext cx="3600360" cy="172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ndensadores en Ser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" y="1371600"/>
            <a:ext cx="43434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- Supongamos que originalment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los condensadores están sin carga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- Al conectar la batería fluyen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electrones de la placa izquierd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de C</a:t>
            </a:r>
            <a:r>
              <a:rPr b="0" lang="en-GB" sz="2600" spc="-1" strike="noStrike" baseline="-33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a la placa derecha de C</a:t>
            </a:r>
            <a:r>
              <a:rPr b="0" lang="en-GB" sz="2600" spc="-1" strike="noStrike" baseline="-33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- A medida que carga negativa s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acumula en placa derecha de C</a:t>
            </a:r>
            <a:r>
              <a:rPr b="0" lang="en-GB" sz="2600" spc="-1" strike="noStrike" baseline="-33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la misma cantidad sale de placa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izquierda de C</a:t>
            </a:r>
            <a:r>
              <a:rPr b="0" lang="en-GB" sz="2600" spc="-1" strike="noStrike" baseline="-33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en dirección a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placa derecha de C</a:t>
            </a:r>
            <a:r>
              <a:rPr b="0" lang="en-GB" sz="2600" spc="-1" strike="noStrike" baseline="-33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, y a su vez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sale de placa izquierda de C</a:t>
            </a:r>
            <a:r>
              <a:rPr b="0" lang="en-GB" sz="2600" spc="-1" strike="noStrike" baseline="-33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029200" y="1062000"/>
            <a:ext cx="4572000" cy="602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ndensadores en Ser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" y="1371600"/>
            <a:ext cx="43434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- El resultado final de todo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este proceso es que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1.- Todas las placas derecha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quedan con carga -Q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2.- Todas las placas izquierda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quedan con carga +Q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029200" y="1062000"/>
            <a:ext cx="4572000" cy="602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ndensadores en Ser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" y="1371600"/>
            <a:ext cx="43434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- Si el condensador equivalente,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de valor C</a:t>
            </a:r>
            <a:r>
              <a:rPr b="0" lang="en-GB" sz="2600" spc="-1" strike="noStrike" baseline="-33000">
                <a:solidFill>
                  <a:srgbClr val="000000"/>
                </a:solidFill>
                <a:latin typeface="Times New Roman"/>
              </a:rPr>
              <a:t>eq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reemplaza a l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combinación serie de C</a:t>
            </a:r>
            <a:r>
              <a:rPr b="0" lang="en-GB" sz="2600" spc="-1" strike="noStrike" baseline="-33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y C</a:t>
            </a:r>
            <a:r>
              <a:rPr b="0" lang="en-GB" sz="2600" spc="-1" strike="noStrike" baseline="-33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debe entonces cumplir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- Tiene carga -Q en placa d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lado derecho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- Tiene carga +Q en placa d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lado izquierdo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- Es decir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257800" y="1062000"/>
            <a:ext cx="4343400" cy="51116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2971800" y="5603760"/>
            <a:ext cx="2971800" cy="171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76360" y="826920"/>
            <a:ext cx="87120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a capacidad C de un condensador se define como la razón entre la magnitud de la carga y la diferencia de potencial aplicad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28760" y="2266920"/>
            <a:ext cx="4011480" cy="46814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832360" y="2627280"/>
            <a:ext cx="1800360" cy="10810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5761080" y="4284720"/>
            <a:ext cx="2016000" cy="6778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176720" y="5219640"/>
            <a:ext cx="539892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 Faraday es la unidad en sistema Internacional, igual a 1 Coulomb dividido por 1 Volt, pero lo habitual es usar microFaraday (10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-6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 y men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ndensadores en Ser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" y="1371600"/>
            <a:ext cx="29718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- Para el condensador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equivalente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- Para C</a:t>
            </a:r>
            <a:r>
              <a:rPr b="0" lang="en-GB" sz="2600" spc="-1" strike="noStrike" baseline="-33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y C</a:t>
            </a:r>
            <a:r>
              <a:rPr b="0" lang="en-GB" sz="2600" spc="-1" strike="noStrike" baseline="-33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- Adema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- Finalmente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5943600" y="1143000"/>
            <a:ext cx="2971800" cy="12542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5029200" y="2471760"/>
            <a:ext cx="4775040" cy="14144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5029200" y="4114800"/>
            <a:ext cx="4114800" cy="11430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3462480" y="5486400"/>
            <a:ext cx="522576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ndensadores en Ser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" y="1371600"/>
            <a:ext cx="27432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- Y cancelando C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- Que puede s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generalizado a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886200" y="1446120"/>
            <a:ext cx="5257800" cy="19828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3165480" y="4572000"/>
            <a:ext cx="643572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ndensadores en Ser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57200" y="91440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- Ejemplo: Calcular el valor de C</a:t>
            </a:r>
            <a:r>
              <a:rPr b="0" lang="en-GB" sz="2600" spc="-1" strike="noStrike" baseline="-33000">
                <a:solidFill>
                  <a:srgbClr val="000000"/>
                </a:solidFill>
                <a:latin typeface="Times New Roman"/>
              </a:rPr>
              <a:t>eq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entre los extremos </a:t>
            </a:r>
            <a:r>
              <a:rPr b="0" i="1" lang="en-GB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y </a:t>
            </a:r>
            <a:r>
              <a:rPr b="0" i="1" lang="en-GB" sz="2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228600" y="1600200"/>
            <a:ext cx="960120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ndensadores en Ser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" y="91440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- Ejemplo: Calcular el valor de C</a:t>
            </a:r>
            <a:r>
              <a:rPr b="0" lang="en-GB" sz="2600" spc="-1" strike="noStrike" baseline="-33000">
                <a:solidFill>
                  <a:srgbClr val="000000"/>
                </a:solidFill>
                <a:latin typeface="Times New Roman"/>
              </a:rPr>
              <a:t>eq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entre los extremos </a:t>
            </a:r>
            <a:r>
              <a:rPr b="0" i="1" lang="en-GB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y </a:t>
            </a:r>
            <a:r>
              <a:rPr b="0" i="1" lang="en-GB" sz="2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28600" y="1600200"/>
            <a:ext cx="960120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ndensadores en Ser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" y="91440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- Ejemplo: Calcular el valor de C</a:t>
            </a:r>
            <a:r>
              <a:rPr b="0" lang="en-GB" sz="2600" spc="-1" strike="noStrike" baseline="-33000">
                <a:solidFill>
                  <a:srgbClr val="000000"/>
                </a:solidFill>
                <a:latin typeface="Times New Roman"/>
              </a:rPr>
              <a:t>eq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entre los extremos </a:t>
            </a:r>
            <a:r>
              <a:rPr b="0" i="1" lang="en-GB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y </a:t>
            </a:r>
            <a:r>
              <a:rPr b="0" i="1" lang="en-GB" sz="2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28600" y="1600200"/>
            <a:ext cx="960120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nergía en un Condensad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65040" y="826920"/>
            <a:ext cx="9355320" cy="60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ea q la carga en un instante de tiempo cualquiera, en el intervalo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iempo entre que la carga es 0 y que la carga es Q(final), enton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0 &lt; q &lt;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 Diferencia de potencial inicial V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 Diferencia de potencial final V=Q/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 Dif. de potencial promedio durante proceso de carga es V/2 = Q/2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 Como el potencial es Energía por unidad de carga, podemos dec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ntonces que el trabajo W para cargar el condensador 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 = QV/2 = Q</a:t>
            </a:r>
            <a:r>
              <a:rPr b="0" lang="en-GB" sz="2400" spc="-1" strike="noStrike" baseline="33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2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nergía en un Condensad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28600" y="914400"/>
            <a:ext cx="50306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i graficamos </a:t>
            </a:r>
            <a:r>
              <a:rPr b="0" lang="en-GB" sz="2400" spc="-1" strike="noStrike">
                <a:solidFill>
                  <a:srgbClr val="000000"/>
                </a:solidFill>
                <a:latin typeface="DejaVu Sans"/>
                <a:ea typeface="DejaVu Sans"/>
              </a:rPr>
              <a:t>Δ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V=Q/C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, tenem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Para variar la carga en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dq,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 es neces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hacer un trabajo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dW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 dado p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318280" y="1143000"/>
            <a:ext cx="4511520" cy="45720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457200" y="2743200"/>
            <a:ext cx="4572000" cy="13716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228600" y="4343400"/>
            <a:ext cx="5029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l trabajo para llevar el condens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sd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q=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hasta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q=Q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es enton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685800" y="5578560"/>
            <a:ext cx="6400800" cy="150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nergía en un Condensad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8600" y="91440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sando la relacion </a:t>
            </a:r>
            <a:r>
              <a:rPr b="0" lang="en-GB" sz="2400" spc="-1" strike="noStrike">
                <a:solidFill>
                  <a:srgbClr val="000000"/>
                </a:solidFill>
                <a:latin typeface="DejaVu Sans"/>
                <a:ea typeface="DejaVu Sans"/>
              </a:rPr>
              <a:t>Δ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V=Q/C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 en la ecuació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6400800" cy="150804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228600" y="3884760"/>
            <a:ext cx="411480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odemos entonces escribi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1600200" y="5029200"/>
            <a:ext cx="6858000" cy="20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nergía en un Condensad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28600" y="91440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l resultado anterior es independiente si la Capacidad del condensador se obtiene a partir de su geometría, por ej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28600" y="3884760"/>
            <a:ext cx="457200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odemos escribir la energía com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600200" y="2303640"/>
            <a:ext cx="3200400" cy="13554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1725480" y="4994280"/>
            <a:ext cx="6734160" cy="18637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5486400" y="2319480"/>
            <a:ext cx="3657600" cy="133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96640" y="228240"/>
            <a:ext cx="748980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ircuitos R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240" y="914040"/>
            <a:ext cx="9372600" cy="16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62880" indent="-2872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66840"/>
                <a:tab algn="l" pos="479520"/>
                <a:tab algn="l" pos="936720"/>
                <a:tab algn="l" pos="1393920"/>
                <a:tab algn="l" pos="1851120"/>
                <a:tab algn="l" pos="2308320"/>
                <a:tab algn="l" pos="2765520"/>
                <a:tab algn="l" pos="3222720"/>
                <a:tab algn="l" pos="3679920"/>
                <a:tab algn="l" pos="4137120"/>
                <a:tab algn="l" pos="4594320"/>
                <a:tab algn="l" pos="5051520"/>
                <a:tab algn="l" pos="5508720"/>
                <a:tab algn="l" pos="5965920"/>
                <a:tab algn="l" pos="6423120"/>
                <a:tab algn="l" pos="6880320"/>
                <a:tab algn="l" pos="7337520"/>
                <a:tab algn="l" pos="7794720"/>
                <a:tab algn="l" pos="8251920"/>
                <a:tab algn="l" pos="8709120"/>
                <a:tab algn="l" pos="916632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Hasta ahora hemos visto circuitos en que la corriente es constante, cuando existen Condensadores, la corriente varía en el tiempo. Un circuito que contiene Resistencia y Condensador, es llamado un circuito RC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001000" y="5715000"/>
            <a:ext cx="1828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66840" indent="-29052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66840"/>
                <a:tab algn="l" pos="824040"/>
                <a:tab algn="l" pos="1281240"/>
                <a:tab algn="l" pos="1738440"/>
                <a:tab algn="l" pos="2195640"/>
                <a:tab algn="l" pos="2652840"/>
                <a:tab algn="l" pos="3110040"/>
                <a:tab algn="l" pos="3567240"/>
                <a:tab algn="l" pos="4024440"/>
                <a:tab algn="l" pos="4481640"/>
                <a:tab algn="l" pos="4938840"/>
                <a:tab algn="l" pos="5396040"/>
                <a:tab algn="l" pos="5853240"/>
                <a:tab algn="l" pos="6310440"/>
                <a:tab algn="l" pos="6767640"/>
                <a:tab algn="l" pos="7224840"/>
                <a:tab algn="l" pos="7682040"/>
                <a:tab algn="l" pos="8139240"/>
                <a:tab algn="l" pos="8596440"/>
                <a:tab algn="l" pos="9053640"/>
                <a:tab algn="l" pos="951084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Descarg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228600" y="2620800"/>
            <a:ext cx="7772400" cy="21798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8458200" y="342900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66840" indent="-29052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66840"/>
                <a:tab algn="l" pos="824040"/>
                <a:tab algn="l" pos="1281240"/>
                <a:tab algn="l" pos="1738440"/>
                <a:tab algn="l" pos="2195640"/>
                <a:tab algn="l" pos="2652840"/>
                <a:tab algn="l" pos="3110040"/>
                <a:tab algn="l" pos="3567240"/>
                <a:tab algn="l" pos="4024440"/>
                <a:tab algn="l" pos="4481640"/>
                <a:tab algn="l" pos="4938840"/>
                <a:tab algn="l" pos="5396040"/>
                <a:tab algn="l" pos="5853240"/>
                <a:tab algn="l" pos="6310440"/>
                <a:tab algn="l" pos="6767640"/>
                <a:tab algn="l" pos="7224840"/>
                <a:tab algn="l" pos="7682040"/>
                <a:tab algn="l" pos="8139240"/>
                <a:tab algn="l" pos="8596440"/>
                <a:tab algn="l" pos="9053640"/>
                <a:tab algn="l" pos="951084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228600" y="5257800"/>
            <a:ext cx="3657600" cy="205740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4403880" y="5257800"/>
            <a:ext cx="3597120" cy="20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47640" y="684360"/>
            <a:ext cx="1800360" cy="1081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214440" y="770040"/>
            <a:ext cx="5029920" cy="8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sta es una definición en función de s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ortamiento eléctri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7280" y="2266920"/>
            <a:ext cx="950436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ero también existe una definición en términos de su geometría, ej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57200" y="3173400"/>
            <a:ext cx="3654360" cy="3456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5029200" y="2844720"/>
            <a:ext cx="2376360" cy="17272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4734000" y="5257800"/>
            <a:ext cx="5095800" cy="6001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7867800" y="3305160"/>
            <a:ext cx="1733400" cy="10382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6"/>
          <a:stretch/>
        </p:blipFill>
        <p:spPr>
          <a:xfrm>
            <a:off x="4800600" y="6458040"/>
            <a:ext cx="409680" cy="399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7"/>
          <a:stretch/>
        </p:blipFill>
        <p:spPr>
          <a:xfrm>
            <a:off x="5219640" y="6629400"/>
            <a:ext cx="266760" cy="2095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8"/>
          <a:stretch/>
        </p:blipFill>
        <p:spPr>
          <a:xfrm>
            <a:off x="5486400" y="6400800"/>
            <a:ext cx="4457880" cy="38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96640" y="228240"/>
            <a:ext cx="748980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arga de un Circuito R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240" y="914400"/>
            <a:ext cx="9372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6840" indent="-29052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66840"/>
                <a:tab algn="l" pos="479520"/>
                <a:tab algn="l" pos="936720"/>
                <a:tab algn="l" pos="1393920"/>
                <a:tab algn="l" pos="1851120"/>
                <a:tab algn="l" pos="2308320"/>
                <a:tab algn="l" pos="2765520"/>
                <a:tab algn="l" pos="3222720"/>
                <a:tab algn="l" pos="3679920"/>
                <a:tab algn="l" pos="4137120"/>
                <a:tab algn="l" pos="4594320"/>
                <a:tab algn="l" pos="5051520"/>
                <a:tab algn="l" pos="5508720"/>
                <a:tab algn="l" pos="5965920"/>
                <a:tab algn="l" pos="6423120"/>
                <a:tab algn="l" pos="6880320"/>
                <a:tab algn="l" pos="7337520"/>
                <a:tab algn="l" pos="7794720"/>
                <a:tab algn="l" pos="8251920"/>
                <a:tab algn="l" pos="8709120"/>
                <a:tab algn="l" pos="916632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Aplicamos la regla de Kirchhoff's a partir del instante  en que se cierra el interruptor 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266760" y="2046240"/>
            <a:ext cx="3848040" cy="458316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4726080" y="1600200"/>
            <a:ext cx="3960720" cy="18288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4343400" y="3429000"/>
            <a:ext cx="50292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Al principio el condensador no tien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carga, y la corriente es máxima,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haciendo entonces q=0, tenemos que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153040" y="5557680"/>
            <a:ext cx="2743200" cy="163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96640" y="228240"/>
            <a:ext cx="748980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arga de un Circuito R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240" y="914400"/>
            <a:ext cx="9372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6840" indent="-29052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66840"/>
                <a:tab algn="l" pos="479520"/>
                <a:tab algn="l" pos="936720"/>
                <a:tab algn="l" pos="1393920"/>
                <a:tab algn="l" pos="1851120"/>
                <a:tab algn="l" pos="2308320"/>
                <a:tab algn="l" pos="2765520"/>
                <a:tab algn="l" pos="3222720"/>
                <a:tab algn="l" pos="3679920"/>
                <a:tab algn="l" pos="4137120"/>
                <a:tab algn="l" pos="4594320"/>
                <a:tab algn="l" pos="5051520"/>
                <a:tab algn="l" pos="5508720"/>
                <a:tab algn="l" pos="5965920"/>
                <a:tab algn="l" pos="6423120"/>
                <a:tab algn="l" pos="6880320"/>
                <a:tab algn="l" pos="7337520"/>
                <a:tab algn="l" pos="7794720"/>
                <a:tab algn="l" pos="8251920"/>
                <a:tab algn="l" pos="8709120"/>
                <a:tab algn="l" pos="916632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Aplicamos la regla de Kirchhoff's a partir del instante  en que se cierra el interruptor 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266760" y="2046240"/>
            <a:ext cx="3848040" cy="458316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4726080" y="1600200"/>
            <a:ext cx="3960720" cy="18288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4343400" y="3429000"/>
            <a:ext cx="5029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Cuando el condensador alcanza su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carga máxima, entonces la corriente es cero, I=0, y tenemos que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5029200" y="5146560"/>
            <a:ext cx="3429000" cy="171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96640" y="228240"/>
            <a:ext cx="748980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arga de un Circuito R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28240" y="914400"/>
            <a:ext cx="9372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6840" indent="-29052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66840"/>
                <a:tab algn="l" pos="479520"/>
                <a:tab algn="l" pos="936720"/>
                <a:tab algn="l" pos="1393920"/>
                <a:tab algn="l" pos="1851120"/>
                <a:tab algn="l" pos="2308320"/>
                <a:tab algn="l" pos="2765520"/>
                <a:tab algn="l" pos="3222720"/>
                <a:tab algn="l" pos="3679920"/>
                <a:tab algn="l" pos="4137120"/>
                <a:tab algn="l" pos="4594320"/>
                <a:tab algn="l" pos="5051520"/>
                <a:tab algn="l" pos="5508720"/>
                <a:tab algn="l" pos="5965920"/>
                <a:tab algn="l" pos="6423120"/>
                <a:tab algn="l" pos="6880320"/>
                <a:tab algn="l" pos="7337520"/>
                <a:tab algn="l" pos="7794720"/>
                <a:tab algn="l" pos="8251920"/>
                <a:tab algn="l" pos="8709120"/>
                <a:tab algn="l" pos="916632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Pero en esta situación, “q” e “I” dependen del tiempo, de modo que para elimanar una variable reemplazamos I=dq/dt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266760" y="2046240"/>
            <a:ext cx="3848040" cy="458316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4800600" y="2057400"/>
            <a:ext cx="3960720" cy="182880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4572000" y="4114800"/>
            <a:ext cx="4343400" cy="25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96640" y="228240"/>
            <a:ext cx="748980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arga de un Circuito R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28240" y="914040"/>
            <a:ext cx="93726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6840" indent="-29052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66840"/>
                <a:tab algn="l" pos="479520"/>
                <a:tab algn="l" pos="936720"/>
                <a:tab algn="l" pos="1393920"/>
                <a:tab algn="l" pos="1851120"/>
                <a:tab algn="l" pos="2308320"/>
                <a:tab algn="l" pos="2765520"/>
                <a:tab algn="l" pos="3222720"/>
                <a:tab algn="l" pos="3679920"/>
                <a:tab algn="l" pos="4137120"/>
                <a:tab algn="l" pos="4594320"/>
                <a:tab algn="l" pos="5051520"/>
                <a:tab algn="l" pos="5508720"/>
                <a:tab algn="l" pos="5965920"/>
                <a:tab algn="l" pos="6423120"/>
                <a:tab algn="l" pos="6880320"/>
                <a:tab algn="l" pos="7337520"/>
                <a:tab algn="l" pos="7794720"/>
                <a:tab algn="l" pos="8251920"/>
                <a:tab algn="l" pos="8709120"/>
                <a:tab algn="l" pos="916632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Reordenando un poco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266760" y="1600200"/>
            <a:ext cx="3848040" cy="34290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4572000" y="1828800"/>
            <a:ext cx="4343400" cy="25146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3657600" y="4732200"/>
            <a:ext cx="6172200" cy="258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96640" y="228240"/>
            <a:ext cx="748980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arga de un Circuito R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28240" y="914040"/>
            <a:ext cx="93726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6840" indent="-29052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66840"/>
                <a:tab algn="l" pos="479520"/>
                <a:tab algn="l" pos="936720"/>
                <a:tab algn="l" pos="1393920"/>
                <a:tab algn="l" pos="1851120"/>
                <a:tab algn="l" pos="2308320"/>
                <a:tab algn="l" pos="2765520"/>
                <a:tab algn="l" pos="3222720"/>
                <a:tab algn="l" pos="3679920"/>
                <a:tab algn="l" pos="4137120"/>
                <a:tab algn="l" pos="4594320"/>
                <a:tab algn="l" pos="5051520"/>
                <a:tab algn="l" pos="5508720"/>
                <a:tab algn="l" pos="5965920"/>
                <a:tab algn="l" pos="6423120"/>
                <a:tab algn="l" pos="6880320"/>
                <a:tab algn="l" pos="7337520"/>
                <a:tab algn="l" pos="7794720"/>
                <a:tab algn="l" pos="8251920"/>
                <a:tab algn="l" pos="8709120"/>
                <a:tab algn="l" pos="916632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Multiplicamos por “dt” y dividimos por (q-CE), para obtener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266760" y="1600200"/>
            <a:ext cx="3162240" cy="3429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3657600" y="1989000"/>
            <a:ext cx="6172200" cy="25830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3241800" y="4800600"/>
            <a:ext cx="59022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96640" y="228240"/>
            <a:ext cx="748980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arga de un Circuito R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240" y="914040"/>
            <a:ext cx="93726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6840" indent="-29052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66840"/>
                <a:tab algn="l" pos="479520"/>
                <a:tab algn="l" pos="936720"/>
                <a:tab algn="l" pos="1393920"/>
                <a:tab algn="l" pos="1851120"/>
                <a:tab algn="l" pos="2308320"/>
                <a:tab algn="l" pos="2765520"/>
                <a:tab algn="l" pos="3222720"/>
                <a:tab algn="l" pos="3679920"/>
                <a:tab algn="l" pos="4137120"/>
                <a:tab algn="l" pos="4594320"/>
                <a:tab algn="l" pos="5051520"/>
                <a:tab algn="l" pos="5508720"/>
                <a:tab algn="l" pos="5965920"/>
                <a:tab algn="l" pos="6423120"/>
                <a:tab algn="l" pos="6880320"/>
                <a:tab algn="l" pos="7337520"/>
                <a:tab algn="l" pos="7794720"/>
                <a:tab algn="l" pos="8251920"/>
                <a:tab algn="l" pos="8709120"/>
                <a:tab algn="l" pos="916632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Integramos teniendo en cuenta que q t=0; q=0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266760" y="1600200"/>
            <a:ext cx="3162240" cy="34290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3657600" y="1600200"/>
            <a:ext cx="5902200" cy="205740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3"/>
          <a:stretch/>
        </p:blipFill>
        <p:spPr>
          <a:xfrm>
            <a:off x="3200400" y="3657600"/>
            <a:ext cx="662940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96640" y="228240"/>
            <a:ext cx="748980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arga de un Circuito R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28240" y="914040"/>
            <a:ext cx="937260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6840" indent="-29052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66840"/>
                <a:tab algn="l" pos="479520"/>
                <a:tab algn="l" pos="936720"/>
                <a:tab algn="l" pos="1393920"/>
                <a:tab algn="l" pos="1851120"/>
                <a:tab algn="l" pos="2308320"/>
                <a:tab algn="l" pos="2765520"/>
                <a:tab algn="l" pos="3222720"/>
                <a:tab algn="l" pos="3679920"/>
                <a:tab algn="l" pos="4137120"/>
                <a:tab algn="l" pos="4594320"/>
                <a:tab algn="l" pos="5051520"/>
                <a:tab algn="l" pos="5508720"/>
                <a:tab algn="l" pos="5965920"/>
                <a:tab algn="l" pos="6423120"/>
                <a:tab algn="l" pos="6880320"/>
                <a:tab algn="l" pos="7337520"/>
                <a:tab algn="l" pos="7794720"/>
                <a:tab algn="l" pos="8251920"/>
                <a:tab algn="l" pos="8709120"/>
                <a:tab algn="l" pos="916632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Usando la definición de logaritmo natural, y el hecho que CE es la carga máxima, obtenemo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266760" y="2286000"/>
            <a:ext cx="3162240" cy="274320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4114800" y="2971800"/>
            <a:ext cx="5715000" cy="1828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3"/>
          <a:stretch/>
        </p:blipFill>
        <p:spPr>
          <a:xfrm>
            <a:off x="693720" y="5029200"/>
            <a:ext cx="913608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96640" y="228240"/>
            <a:ext cx="748980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arga de un Circuito R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28240" y="914040"/>
            <a:ext cx="937260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6840" indent="-29052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66840"/>
                <a:tab algn="l" pos="479520"/>
                <a:tab algn="l" pos="936720"/>
                <a:tab algn="l" pos="1393920"/>
                <a:tab algn="l" pos="1851120"/>
                <a:tab algn="l" pos="2308320"/>
                <a:tab algn="l" pos="2765520"/>
                <a:tab algn="l" pos="3222720"/>
                <a:tab algn="l" pos="3679920"/>
                <a:tab algn="l" pos="4137120"/>
                <a:tab algn="l" pos="4594320"/>
                <a:tab algn="l" pos="5051520"/>
                <a:tab algn="l" pos="5508720"/>
                <a:tab algn="l" pos="5965920"/>
                <a:tab algn="l" pos="6423120"/>
                <a:tab algn="l" pos="6880320"/>
                <a:tab algn="l" pos="7337520"/>
                <a:tab algn="l" pos="7794720"/>
                <a:tab algn="l" pos="8251920"/>
                <a:tab algn="l" pos="8709120"/>
                <a:tab algn="l" pos="916632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Por definición I=dq/dt, de modo que derivando obtenemos la corriente en funcion del tiempo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228600" y="4572000"/>
            <a:ext cx="3162240" cy="274320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465120" y="2057400"/>
            <a:ext cx="9136080" cy="228600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>
            <a:off x="3886200" y="4343400"/>
            <a:ext cx="548640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96640" y="228240"/>
            <a:ext cx="748980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arga de un Circuito R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240" y="914040"/>
            <a:ext cx="937260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6840" indent="-29052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66840"/>
                <a:tab algn="l" pos="479520"/>
                <a:tab algn="l" pos="936720"/>
                <a:tab algn="l" pos="1393920"/>
                <a:tab algn="l" pos="1851120"/>
                <a:tab algn="l" pos="2308320"/>
                <a:tab algn="l" pos="2765520"/>
                <a:tab algn="l" pos="3222720"/>
                <a:tab algn="l" pos="3679920"/>
                <a:tab algn="l" pos="4137120"/>
                <a:tab algn="l" pos="4594320"/>
                <a:tab algn="l" pos="5051520"/>
                <a:tab algn="l" pos="5508720"/>
                <a:tab algn="l" pos="5965920"/>
                <a:tab algn="l" pos="6423120"/>
                <a:tab algn="l" pos="6880320"/>
                <a:tab algn="l" pos="7337520"/>
                <a:tab algn="l" pos="7794720"/>
                <a:tab algn="l" pos="8251920"/>
                <a:tab algn="l" pos="8709120"/>
                <a:tab algn="l" pos="916632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La constante RC del circuito, es llamada la constante de tiempo, se denota por la letra griega </a:t>
            </a:r>
            <a:r>
              <a:rPr b="0" lang="en-GB" sz="2600" spc="-1" strike="noStrike">
                <a:solidFill>
                  <a:srgbClr val="000000"/>
                </a:solidFill>
                <a:latin typeface="DejaVu Sans"/>
                <a:ea typeface="DejaVu Sans"/>
              </a:rPr>
              <a:t>τ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(tau), y tiene unidades de tiempo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457200" y="2057400"/>
            <a:ext cx="4572000" cy="251460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228600" y="5029200"/>
            <a:ext cx="960120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96640" y="228240"/>
            <a:ext cx="748980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arga de un Circuito R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28240" y="914040"/>
            <a:ext cx="937260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6840" indent="-29052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66840"/>
                <a:tab algn="l" pos="479520"/>
                <a:tab algn="l" pos="936720"/>
                <a:tab algn="l" pos="1393920"/>
                <a:tab algn="l" pos="1851120"/>
                <a:tab algn="l" pos="2308320"/>
                <a:tab algn="l" pos="2765520"/>
                <a:tab algn="l" pos="3222720"/>
                <a:tab algn="l" pos="3679920"/>
                <a:tab algn="l" pos="4137120"/>
                <a:tab algn="l" pos="4594320"/>
                <a:tab algn="l" pos="5051520"/>
                <a:tab algn="l" pos="5508720"/>
                <a:tab algn="l" pos="5965920"/>
                <a:tab algn="l" pos="6423120"/>
                <a:tab algn="l" pos="6880320"/>
                <a:tab algn="l" pos="7337520"/>
                <a:tab algn="l" pos="7794720"/>
                <a:tab algn="l" pos="8251920"/>
                <a:tab algn="l" pos="8709120"/>
                <a:tab algn="l" pos="916632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Gráficos de carga y corriente en función del tiempo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473040" y="1854360"/>
            <a:ext cx="3870360" cy="134748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5205240" y="1741320"/>
            <a:ext cx="3711600" cy="160020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38240" y="3429000"/>
            <a:ext cx="4205160" cy="3886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>
            <a:off x="5029200" y="3429000"/>
            <a:ext cx="4800600" cy="38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576360" y="539640"/>
            <a:ext cx="8696160" cy="12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densador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 dielectrico, es decir material no conductor (caucho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Vidrio, etc), caracterizado por un factor adimensional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κ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lam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stante dieléctr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295280" y="1763640"/>
            <a:ext cx="6905880" cy="41799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983880" y="6172200"/>
            <a:ext cx="7393680" cy="8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o V disminuye, y C=Q/V, entonces la capacidad C 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densador aumen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96640" y="228240"/>
            <a:ext cx="748980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escarga de un Circuito R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28240" y="914040"/>
            <a:ext cx="937260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6840" indent="-29052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66840"/>
                <a:tab algn="l" pos="479520"/>
                <a:tab algn="l" pos="936720"/>
                <a:tab algn="l" pos="1393920"/>
                <a:tab algn="l" pos="1851120"/>
                <a:tab algn="l" pos="2308320"/>
                <a:tab algn="l" pos="2765520"/>
                <a:tab algn="l" pos="3222720"/>
                <a:tab algn="l" pos="3679920"/>
                <a:tab algn="l" pos="4137120"/>
                <a:tab algn="l" pos="4594320"/>
                <a:tab algn="l" pos="5051520"/>
                <a:tab algn="l" pos="5508720"/>
                <a:tab algn="l" pos="5965920"/>
                <a:tab algn="l" pos="6423120"/>
                <a:tab algn="l" pos="6880320"/>
                <a:tab algn="l" pos="7337520"/>
                <a:tab algn="l" pos="7794720"/>
                <a:tab algn="l" pos="8251920"/>
                <a:tab algn="l" pos="8709120"/>
                <a:tab algn="l" pos="916632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Aplicamos la regla de Kirchhoff's a partir del instante  en que se cierra el interruptor S, considerando que ahora E=0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228600" y="2743200"/>
            <a:ext cx="4343400" cy="45720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4800600" y="1828800"/>
            <a:ext cx="4343400" cy="160020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4800600" y="3429000"/>
            <a:ext cx="4621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y reemplazando I=dq/dt, tenemo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4572000" y="4114800"/>
            <a:ext cx="5391000" cy="339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96640" y="228240"/>
            <a:ext cx="748980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escarga de un Circuito R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28240" y="914040"/>
            <a:ext cx="93726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6840" indent="-29052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66840"/>
                <a:tab algn="l" pos="479520"/>
                <a:tab algn="l" pos="936720"/>
                <a:tab algn="l" pos="1393920"/>
                <a:tab algn="l" pos="1851120"/>
                <a:tab algn="l" pos="2308320"/>
                <a:tab algn="l" pos="2765520"/>
                <a:tab algn="l" pos="3222720"/>
                <a:tab algn="l" pos="3679920"/>
                <a:tab algn="l" pos="4137120"/>
                <a:tab algn="l" pos="4594320"/>
                <a:tab algn="l" pos="5051520"/>
                <a:tab algn="l" pos="5508720"/>
                <a:tab algn="l" pos="5965920"/>
                <a:tab algn="l" pos="6423120"/>
                <a:tab algn="l" pos="6880320"/>
                <a:tab algn="l" pos="7337520"/>
                <a:tab algn="l" pos="7794720"/>
                <a:tab algn="l" pos="8251920"/>
                <a:tab algn="l" pos="8709120"/>
                <a:tab algn="l" pos="916632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Ahora la condición de borde para integrar, es que en t=0; q=Q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228600" y="2743200"/>
            <a:ext cx="4343400" cy="45720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4800600" y="1700280"/>
            <a:ext cx="4114800" cy="195732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3"/>
          <a:stretch/>
        </p:blipFill>
        <p:spPr>
          <a:xfrm>
            <a:off x="4572000" y="4343400"/>
            <a:ext cx="5257800" cy="25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96640" y="228240"/>
            <a:ext cx="748980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escarga de un Circuito R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28240" y="914040"/>
            <a:ext cx="93726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6840" indent="-29052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66840"/>
                <a:tab algn="l" pos="479520"/>
                <a:tab algn="l" pos="936720"/>
                <a:tab algn="l" pos="1393920"/>
                <a:tab algn="l" pos="1851120"/>
                <a:tab algn="l" pos="2308320"/>
                <a:tab algn="l" pos="2765520"/>
                <a:tab algn="l" pos="3222720"/>
                <a:tab algn="l" pos="3679920"/>
                <a:tab algn="l" pos="4137120"/>
                <a:tab algn="l" pos="4594320"/>
                <a:tab algn="l" pos="5051520"/>
                <a:tab algn="l" pos="5508720"/>
                <a:tab algn="l" pos="5965920"/>
                <a:tab algn="l" pos="6423120"/>
                <a:tab algn="l" pos="6880320"/>
                <a:tab algn="l" pos="7337520"/>
                <a:tab algn="l" pos="7794720"/>
                <a:tab algn="l" pos="8251920"/>
                <a:tab algn="l" pos="8709120"/>
                <a:tab algn="l" pos="916632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Ahora la condición de borde para integrar, es que en t=0; q=Q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228600" y="2743200"/>
            <a:ext cx="4343400" cy="457200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4572000" y="1600200"/>
            <a:ext cx="5257800" cy="160020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5029200" y="3657600"/>
            <a:ext cx="4572000" cy="160020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4"/>
          <a:stretch/>
        </p:blipFill>
        <p:spPr>
          <a:xfrm>
            <a:off x="4572000" y="5486400"/>
            <a:ext cx="525780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96640" y="228240"/>
            <a:ext cx="748980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escarga de un Circuito R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28240" y="914040"/>
            <a:ext cx="93726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6840" indent="-29052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66840"/>
                <a:tab algn="l" pos="479520"/>
                <a:tab algn="l" pos="936720"/>
                <a:tab algn="l" pos="1393920"/>
                <a:tab algn="l" pos="1851120"/>
                <a:tab algn="l" pos="2308320"/>
                <a:tab algn="l" pos="2765520"/>
                <a:tab algn="l" pos="3222720"/>
                <a:tab algn="l" pos="3679920"/>
                <a:tab algn="l" pos="4137120"/>
                <a:tab algn="l" pos="4594320"/>
                <a:tab algn="l" pos="5051520"/>
                <a:tab algn="l" pos="5508720"/>
                <a:tab algn="l" pos="5965920"/>
                <a:tab algn="l" pos="6423120"/>
                <a:tab algn="l" pos="6880320"/>
                <a:tab algn="l" pos="7337520"/>
                <a:tab algn="l" pos="7794720"/>
                <a:tab algn="l" pos="8251920"/>
                <a:tab algn="l" pos="8709120"/>
                <a:tab algn="l" pos="916632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Usamos la definición de corriente I=dq/dt, para obtener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228600" y="1600200"/>
            <a:ext cx="4343400" cy="3657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800600" y="1828800"/>
            <a:ext cx="5029200" cy="228600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82440" y="5257800"/>
            <a:ext cx="9977400" cy="22114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4800600" y="4343400"/>
            <a:ext cx="4800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con Io=Q/(RC) corriente inici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844560" y="770040"/>
            <a:ext cx="12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053360" y="457200"/>
            <a:ext cx="7841880" cy="8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 hecho, para considerar la capacidad de un condensador 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iene un dieléctrico, se usa la ecuació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172200" y="2971800"/>
            <a:ext cx="2449440" cy="14414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146240" y="1828800"/>
            <a:ext cx="3654360" cy="3456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649800" y="6172200"/>
            <a:ext cx="8061480" cy="8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onde k, es la constante dieléctrica del material que se usa ent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as placas del condensad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406520" y="936720"/>
            <a:ext cx="7267680" cy="56862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457200" y="7086600"/>
            <a:ext cx="47466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erza dieléctrica, ejemplo: torres de alta tens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685800" y="6629400"/>
            <a:ext cx="54072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erza dieléctric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ire = 3 x 10</a:t>
            </a:r>
            <a:r>
              <a:rPr b="0" lang="en-US" sz="2400" spc="-1" strike="noStrike" baseline="33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[V/m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286000" y="406440"/>
            <a:ext cx="5257800" cy="599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719280" y="1042920"/>
            <a:ext cx="2981160" cy="54291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603680" y="1835280"/>
            <a:ext cx="39906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ieléctrico sin campo eléctr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80280" y="4370400"/>
            <a:ext cx="407448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ieléctrico con campo eléctr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224000" y="250920"/>
            <a:ext cx="7467480" cy="30398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836640" y="3649680"/>
            <a:ext cx="7805520" cy="8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l campo resultante es menor que el original, y como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V=E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se mantiene constante, entonces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disminuy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3456000" y="4716360"/>
            <a:ext cx="1800360" cy="10810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270440" y="6170760"/>
            <a:ext cx="302148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inalmente C aumen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orge Hidalgo</cp:lastModifiedBy>
  <dcterms:modified xsi:type="dcterms:W3CDTF">2010-05-31T16:55:13Z</dcterms:modified>
  <cp:revision>1</cp:revision>
  <dc:subject/>
  <dc:title>Diapositiva 1</dc:title>
</cp:coreProperties>
</file>