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3377-4029-4005-A4B2-E8971284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EABE-300C-419D-8B7D-E27BDB56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F4B3-F234-4BE2-A63E-47A78CAD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F3AE-5F84-4CF3-B8F4-0BC7AFB9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E326-0C11-4281-8D5B-7CEBCFA4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D0BB-7634-4247-A961-EC6B8E1F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41F0-EFAA-4C47-AF45-599D35AC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F4D4-4810-48FC-BF04-63CF7C55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7806-466B-459C-9450-DCDF3FA5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D08D-17D7-49FF-BDC0-E2DEC89A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23C5-A24F-4345-B990-90F0DFA9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E37A-DC66-4C8D-8EAB-00393DEA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D9EB-E166-444B-82A5-9CC0DE730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izabeth Pavez A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fecto de la tasa de esti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609480" y="1219320"/>
          <a:ext cx="746784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746784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481440" y="1989000"/>
            <a:ext cx="26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fecto del cambio de tasa en esclerosis múlt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 rot="60000">
            <a:off x="250920" y="333360"/>
            <a:ext cx="52974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gistro ipsi vs registro con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2209680" y="1752480"/>
          <a:ext cx="5486400" cy="47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752480"/>
                    <a:ext cx="548640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fecto del cambio de fil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905120" y="1600200"/>
          <a:ext cx="515772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00200"/>
                    <a:ext cx="51577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"/>
          <p:cNvGraphicFramePr/>
          <p:nvPr/>
        </p:nvGraphicFramePr>
        <p:xfrm>
          <a:off x="1905120" y="1523880"/>
          <a:ext cx="5157720" cy="489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523880"/>
                    <a:ext cx="5157720" cy="489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"/>
          <p:cNvSpPr/>
          <p:nvPr/>
        </p:nvSpPr>
        <p:spPr>
          <a:xfrm>
            <a:off x="8380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fecto del cambio de fil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fecto de la edad y el género en el AB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304920" y="2057400"/>
          <a:ext cx="8839080" cy="41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839080" cy="41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ecto de la anestes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rcRect l="0" t="1574" r="0" b="0"/>
          <a:stretch/>
        </p:blipFill>
        <p:spPr>
          <a:xfrm>
            <a:off x="457200" y="1295280"/>
            <a:ext cx="84582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fecto de la temper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 rot="21540000">
            <a:off x="1523880" y="1168560"/>
            <a:ext cx="61722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 registrado durante una cirugía a corazón abierto con hipotermia en un a paciente femenina (A)  de 18 meses de edad y en un paciente masculino (B) de 56 años de edad. Ambas respuestas fueron obtenidas con clicks a 60 dB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3112920" cy="51055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5130720" y="1295280"/>
            <a:ext cx="2911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 rot="60000">
            <a:off x="468000" y="803160"/>
            <a:ext cx="784872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ÍA AUDI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990720" y="1523880"/>
          <a:ext cx="7061040" cy="46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7061040" cy="46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rcRect l="21955" t="8113" r="13432" b="29928"/>
          <a:stretch/>
        </p:blipFill>
        <p:spPr>
          <a:xfrm rot="21540000">
            <a:off x="1763280" y="550440"/>
            <a:ext cx="452772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acterísticas del BERA en hipoacusia de trans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rfología de la onda: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ivel umbral: elev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tencia de onda V: alarg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tencia interpeak I-III: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tencia interpeak I-V: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azón de amplitud V/I &gt;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aracterísticas del BERA en hipoacusia ne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rfología de la onda: alt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ivel umbral: elev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tencia de onda V: alarg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tencia interpeak I-III: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tencia interpeak I-V: alarg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azón de amplitud V/I &lt;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609480" y="685800"/>
            <a:ext cx="76168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ENSIBILIDAD DEL ABR PARA TUMORES ACÚSTICOS CONFIRMADOS Y TASA DE FALSOS POSITIVOS EN LESIONES COCLEARES </a:t>
            </a:r>
            <a:r>
              <a:rPr b="0" lang="es-ES_tradnl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(Musiek et al, 198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609480" y="2438280"/>
            <a:ext cx="7848360" cy="2667240"/>
            <a:chOff x="609480" y="2438280"/>
            <a:chExt cx="7848360" cy="2667240"/>
          </a:xfrm>
        </p:grpSpPr>
        <p:grpSp>
          <p:nvGrpSpPr>
            <p:cNvPr id="576" name=""/>
            <p:cNvGrpSpPr/>
            <p:nvPr/>
          </p:nvGrpSpPr>
          <p:grpSpPr>
            <a:xfrm>
              <a:off x="615240" y="2442240"/>
              <a:ext cx="7835400" cy="2658600"/>
              <a:chOff x="615240" y="2442240"/>
              <a:chExt cx="7835400" cy="2658600"/>
            </a:xfrm>
          </p:grpSpPr>
          <p:grpSp>
            <p:nvGrpSpPr>
              <p:cNvPr id="577" name=""/>
              <p:cNvGrpSpPr/>
              <p:nvPr/>
            </p:nvGrpSpPr>
            <p:grpSpPr>
              <a:xfrm>
                <a:off x="615240" y="2442240"/>
                <a:ext cx="1901880" cy="1016640"/>
                <a:chOff x="615240" y="2442240"/>
                <a:chExt cx="1901880" cy="101664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671760" y="2442240"/>
                  <a:ext cx="178848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AU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15240" y="2442240"/>
                  <a:ext cx="190188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2517480" y="2442240"/>
                <a:ext cx="1151280" cy="1016640"/>
                <a:chOff x="2517480" y="2442240"/>
                <a:chExt cx="1151280" cy="101664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2574360" y="2442240"/>
                  <a:ext cx="103752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AÑ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517480" y="2442240"/>
                  <a:ext cx="115128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3669480" y="2442240"/>
                <a:ext cx="1267200" cy="1016640"/>
                <a:chOff x="3669480" y="2442240"/>
                <a:chExt cx="1267200" cy="101664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3726000" y="2442240"/>
                  <a:ext cx="115380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TAS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ACIER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%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669480" y="2442240"/>
                  <a:ext cx="126720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4937040" y="2442240"/>
                <a:ext cx="984600" cy="1016640"/>
                <a:chOff x="4937040" y="2442240"/>
                <a:chExt cx="984600" cy="101664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4993920" y="2442240"/>
                  <a:ext cx="87012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937040" y="2442240"/>
                  <a:ext cx="98460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5922360" y="2442240"/>
                <a:ext cx="1407240" cy="1016640"/>
                <a:chOff x="5922360" y="2442240"/>
                <a:chExt cx="1407240" cy="101664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5978880" y="2442240"/>
                  <a:ext cx="129384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TASA FALSO POSI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%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5922360" y="2442240"/>
                  <a:ext cx="140724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7329960" y="2442240"/>
                <a:ext cx="1120680" cy="1016640"/>
                <a:chOff x="7329960" y="2442240"/>
                <a:chExt cx="1120680" cy="101664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7386840" y="2442240"/>
                  <a:ext cx="100620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329960" y="2442240"/>
                  <a:ext cx="112068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615240" y="3458880"/>
                <a:ext cx="1901880" cy="1641960"/>
                <a:chOff x="615240" y="3458880"/>
                <a:chExt cx="1901880" cy="164196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671760" y="3458880"/>
                  <a:ext cx="178848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Selter y Brackman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Clemis y McGe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Glascock et 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Hark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Eggermont et 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Terkildsen et 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Bauch et 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15240" y="3458880"/>
                  <a:ext cx="1901880" cy="16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2517480" y="3458880"/>
                <a:ext cx="1151280" cy="1641960"/>
                <a:chOff x="2517480" y="3458880"/>
                <a:chExt cx="1151280" cy="164196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2574360" y="3458880"/>
                  <a:ext cx="103752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97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97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97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98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98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98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98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517480" y="3458880"/>
                  <a:ext cx="1151280" cy="16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3669480" y="3458880"/>
                <a:ext cx="1267200" cy="1641960"/>
                <a:chOff x="3669480" y="3458880"/>
                <a:chExt cx="1267200" cy="164196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726000" y="3458880"/>
                  <a:ext cx="115380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2.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2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8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4.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5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6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6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669480" y="3458880"/>
                  <a:ext cx="1267200" cy="16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4937040" y="3458880"/>
                <a:ext cx="984600" cy="1641960"/>
                <a:chOff x="4937040" y="3458880"/>
                <a:chExt cx="984600" cy="164196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4993920" y="3458880"/>
                  <a:ext cx="87012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4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3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3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5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4937040" y="3458880"/>
                  <a:ext cx="984600" cy="16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5922360" y="3458880"/>
                <a:ext cx="1407240" cy="1641960"/>
                <a:chOff x="5922360" y="3458880"/>
                <a:chExt cx="1407240" cy="164196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5978880" y="3458880"/>
                  <a:ext cx="129384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922360" y="3458880"/>
                  <a:ext cx="1407240" cy="16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7329960" y="3458880"/>
                <a:ext cx="1120680" cy="1641960"/>
                <a:chOff x="7329960" y="3458880"/>
                <a:chExt cx="1120680" cy="164196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7386840" y="3458880"/>
                  <a:ext cx="100620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6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1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3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2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7329960" y="3458880"/>
                  <a:ext cx="1120680" cy="16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3" name=""/>
            <p:cNvSpPr/>
            <p:nvPr/>
          </p:nvSpPr>
          <p:spPr>
            <a:xfrm>
              <a:off x="609480" y="2438280"/>
              <a:ext cx="7848360" cy="26672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ción e interpretación del B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dentificación de las respue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resentación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rodu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gnfic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iltro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acterísticas del BERA en hipoacusia sens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rfología de la onda: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ivel umbral: elev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tencia de onda V: alarg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tencia interpeak I-III: acor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tencia interpeak I-IV: acor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azón de amplitud V/I &gt;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rcRect l="19963" t="10237" r="14428" b="20333"/>
          <a:stretch/>
        </p:blipFill>
        <p:spPr>
          <a:xfrm>
            <a:off x="2089080" y="0"/>
            <a:ext cx="470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rcRect l="17925" t="7103" r="15563" b="21646"/>
          <a:stretch/>
        </p:blipFill>
        <p:spPr>
          <a:xfrm rot="21540000">
            <a:off x="2484360" y="333000"/>
            <a:ext cx="4199040" cy="61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 pérdidas ascendentes no son relevantes para el B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1066680" y="1828800"/>
          <a:ext cx="6956640" cy="478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695664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ción e interpretación del B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umbral audi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bral de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po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ecificidad de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go de frecuencias del EEG y de los potenciales evocados audi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2138400"/>
            <a:ext cx="57517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0" y="5335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LATENCIA DE LA ONDA V EN PREMATUROS DE 6 MESES DE EDADSEGÚN TIMPANO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447920" y="1447920"/>
            <a:ext cx="6153120" cy="4852800"/>
            <a:chOff x="1447920" y="1447920"/>
            <a:chExt cx="6153120" cy="4852800"/>
          </a:xfrm>
        </p:grpSpPr>
        <p:grpSp>
          <p:nvGrpSpPr>
            <p:cNvPr id="631" name=""/>
            <p:cNvGrpSpPr/>
            <p:nvPr/>
          </p:nvGrpSpPr>
          <p:grpSpPr>
            <a:xfrm>
              <a:off x="1452600" y="1452240"/>
              <a:ext cx="6143760" cy="4842720"/>
              <a:chOff x="1452600" y="1452240"/>
              <a:chExt cx="6143760" cy="4842720"/>
            </a:xfrm>
          </p:grpSpPr>
          <p:grpSp>
            <p:nvGrpSpPr>
              <p:cNvPr id="632" name=""/>
              <p:cNvGrpSpPr/>
              <p:nvPr/>
            </p:nvGrpSpPr>
            <p:grpSpPr>
              <a:xfrm>
                <a:off x="1452600" y="1452240"/>
                <a:ext cx="1228680" cy="1279080"/>
                <a:chOff x="1452600" y="1452240"/>
                <a:chExt cx="1228680" cy="127908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1496880" y="1452240"/>
                  <a:ext cx="1140120" cy="12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452600" y="1452240"/>
                  <a:ext cx="1228680" cy="12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2681280" y="1452240"/>
                <a:ext cx="4915080" cy="639360"/>
                <a:chOff x="2681280" y="1452240"/>
                <a:chExt cx="4915080" cy="6393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2725920" y="1452240"/>
                  <a:ext cx="482580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TIMPANOGRA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681280" y="1452240"/>
                  <a:ext cx="49150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2681280" y="2091600"/>
                <a:ext cx="1228680" cy="639360"/>
                <a:chOff x="2681280" y="2091600"/>
                <a:chExt cx="1228680" cy="6393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2725920" y="209160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681280" y="209160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3909960" y="2091600"/>
                <a:ext cx="1228680" cy="639360"/>
                <a:chOff x="3909960" y="2091600"/>
                <a:chExt cx="1228680" cy="6393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954600" y="209160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909960" y="209160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138640" y="2091600"/>
                <a:ext cx="1229040" cy="639360"/>
                <a:chOff x="5138640" y="2091600"/>
                <a:chExt cx="1229040" cy="6393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83280" y="209160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138640" y="2091600"/>
                  <a:ext cx="12290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6367680" y="2091600"/>
                <a:ext cx="1228680" cy="639360"/>
                <a:chOff x="6367680" y="2091600"/>
                <a:chExt cx="1228680" cy="6393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6411960" y="209160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6367680" y="209160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1452600" y="2731320"/>
                <a:ext cx="1228680" cy="822240"/>
                <a:chOff x="1452600" y="2731320"/>
                <a:chExt cx="1228680" cy="82224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1496880" y="2731320"/>
                  <a:ext cx="11401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60 d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452600" y="2731320"/>
                  <a:ext cx="12286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2681280" y="2731320"/>
                <a:ext cx="1228680" cy="822240"/>
                <a:chOff x="2681280" y="2731320"/>
                <a:chExt cx="1228680" cy="82224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2725920" y="2731320"/>
                  <a:ext cx="1139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6.7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0.48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2681280" y="2731320"/>
                  <a:ext cx="12286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3909960" y="2731320"/>
                <a:ext cx="1228680" cy="822240"/>
                <a:chOff x="3909960" y="2731320"/>
                <a:chExt cx="1228680" cy="82224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3954600" y="2731320"/>
                  <a:ext cx="1139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6.7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0.31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909960" y="2731320"/>
                  <a:ext cx="12286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5138640" y="2731320"/>
                <a:ext cx="1229040" cy="822240"/>
                <a:chOff x="5138640" y="2731320"/>
                <a:chExt cx="1229040" cy="82224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5183280" y="2731320"/>
                  <a:ext cx="1139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7.0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0.40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138640" y="2731320"/>
                  <a:ext cx="12290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6367680" y="2731320"/>
                <a:ext cx="1228680" cy="822240"/>
                <a:chOff x="6367680" y="2731320"/>
                <a:chExt cx="1228680" cy="82224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6411960" y="2731320"/>
                  <a:ext cx="1139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7.2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0.60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367680" y="2731320"/>
                  <a:ext cx="12286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1452600" y="3553920"/>
                <a:ext cx="1228680" cy="821880"/>
                <a:chOff x="1452600" y="3553920"/>
                <a:chExt cx="1228680" cy="82188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1496880" y="3553920"/>
                  <a:ext cx="11401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30 d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452600" y="3553920"/>
                  <a:ext cx="122868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2681280" y="3553920"/>
                <a:ext cx="1228680" cy="821880"/>
                <a:chOff x="2681280" y="3553920"/>
                <a:chExt cx="1228680" cy="82188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2725920" y="3553920"/>
                  <a:ext cx="113976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7.8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0.48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681280" y="3553920"/>
                  <a:ext cx="122868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3909960" y="3553920"/>
                <a:ext cx="1228680" cy="821880"/>
                <a:chOff x="3909960" y="3553920"/>
                <a:chExt cx="1228680" cy="82188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3954600" y="3553920"/>
                  <a:ext cx="113976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8.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0.53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3909960" y="3553920"/>
                  <a:ext cx="122868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5138640" y="3553920"/>
                <a:ext cx="1229040" cy="821880"/>
                <a:chOff x="5138640" y="3553920"/>
                <a:chExt cx="1229040" cy="82188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5183280" y="3553920"/>
                  <a:ext cx="113976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8.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0.33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138640" y="3553920"/>
                  <a:ext cx="122904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6367680" y="3553920"/>
                <a:ext cx="1228680" cy="821880"/>
                <a:chOff x="6367680" y="3553920"/>
                <a:chExt cx="1228680" cy="82188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6411960" y="3553920"/>
                  <a:ext cx="113976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8.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0.44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367680" y="3553920"/>
                  <a:ext cx="122868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1452600" y="4376160"/>
                <a:ext cx="1228680" cy="639360"/>
                <a:chOff x="1452600" y="4376160"/>
                <a:chExt cx="1228680" cy="63936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1496880" y="4376160"/>
                  <a:ext cx="11401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Total Nº (109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452600" y="437616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2681280" y="4376160"/>
                <a:ext cx="1228680" cy="639360"/>
                <a:chOff x="2681280" y="4376160"/>
                <a:chExt cx="1228680" cy="63936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2725920" y="437616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6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681280" y="437616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3909960" y="4376160"/>
                <a:ext cx="1228680" cy="639360"/>
                <a:chOff x="3909960" y="4376160"/>
                <a:chExt cx="1228680" cy="63936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3954600" y="437616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909960" y="437616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5138640" y="4376160"/>
                <a:ext cx="1229040" cy="639360"/>
                <a:chOff x="5138640" y="4376160"/>
                <a:chExt cx="1229040" cy="63936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5183280" y="437616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138640" y="4376160"/>
                  <a:ext cx="12290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6367680" y="4376160"/>
                <a:ext cx="1228680" cy="639360"/>
                <a:chOff x="6367680" y="4376160"/>
                <a:chExt cx="1228680" cy="63936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6411960" y="437616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367680" y="437616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1452600" y="5015880"/>
                <a:ext cx="1228680" cy="639360"/>
                <a:chOff x="1452600" y="5015880"/>
                <a:chExt cx="1228680" cy="63936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1496880" y="5015880"/>
                  <a:ext cx="11401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% NR 60 d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452600" y="501588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2681280" y="5015880"/>
                <a:ext cx="1228680" cy="639360"/>
                <a:chOff x="2681280" y="5015880"/>
                <a:chExt cx="1228680" cy="63936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2725920" y="501588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2681280" y="501588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3909960" y="5015880"/>
                <a:ext cx="1228680" cy="639360"/>
                <a:chOff x="3909960" y="5015880"/>
                <a:chExt cx="1228680" cy="63936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3954600" y="501588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3909960" y="501588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5138640" y="5015880"/>
                <a:ext cx="1229040" cy="639360"/>
                <a:chOff x="5138640" y="5015880"/>
                <a:chExt cx="1229040" cy="63936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5183280" y="501588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7.1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138640" y="5015880"/>
                  <a:ext cx="12290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6367680" y="5015880"/>
                <a:ext cx="1228680" cy="639360"/>
                <a:chOff x="6367680" y="5015880"/>
                <a:chExt cx="1228680" cy="63936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6411960" y="501588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8.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367680" y="501588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1452600" y="5655600"/>
                <a:ext cx="1228680" cy="639360"/>
                <a:chOff x="1452600" y="5655600"/>
                <a:chExt cx="1228680" cy="63936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1496880" y="5655600"/>
                  <a:ext cx="11401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% NR 30 d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452600" y="565560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2681280" y="5655600"/>
                <a:ext cx="1228680" cy="639360"/>
                <a:chOff x="2681280" y="5655600"/>
                <a:chExt cx="1228680" cy="63936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2725920" y="565560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3.1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2681280" y="565560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3909960" y="5655600"/>
                <a:ext cx="1228680" cy="639360"/>
                <a:chOff x="3909960" y="5655600"/>
                <a:chExt cx="1228680" cy="63936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3954600" y="565560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3909960" y="565560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5138640" y="5655600"/>
                <a:ext cx="1229040" cy="639360"/>
                <a:chOff x="5138640" y="5655600"/>
                <a:chExt cx="1229040" cy="63936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5183280" y="565560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5.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138640" y="5655600"/>
                  <a:ext cx="12290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6367680" y="5655600"/>
                <a:ext cx="1228680" cy="639360"/>
                <a:chOff x="6367680" y="5655600"/>
                <a:chExt cx="1228680" cy="63936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6411960" y="5655600"/>
                  <a:ext cx="113976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36.8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367680" y="5655600"/>
                  <a:ext cx="12286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5" name=""/>
            <p:cNvSpPr/>
            <p:nvPr/>
          </p:nvSpPr>
          <p:spPr>
            <a:xfrm>
              <a:off x="1447920" y="1447920"/>
              <a:ext cx="6153120" cy="4852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3240" y="5945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457200" y="304920"/>
            <a:ext cx="86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LATENCIA DE LA ONDA V EN PREMATUROS DE 18 MESE DE DAD SEGÚN TIMPANO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447920" y="1523880"/>
            <a:ext cx="6153120" cy="4853160"/>
            <a:chOff x="1447920" y="1523880"/>
            <a:chExt cx="6153120" cy="4853160"/>
          </a:xfrm>
        </p:grpSpPr>
        <p:grpSp>
          <p:nvGrpSpPr>
            <p:cNvPr id="729" name=""/>
            <p:cNvGrpSpPr/>
            <p:nvPr/>
          </p:nvGrpSpPr>
          <p:grpSpPr>
            <a:xfrm>
              <a:off x="1452600" y="1528560"/>
              <a:ext cx="6143760" cy="4843440"/>
              <a:chOff x="1452600" y="1528560"/>
              <a:chExt cx="6143760" cy="4843440"/>
            </a:xfrm>
          </p:grpSpPr>
          <p:grpSp>
            <p:nvGrpSpPr>
              <p:cNvPr id="730" name=""/>
              <p:cNvGrpSpPr/>
              <p:nvPr/>
            </p:nvGrpSpPr>
            <p:grpSpPr>
              <a:xfrm>
                <a:off x="1452600" y="1528560"/>
                <a:ext cx="1228680" cy="1279440"/>
                <a:chOff x="1452600" y="1528560"/>
                <a:chExt cx="1228680" cy="127944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1496880" y="1528560"/>
                  <a:ext cx="1140120" cy="127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452600" y="1528560"/>
                  <a:ext cx="1228680" cy="127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2681280" y="1528560"/>
                <a:ext cx="4915080" cy="639720"/>
                <a:chOff x="2681280" y="1528560"/>
                <a:chExt cx="4915080" cy="6397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2725920" y="1528560"/>
                  <a:ext cx="4825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TIMPANOGRA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2681280" y="1528560"/>
                  <a:ext cx="49150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2681280" y="2168280"/>
                <a:ext cx="1228680" cy="639720"/>
                <a:chOff x="2681280" y="2168280"/>
                <a:chExt cx="1228680" cy="6397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2725920" y="216828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2681280" y="216828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3909960" y="2168280"/>
                <a:ext cx="1228680" cy="639720"/>
                <a:chOff x="3909960" y="2168280"/>
                <a:chExt cx="1228680" cy="6397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954600" y="216828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909960" y="216828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5138640" y="2168280"/>
                <a:ext cx="1229040" cy="639720"/>
                <a:chOff x="5138640" y="2168280"/>
                <a:chExt cx="1229040" cy="6397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5183280" y="216828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138640" y="2168280"/>
                  <a:ext cx="1229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6367680" y="2168280"/>
                <a:ext cx="1228680" cy="639720"/>
                <a:chOff x="6367680" y="2168280"/>
                <a:chExt cx="1228680" cy="6397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6411960" y="216828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367680" y="216828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1452600" y="2808000"/>
                <a:ext cx="1228680" cy="822600"/>
                <a:chOff x="1452600" y="2808000"/>
                <a:chExt cx="1228680" cy="82260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1496880" y="2808000"/>
                  <a:ext cx="11401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60 d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452600" y="2808000"/>
                  <a:ext cx="122868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2681280" y="2808000"/>
                <a:ext cx="1228680" cy="822600"/>
                <a:chOff x="2681280" y="2808000"/>
                <a:chExt cx="1228680" cy="82260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2725920" y="2808000"/>
                  <a:ext cx="11397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6.3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(0.31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2681280" y="2808000"/>
                  <a:ext cx="122868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3909960" y="2808000"/>
                <a:ext cx="1228680" cy="822600"/>
                <a:chOff x="3909960" y="2808000"/>
                <a:chExt cx="1228680" cy="82260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3954600" y="2808000"/>
                  <a:ext cx="11397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6.3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(0.50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909960" y="2808000"/>
                  <a:ext cx="122868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5138640" y="2808000"/>
                <a:ext cx="1229040" cy="822600"/>
                <a:chOff x="5138640" y="2808000"/>
                <a:chExt cx="1229040" cy="82260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5183280" y="2808000"/>
                  <a:ext cx="11397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6.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(0.59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138640" y="2808000"/>
                  <a:ext cx="122904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6367680" y="2808000"/>
                <a:ext cx="1228680" cy="822600"/>
                <a:chOff x="6367680" y="2808000"/>
                <a:chExt cx="1228680" cy="82260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6411960" y="2808000"/>
                  <a:ext cx="11397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7.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(0.57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6367680" y="2808000"/>
                  <a:ext cx="122868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1452600" y="3630600"/>
                <a:ext cx="1228680" cy="822240"/>
                <a:chOff x="1452600" y="3630600"/>
                <a:chExt cx="1228680" cy="82224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1496880" y="3630600"/>
                  <a:ext cx="11401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30 d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452600" y="3630600"/>
                  <a:ext cx="12286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2681280" y="3630600"/>
                <a:ext cx="1228680" cy="822240"/>
                <a:chOff x="2681280" y="3630600"/>
                <a:chExt cx="1228680" cy="82224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2725920" y="3630600"/>
                  <a:ext cx="1139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7.6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(0.38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2681280" y="3630600"/>
                  <a:ext cx="12286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3909960" y="3630600"/>
                <a:ext cx="1228680" cy="822240"/>
                <a:chOff x="3909960" y="3630600"/>
                <a:chExt cx="1228680" cy="82224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3954600" y="3630600"/>
                  <a:ext cx="1139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7.6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(0.56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3909960" y="3630600"/>
                  <a:ext cx="12286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5138640" y="3630600"/>
                <a:ext cx="1229040" cy="822240"/>
                <a:chOff x="5138640" y="3630600"/>
                <a:chExt cx="1229040" cy="82224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5183280" y="3630600"/>
                  <a:ext cx="1139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7.1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(0.37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138640" y="3630600"/>
                  <a:ext cx="12290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6367680" y="3630600"/>
                <a:ext cx="1228680" cy="822240"/>
                <a:chOff x="6367680" y="3630600"/>
                <a:chExt cx="1228680" cy="82224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6411960" y="3630600"/>
                  <a:ext cx="1139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8.5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(0.54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367680" y="3630600"/>
                  <a:ext cx="12286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1452600" y="4452840"/>
                <a:ext cx="1228680" cy="639720"/>
                <a:chOff x="1452600" y="4452840"/>
                <a:chExt cx="1228680" cy="6397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1496880" y="4452840"/>
                  <a:ext cx="11401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Total Nº (109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452600" y="445284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2681280" y="4452840"/>
                <a:ext cx="1228680" cy="639720"/>
                <a:chOff x="2681280" y="4452840"/>
                <a:chExt cx="1228680" cy="6397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2725920" y="445284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4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2681280" y="445284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3909960" y="4452840"/>
                <a:ext cx="1228680" cy="639720"/>
                <a:chOff x="3909960" y="4452840"/>
                <a:chExt cx="1228680" cy="6397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3954600" y="445284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3909960" y="445284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5138640" y="4452840"/>
                <a:ext cx="1229040" cy="639720"/>
                <a:chOff x="5138640" y="4452840"/>
                <a:chExt cx="1229040" cy="6397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5183280" y="445284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138640" y="4452840"/>
                  <a:ext cx="1229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6367680" y="4452840"/>
                <a:ext cx="1228680" cy="639720"/>
                <a:chOff x="6367680" y="4452840"/>
                <a:chExt cx="1228680" cy="6397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6411960" y="445284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6367680" y="445284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1452600" y="5092560"/>
                <a:ext cx="1228680" cy="639720"/>
                <a:chOff x="1452600" y="5092560"/>
                <a:chExt cx="1228680" cy="6397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1496880" y="5092560"/>
                  <a:ext cx="11401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% NR 60 d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1452600" y="509256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2681280" y="5092560"/>
                <a:ext cx="1228680" cy="639720"/>
                <a:chOff x="2681280" y="5092560"/>
                <a:chExt cx="1228680" cy="6397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2725920" y="509256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4.1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2681280" y="509256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3909960" y="5092560"/>
                <a:ext cx="1228680" cy="639720"/>
                <a:chOff x="3909960" y="5092560"/>
                <a:chExt cx="1228680" cy="6397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3954600" y="509256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3909960" y="509256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138640" y="5092560"/>
                <a:ext cx="1229040" cy="639720"/>
                <a:chOff x="5138640" y="5092560"/>
                <a:chExt cx="1229040" cy="6397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183280" y="509256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138640" y="5092560"/>
                  <a:ext cx="1229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367680" y="5092560"/>
                <a:ext cx="1228680" cy="639720"/>
                <a:chOff x="6367680" y="5092560"/>
                <a:chExt cx="1228680" cy="6397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411960" y="509256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367680" y="509256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1452600" y="5732280"/>
                <a:ext cx="1228680" cy="639720"/>
                <a:chOff x="1452600" y="5732280"/>
                <a:chExt cx="1228680" cy="6397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1496880" y="5732280"/>
                  <a:ext cx="11401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% NR 30 d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452600" y="573228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681280" y="5732280"/>
                <a:ext cx="1228680" cy="639720"/>
                <a:chOff x="2681280" y="5732280"/>
                <a:chExt cx="1228680" cy="6397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2725920" y="573228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6.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681280" y="573228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3909960" y="5732280"/>
                <a:ext cx="1228680" cy="639720"/>
                <a:chOff x="3909960" y="5732280"/>
                <a:chExt cx="1228680" cy="6397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3954600" y="573228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0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3909960" y="573228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5138640" y="5732280"/>
                <a:ext cx="1229040" cy="639720"/>
                <a:chOff x="5138640" y="5732280"/>
                <a:chExt cx="1229040" cy="6397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183280" y="573228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9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138640" y="5732280"/>
                  <a:ext cx="1229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6367680" y="5732280"/>
                <a:ext cx="1228680" cy="639720"/>
                <a:chOff x="6367680" y="5732280"/>
                <a:chExt cx="1228680" cy="6397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6411960" y="5732280"/>
                  <a:ext cx="1139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55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367680" y="5732280"/>
                  <a:ext cx="1228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23" name=""/>
            <p:cNvSpPr/>
            <p:nvPr/>
          </p:nvSpPr>
          <p:spPr>
            <a:xfrm>
              <a:off x="1447920" y="1523880"/>
              <a:ext cx="6153120" cy="485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ción e interpretación del B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terminación y evaluación de paráme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pl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ferencias intera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" descr=""/>
          <p:cNvPicPr/>
          <p:nvPr/>
        </p:nvPicPr>
        <p:blipFill>
          <a:blip r:embed="rId1"/>
          <a:stretch/>
        </p:blipFill>
        <p:spPr>
          <a:xfrm>
            <a:off x="4038480" y="380880"/>
            <a:ext cx="4357800" cy="594360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3252960" cy="327672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2340000" y="2060640"/>
            <a:ext cx="533520" cy="29718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80880" y="838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ERA con estímulo 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RA en neon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das anch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queñas amplit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ncias lar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lor absoluto del tiempo de conducción central y su diferencia intera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 OLVIDAR CONSIDERAR LAS DIFERENCIA DE LADO  DE UMBRAL AUDI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l BERA es un método diagnóstico objetivo pero sus mediciones tiene numerosas fuentes de err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 calidad del registro debe ser optimizada y estima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 mezcle la calidad del registro con la respues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alidad del registro  se describe por el ruido res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alidad de la respuesta se define por la reproduci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ímulo cl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38080" y="1143000"/>
          <a:ext cx="7467840" cy="53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7467840" cy="53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ímulo cl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62120" y="990720"/>
          <a:ext cx="7619760" cy="52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761976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ERA nor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66680" y="1371600"/>
          <a:ext cx="716292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16292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fecto del tipo de fo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2514600"/>
          <a:ext cx="8153280" cy="31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4600"/>
                    <a:ext cx="815328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38088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NCIAS NORMALES DE ABR SEGÚN LABORATO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600" y="1447920"/>
            <a:ext cx="9372600" cy="4768560"/>
            <a:chOff x="-228600" y="1447920"/>
            <a:chExt cx="9372600" cy="4768560"/>
          </a:xfrm>
        </p:grpSpPr>
        <p:grpSp>
          <p:nvGrpSpPr>
            <p:cNvPr id="62" name=""/>
            <p:cNvGrpSpPr/>
            <p:nvPr/>
          </p:nvGrpSpPr>
          <p:grpSpPr>
            <a:xfrm>
              <a:off x="-223920" y="1449720"/>
              <a:ext cx="9363600" cy="4763880"/>
              <a:chOff x="-223920" y="1449720"/>
              <a:chExt cx="9363600" cy="476388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-223920" y="1449720"/>
                <a:ext cx="1593720" cy="732960"/>
                <a:chOff x="-223920" y="1449720"/>
                <a:chExt cx="1593720" cy="7329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-181440" y="1449720"/>
                  <a:ext cx="1508760" cy="73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Laboratori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-223920" y="1449720"/>
                  <a:ext cx="1593720" cy="73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1369800" y="1449720"/>
                <a:ext cx="860760" cy="732960"/>
                <a:chOff x="1369800" y="1449720"/>
                <a:chExt cx="860760" cy="7329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412280" y="1449720"/>
                  <a:ext cx="775440" cy="73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9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Intensidad de estímulo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9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(dB SPL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369800" y="1449720"/>
                  <a:ext cx="860760" cy="73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2230920" y="1449720"/>
                <a:ext cx="860760" cy="732960"/>
                <a:chOff x="2230920" y="1449720"/>
                <a:chExt cx="860760" cy="73296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273400" y="1449720"/>
                  <a:ext cx="775440" cy="73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Polaridad del estímulo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230920" y="1449720"/>
                  <a:ext cx="860760" cy="73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3091680" y="1449720"/>
                <a:ext cx="860760" cy="732960"/>
                <a:chOff x="3091680" y="1449720"/>
                <a:chExt cx="860760" cy="73296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3134160" y="1449720"/>
                  <a:ext cx="775440" cy="73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9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Tasa de repetición (cps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91680" y="1449720"/>
                  <a:ext cx="860760" cy="73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3952800" y="1449720"/>
                <a:ext cx="947520" cy="732960"/>
                <a:chOff x="3952800" y="1449720"/>
                <a:chExt cx="947520" cy="7329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3995280" y="1449720"/>
                  <a:ext cx="862200" cy="73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Filtr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(Hz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52800" y="1449720"/>
                  <a:ext cx="947520" cy="73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900320" y="1449720"/>
                <a:ext cx="4239000" cy="366480"/>
                <a:chOff x="4900320" y="1449720"/>
                <a:chExt cx="4239000" cy="3664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942800" y="1449720"/>
                  <a:ext cx="415368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Latencia de la on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(mseg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900320" y="1449720"/>
                  <a:ext cx="423900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900320" y="1816200"/>
                <a:ext cx="602280" cy="366120"/>
                <a:chOff x="4900320" y="1816200"/>
                <a:chExt cx="602280" cy="36612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4942800" y="181620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900320" y="181620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5502960" y="1816200"/>
                <a:ext cx="516960" cy="366120"/>
                <a:chOff x="5502960" y="1816200"/>
                <a:chExt cx="516960" cy="3661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5545080" y="181620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I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5502960" y="181620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019920" y="1816200"/>
                <a:ext cx="516960" cy="366120"/>
                <a:chOff x="6019920" y="1816200"/>
                <a:chExt cx="516960" cy="3661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062040" y="181620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II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019920" y="181620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6536880" y="1816200"/>
                <a:ext cx="517320" cy="366120"/>
                <a:chOff x="6536880" y="1816200"/>
                <a:chExt cx="517320" cy="366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6579360" y="181620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I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536880" y="181620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7054560" y="1816200"/>
                <a:ext cx="516960" cy="366120"/>
                <a:chOff x="7054560" y="1816200"/>
                <a:chExt cx="516960" cy="3661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7096680" y="181620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054560" y="181620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7571520" y="1816200"/>
                <a:ext cx="533880" cy="366120"/>
                <a:chOff x="7571520" y="1816200"/>
                <a:chExt cx="533880" cy="3661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7613640" y="181620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I-II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571520" y="181620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8105400" y="1816200"/>
                <a:ext cx="523080" cy="366120"/>
                <a:chOff x="8105400" y="1816200"/>
                <a:chExt cx="523080" cy="3661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8147520" y="181620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III-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105400" y="181620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8628840" y="1816200"/>
                <a:ext cx="510840" cy="366120"/>
                <a:chOff x="8628840" y="1816200"/>
                <a:chExt cx="510840" cy="366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8670960" y="181620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I-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628840" y="181620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-223920" y="2182680"/>
                <a:ext cx="1593720" cy="366120"/>
                <a:chOff x="-223920" y="2182680"/>
                <a:chExt cx="1593720" cy="3661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-181440" y="2182680"/>
                  <a:ext cx="1508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Jewett y Williston (1971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-223920" y="2182680"/>
                  <a:ext cx="15937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1369800" y="2182680"/>
                <a:ext cx="860760" cy="366120"/>
                <a:chOff x="1369800" y="2182680"/>
                <a:chExt cx="860760" cy="3661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412280" y="218268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60 - 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369800" y="218268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2230920" y="2182680"/>
                <a:ext cx="860760" cy="366120"/>
                <a:chOff x="2230920" y="2182680"/>
                <a:chExt cx="860760" cy="366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273400" y="218268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230920" y="218268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3091680" y="2182680"/>
                <a:ext cx="860760" cy="366120"/>
                <a:chOff x="3091680" y="2182680"/>
                <a:chExt cx="860760" cy="366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134160" y="218268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091680" y="218268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3952800" y="2182680"/>
                <a:ext cx="947520" cy="366120"/>
                <a:chOff x="3952800" y="2182680"/>
                <a:chExt cx="947520" cy="3661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995280" y="2182680"/>
                  <a:ext cx="86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10-10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952800" y="2182680"/>
                  <a:ext cx="9475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900320" y="2182680"/>
                <a:ext cx="602280" cy="366120"/>
                <a:chOff x="4900320" y="2182680"/>
                <a:chExt cx="602280" cy="3661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942800" y="218268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900320" y="218268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502960" y="2182680"/>
                <a:ext cx="516960" cy="366120"/>
                <a:chOff x="5502960" y="2182680"/>
                <a:chExt cx="516960" cy="3661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545080" y="218268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2.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502960" y="218268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6019920" y="2182680"/>
                <a:ext cx="516960" cy="366120"/>
                <a:chOff x="6019920" y="2182680"/>
                <a:chExt cx="516960" cy="3661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6062040" y="218268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3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019920" y="218268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6536880" y="2182680"/>
                <a:ext cx="517320" cy="366120"/>
                <a:chOff x="6536880" y="2182680"/>
                <a:chExt cx="517320" cy="3661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6579360" y="218268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4.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536880" y="218268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054560" y="2182680"/>
                <a:ext cx="516960" cy="366120"/>
                <a:chOff x="7054560" y="2182680"/>
                <a:chExt cx="516960" cy="3661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7096680" y="218268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054560" y="218268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571520" y="2182680"/>
                <a:ext cx="533880" cy="366120"/>
                <a:chOff x="7571520" y="2182680"/>
                <a:chExt cx="533880" cy="3661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613640" y="218268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571520" y="218268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8105400" y="2182680"/>
                <a:ext cx="523080" cy="366120"/>
                <a:chOff x="8105400" y="2182680"/>
                <a:chExt cx="523080" cy="3661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8147520" y="218268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8105400" y="218268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8628840" y="2182680"/>
                <a:ext cx="510840" cy="366120"/>
                <a:chOff x="8628840" y="2182680"/>
                <a:chExt cx="510840" cy="3661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8670960" y="218268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8628840" y="218268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-223920" y="2549160"/>
                <a:ext cx="1593720" cy="366120"/>
                <a:chOff x="-223920" y="2549160"/>
                <a:chExt cx="1593720" cy="3661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-181440" y="2549160"/>
                  <a:ext cx="1508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Lev y Sohmer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1972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-223920" y="2549160"/>
                  <a:ext cx="15937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369800" y="2549160"/>
                <a:ext cx="860760" cy="366120"/>
                <a:chOff x="1369800" y="2549160"/>
                <a:chExt cx="860760" cy="3661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412280" y="254916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6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369800" y="254916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230920" y="2549160"/>
                <a:ext cx="860760" cy="366120"/>
                <a:chOff x="2230920" y="2549160"/>
                <a:chExt cx="860760" cy="3661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273400" y="254916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230920" y="254916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091680" y="2549160"/>
                <a:ext cx="860760" cy="366120"/>
                <a:chOff x="3091680" y="2549160"/>
                <a:chExt cx="860760" cy="3661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134160" y="254916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091680" y="254916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3952800" y="2549160"/>
                <a:ext cx="947520" cy="366120"/>
                <a:chOff x="3952800" y="2549160"/>
                <a:chExt cx="947520" cy="3661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995280" y="2549160"/>
                  <a:ext cx="86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250-5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952800" y="2549160"/>
                  <a:ext cx="9475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900320" y="2549160"/>
                <a:ext cx="602280" cy="366120"/>
                <a:chOff x="4900320" y="2549160"/>
                <a:chExt cx="602280" cy="3661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942800" y="254916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900320" y="254916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502960" y="2549160"/>
                <a:ext cx="516960" cy="366120"/>
                <a:chOff x="5502960" y="2549160"/>
                <a:chExt cx="516960" cy="3661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545080" y="254916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2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502960" y="254916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019920" y="2549160"/>
                <a:ext cx="516960" cy="366120"/>
                <a:chOff x="6019920" y="2549160"/>
                <a:chExt cx="516960" cy="3661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062040" y="254916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3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019920" y="254916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536880" y="2549160"/>
                <a:ext cx="517320" cy="366120"/>
                <a:chOff x="6536880" y="2549160"/>
                <a:chExt cx="517320" cy="366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579360" y="254916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536880" y="254916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7054560" y="2549160"/>
                <a:ext cx="516960" cy="366120"/>
                <a:chOff x="7054560" y="2549160"/>
                <a:chExt cx="516960" cy="3661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7096680" y="254916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054560" y="254916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7571520" y="2549160"/>
                <a:ext cx="533880" cy="366120"/>
                <a:chOff x="7571520" y="2549160"/>
                <a:chExt cx="533880" cy="3661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613640" y="254916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571520" y="254916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8105400" y="2549160"/>
                <a:ext cx="523080" cy="366120"/>
                <a:chOff x="8105400" y="2549160"/>
                <a:chExt cx="523080" cy="3661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8147520" y="254916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105400" y="254916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8628840" y="2549160"/>
                <a:ext cx="510840" cy="366120"/>
                <a:chOff x="8628840" y="2549160"/>
                <a:chExt cx="510840" cy="366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8670960" y="254916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628840" y="254916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-223920" y="2915640"/>
                <a:ext cx="1593720" cy="366480"/>
                <a:chOff x="-223920" y="2915640"/>
                <a:chExt cx="1593720" cy="3664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-181440" y="2915640"/>
                  <a:ext cx="15087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Picton et 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1974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-223920" y="2915640"/>
                  <a:ext cx="159372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369800" y="2915640"/>
                <a:ext cx="860760" cy="366480"/>
                <a:chOff x="1369800" y="2915640"/>
                <a:chExt cx="860760" cy="3664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1412280" y="2915640"/>
                  <a:ext cx="7754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369800" y="2915640"/>
                  <a:ext cx="8607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230920" y="2915640"/>
                <a:ext cx="860760" cy="366480"/>
                <a:chOff x="2230920" y="2915640"/>
                <a:chExt cx="860760" cy="3664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273400" y="2915640"/>
                  <a:ext cx="7754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30920" y="2915640"/>
                  <a:ext cx="8607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091680" y="2915640"/>
                <a:ext cx="860760" cy="366480"/>
                <a:chOff x="3091680" y="2915640"/>
                <a:chExt cx="860760" cy="36648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134160" y="2915640"/>
                  <a:ext cx="7754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091680" y="2915640"/>
                  <a:ext cx="8607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3952800" y="2915640"/>
                <a:ext cx="947520" cy="366480"/>
                <a:chOff x="3952800" y="2915640"/>
                <a:chExt cx="947520" cy="3664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3995280" y="2915640"/>
                  <a:ext cx="8622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10-3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952800" y="2915640"/>
                  <a:ext cx="94752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4900320" y="2915640"/>
                <a:ext cx="602280" cy="366480"/>
                <a:chOff x="4900320" y="2915640"/>
                <a:chExt cx="602280" cy="3664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4942800" y="2915640"/>
                  <a:ext cx="5166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900320" y="2915640"/>
                  <a:ext cx="60228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502960" y="2915640"/>
                <a:ext cx="516960" cy="366480"/>
                <a:chOff x="5502960" y="2915640"/>
                <a:chExt cx="516960" cy="3664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545080" y="2915640"/>
                  <a:ext cx="4316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2.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02960" y="2915640"/>
                  <a:ext cx="5169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019920" y="2915640"/>
                <a:ext cx="516960" cy="366480"/>
                <a:chOff x="6019920" y="2915640"/>
                <a:chExt cx="516960" cy="3664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062040" y="2915640"/>
                  <a:ext cx="432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3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019920" y="2915640"/>
                  <a:ext cx="5169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536880" y="2915640"/>
                <a:ext cx="517320" cy="366480"/>
                <a:chOff x="6536880" y="2915640"/>
                <a:chExt cx="517320" cy="3664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579360" y="2915640"/>
                  <a:ext cx="4316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5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536880" y="2915640"/>
                  <a:ext cx="51732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7054560" y="2915640"/>
                <a:ext cx="516960" cy="366480"/>
                <a:chOff x="7054560" y="2915640"/>
                <a:chExt cx="516960" cy="3664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7096680" y="2915640"/>
                  <a:ext cx="4316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054560" y="2915640"/>
                  <a:ext cx="5169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571520" y="2915640"/>
                <a:ext cx="533880" cy="366480"/>
                <a:chOff x="7571520" y="2915640"/>
                <a:chExt cx="533880" cy="3664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7613640" y="2915640"/>
                  <a:ext cx="4485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571520" y="2915640"/>
                  <a:ext cx="53388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8105400" y="2915640"/>
                <a:ext cx="523080" cy="366480"/>
                <a:chOff x="8105400" y="2915640"/>
                <a:chExt cx="523080" cy="3664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8147520" y="2915640"/>
                  <a:ext cx="4377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105400" y="2915640"/>
                  <a:ext cx="52308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8628840" y="2915640"/>
                <a:ext cx="510840" cy="366480"/>
                <a:chOff x="8628840" y="2915640"/>
                <a:chExt cx="510840" cy="3664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8670960" y="2915640"/>
                  <a:ext cx="42588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8628840" y="2915640"/>
                  <a:ext cx="51084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-223920" y="3282120"/>
                <a:ext cx="1593720" cy="366120"/>
                <a:chOff x="-223920" y="3282120"/>
                <a:chExt cx="1593720" cy="3661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-181440" y="3282120"/>
                  <a:ext cx="1508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Starr y Achor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1975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-223920" y="3282120"/>
                  <a:ext cx="15937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369800" y="3282120"/>
                <a:ext cx="860760" cy="366120"/>
                <a:chOff x="1369800" y="3282120"/>
                <a:chExt cx="860760" cy="3661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412280" y="328212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6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369800" y="328212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230920" y="3282120"/>
                <a:ext cx="860760" cy="366120"/>
                <a:chOff x="2230920" y="3282120"/>
                <a:chExt cx="860760" cy="3661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273400" y="328212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Al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230920" y="328212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091680" y="3282120"/>
                <a:ext cx="860760" cy="366120"/>
                <a:chOff x="3091680" y="3282120"/>
                <a:chExt cx="860760" cy="3661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134160" y="328212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091680" y="328212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3952800" y="3282120"/>
                <a:ext cx="947520" cy="366120"/>
                <a:chOff x="3952800" y="3282120"/>
                <a:chExt cx="947520" cy="3661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995280" y="3282120"/>
                  <a:ext cx="86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100-3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952800" y="3282120"/>
                  <a:ext cx="9475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900320" y="3282120"/>
                <a:ext cx="602280" cy="366120"/>
                <a:chOff x="4900320" y="3282120"/>
                <a:chExt cx="602280" cy="3661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4942800" y="328212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900320" y="328212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502960" y="3282120"/>
                <a:ext cx="516960" cy="366120"/>
                <a:chOff x="5502960" y="3282120"/>
                <a:chExt cx="516960" cy="3661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545080" y="328212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2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502960" y="328212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019920" y="3282120"/>
                <a:ext cx="516960" cy="366120"/>
                <a:chOff x="6019920" y="3282120"/>
                <a:chExt cx="516960" cy="3661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062040" y="328212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3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019920" y="328212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536880" y="3282120"/>
                <a:ext cx="517320" cy="366120"/>
                <a:chOff x="6536880" y="3282120"/>
                <a:chExt cx="517320" cy="3661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579360" y="328212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4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536880" y="328212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7054560" y="3282120"/>
                <a:ext cx="516960" cy="366120"/>
                <a:chOff x="7054560" y="3282120"/>
                <a:chExt cx="516960" cy="36612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096680" y="328212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054560" y="328212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7571520" y="3282120"/>
                <a:ext cx="533880" cy="366120"/>
                <a:chOff x="7571520" y="3282120"/>
                <a:chExt cx="533880" cy="36612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7613640" y="328212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571520" y="328212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8105400" y="3282120"/>
                <a:ext cx="523080" cy="366120"/>
                <a:chOff x="8105400" y="3282120"/>
                <a:chExt cx="523080" cy="3661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8147520" y="328212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105400" y="328212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8628840" y="3282120"/>
                <a:ext cx="510840" cy="366120"/>
                <a:chOff x="8628840" y="3282120"/>
                <a:chExt cx="510840" cy="3661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8670960" y="328212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628840" y="328212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-223920" y="3648600"/>
                <a:ext cx="1593720" cy="366120"/>
                <a:chOff x="-223920" y="3648600"/>
                <a:chExt cx="1593720" cy="36612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-181440" y="3648600"/>
                  <a:ext cx="1508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Stockard y Rossiter (1977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-223920" y="3648600"/>
                  <a:ext cx="15937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1369800" y="3648600"/>
                <a:ext cx="860760" cy="366120"/>
                <a:chOff x="1369800" y="3648600"/>
                <a:chExt cx="860760" cy="36612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1412280" y="364860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369800" y="364860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230920" y="3648600"/>
                <a:ext cx="860760" cy="366120"/>
                <a:chOff x="2230920" y="3648600"/>
                <a:chExt cx="860760" cy="3661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273400" y="364860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Ra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230920" y="364860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091680" y="3648600"/>
                <a:ext cx="860760" cy="366120"/>
                <a:chOff x="3091680" y="3648600"/>
                <a:chExt cx="860760" cy="366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134160" y="364860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091680" y="364860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3952800" y="3648600"/>
                <a:ext cx="947520" cy="366120"/>
                <a:chOff x="3952800" y="3648600"/>
                <a:chExt cx="947520" cy="3661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995280" y="3648600"/>
                  <a:ext cx="86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100-3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952800" y="3648600"/>
                  <a:ext cx="9475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00320" y="3648600"/>
                <a:ext cx="602280" cy="366120"/>
                <a:chOff x="4900320" y="3648600"/>
                <a:chExt cx="602280" cy="3661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942800" y="364860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00320" y="364860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502960" y="3648600"/>
                <a:ext cx="516960" cy="366120"/>
                <a:chOff x="5502960" y="3648600"/>
                <a:chExt cx="516960" cy="3661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545080" y="364860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3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502960" y="364860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019920" y="3648600"/>
                <a:ext cx="516960" cy="366120"/>
                <a:chOff x="6019920" y="3648600"/>
                <a:chExt cx="516960" cy="3661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062040" y="364860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4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019920" y="364860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536880" y="3648600"/>
                <a:ext cx="517320" cy="366120"/>
                <a:chOff x="6536880" y="3648600"/>
                <a:chExt cx="517320" cy="366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579360" y="364860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5.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536880" y="364860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7054560" y="3648600"/>
                <a:ext cx="516960" cy="366120"/>
                <a:chOff x="7054560" y="3648600"/>
                <a:chExt cx="516960" cy="366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7096680" y="364860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054560" y="364860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7571520" y="3648600"/>
                <a:ext cx="533880" cy="366120"/>
                <a:chOff x="7571520" y="3648600"/>
                <a:chExt cx="533880" cy="366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7613640" y="364860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571520" y="364860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8105400" y="3648600"/>
                <a:ext cx="523080" cy="366120"/>
                <a:chOff x="8105400" y="3648600"/>
                <a:chExt cx="523080" cy="366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8147520" y="364860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1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105400" y="364860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628840" y="3648600"/>
                <a:ext cx="510840" cy="366120"/>
                <a:chOff x="8628840" y="3648600"/>
                <a:chExt cx="510840" cy="366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8670960" y="364860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4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628840" y="364860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-223920" y="4015080"/>
                <a:ext cx="1593720" cy="366120"/>
                <a:chOff x="-223920" y="4015080"/>
                <a:chExt cx="1593720" cy="366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-181440" y="4015080"/>
                  <a:ext cx="1508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Rosenhamer et al (1978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-223920" y="4015080"/>
                  <a:ext cx="15937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1369800" y="4015080"/>
                <a:ext cx="860760" cy="366120"/>
                <a:chOff x="1369800" y="4015080"/>
                <a:chExt cx="860760" cy="366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412280" y="401508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369800" y="401508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230920" y="4015080"/>
                <a:ext cx="860760" cy="366120"/>
                <a:chOff x="2230920" y="4015080"/>
                <a:chExt cx="860760" cy="366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273400" y="401508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230920" y="401508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091680" y="4015080"/>
                <a:ext cx="860760" cy="366120"/>
                <a:chOff x="3091680" y="4015080"/>
                <a:chExt cx="860760" cy="366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134160" y="401508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6.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091680" y="401508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3952800" y="4015080"/>
                <a:ext cx="947520" cy="366120"/>
                <a:chOff x="3952800" y="4015080"/>
                <a:chExt cx="947520" cy="366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3995280" y="4015080"/>
                  <a:ext cx="86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180-45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952800" y="4015080"/>
                  <a:ext cx="9475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900320" y="4015080"/>
                <a:ext cx="602280" cy="366120"/>
                <a:chOff x="4900320" y="4015080"/>
                <a:chExt cx="602280" cy="366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942800" y="401508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900320" y="401508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502960" y="4015080"/>
                <a:ext cx="516960" cy="366120"/>
                <a:chOff x="5502960" y="4015080"/>
                <a:chExt cx="516960" cy="366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5545080" y="401508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2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502960" y="401508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019920" y="4015080"/>
                <a:ext cx="516960" cy="366120"/>
                <a:chOff x="6019920" y="4015080"/>
                <a:chExt cx="516960" cy="366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062040" y="401508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3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019920" y="401508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6536880" y="4015080"/>
                <a:ext cx="517320" cy="366120"/>
                <a:chOff x="6536880" y="4015080"/>
                <a:chExt cx="517320" cy="366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6579360" y="401508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5.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36880" y="401508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7054560" y="4015080"/>
                <a:ext cx="516960" cy="366120"/>
                <a:chOff x="7054560" y="4015080"/>
                <a:chExt cx="516960" cy="366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7096680" y="401508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054560" y="401508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7571520" y="4015080"/>
                <a:ext cx="533880" cy="366120"/>
                <a:chOff x="7571520" y="4015080"/>
                <a:chExt cx="533880" cy="366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7613640" y="401508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.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571520" y="401508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8105400" y="4015080"/>
                <a:ext cx="523080" cy="366120"/>
                <a:chOff x="8105400" y="4015080"/>
                <a:chExt cx="523080" cy="366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8147520" y="401508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2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8105400" y="401508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8628840" y="4015080"/>
                <a:ext cx="510840" cy="366120"/>
                <a:chOff x="8628840" y="4015080"/>
                <a:chExt cx="510840" cy="366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8670960" y="401508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4.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8628840" y="401508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-223920" y="4381560"/>
                <a:ext cx="1593720" cy="366120"/>
                <a:chOff x="-223920" y="4381560"/>
                <a:chExt cx="1593720" cy="366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-181440" y="4381560"/>
                  <a:ext cx="1508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Row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1978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-223920" y="4381560"/>
                  <a:ext cx="15937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1369800" y="4381560"/>
                <a:ext cx="860760" cy="366120"/>
                <a:chOff x="1369800" y="4381560"/>
                <a:chExt cx="860760" cy="366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412280" y="438156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369800" y="438156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2230920" y="4381560"/>
                <a:ext cx="860760" cy="366120"/>
                <a:chOff x="2230920" y="4381560"/>
                <a:chExt cx="860760" cy="366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2273400" y="438156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230920" y="438156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3091680" y="4381560"/>
                <a:ext cx="860760" cy="366120"/>
                <a:chOff x="3091680" y="4381560"/>
                <a:chExt cx="860760" cy="366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134160" y="438156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091680" y="438156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3952800" y="4381560"/>
                <a:ext cx="947520" cy="366120"/>
                <a:chOff x="3952800" y="4381560"/>
                <a:chExt cx="947520" cy="366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3995280" y="4381560"/>
                  <a:ext cx="86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100-3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952800" y="4381560"/>
                  <a:ext cx="9475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4900320" y="4381560"/>
                <a:ext cx="602280" cy="366120"/>
                <a:chOff x="4900320" y="4381560"/>
                <a:chExt cx="602280" cy="366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4942800" y="438156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900320" y="438156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5502960" y="4381560"/>
                <a:ext cx="516960" cy="366120"/>
                <a:chOff x="5502960" y="4381560"/>
                <a:chExt cx="516960" cy="366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5545080" y="438156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2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502960" y="438156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6019920" y="4381560"/>
                <a:ext cx="516960" cy="366120"/>
                <a:chOff x="6019920" y="4381560"/>
                <a:chExt cx="516960" cy="366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6062040" y="438156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3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019920" y="438156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6536880" y="4381560"/>
                <a:ext cx="517320" cy="366120"/>
                <a:chOff x="6536880" y="4381560"/>
                <a:chExt cx="517320" cy="366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6579360" y="438156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5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536880" y="438156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7054560" y="4381560"/>
                <a:ext cx="516960" cy="366120"/>
                <a:chOff x="7054560" y="4381560"/>
                <a:chExt cx="516960" cy="366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7096680" y="438156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054560" y="438156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7571520" y="4381560"/>
                <a:ext cx="533880" cy="366120"/>
                <a:chOff x="7571520" y="4381560"/>
                <a:chExt cx="533880" cy="366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7613640" y="438156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1.9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571520" y="438156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8105400" y="4381560"/>
                <a:ext cx="523080" cy="366120"/>
                <a:chOff x="8105400" y="4381560"/>
                <a:chExt cx="523080" cy="366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8147520" y="438156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1.9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105400" y="438156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8628840" y="4381560"/>
                <a:ext cx="510840" cy="366120"/>
                <a:chOff x="8628840" y="4381560"/>
                <a:chExt cx="510840" cy="366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8670960" y="438156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3.9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628840" y="438156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-223920" y="4748040"/>
                <a:ext cx="1593720" cy="366480"/>
                <a:chOff x="-223920" y="4748040"/>
                <a:chExt cx="1593720" cy="36648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-181440" y="4748040"/>
                  <a:ext cx="15087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Gilyroy y Lin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1978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-223920" y="4748040"/>
                  <a:ext cx="159372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1369800" y="4748040"/>
                <a:ext cx="860760" cy="366480"/>
                <a:chOff x="1369800" y="4748040"/>
                <a:chExt cx="860760" cy="3664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1412280" y="4748040"/>
                  <a:ext cx="7754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369800" y="4748040"/>
                  <a:ext cx="8607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230920" y="4748040"/>
                <a:ext cx="860760" cy="366480"/>
                <a:chOff x="2230920" y="4748040"/>
                <a:chExt cx="860760" cy="3664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2273400" y="4748040"/>
                  <a:ext cx="7754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230920" y="4748040"/>
                  <a:ext cx="8607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3091680" y="4748040"/>
                <a:ext cx="860760" cy="366480"/>
                <a:chOff x="3091680" y="4748040"/>
                <a:chExt cx="860760" cy="36648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3134160" y="4748040"/>
                  <a:ext cx="7754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091680" y="4748040"/>
                  <a:ext cx="8607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3952800" y="4748040"/>
                <a:ext cx="947520" cy="366480"/>
                <a:chOff x="3952800" y="4748040"/>
                <a:chExt cx="947520" cy="3664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3995280" y="4748040"/>
                  <a:ext cx="8622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150-3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952800" y="4748040"/>
                  <a:ext cx="94752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4900320" y="4748040"/>
                <a:ext cx="602280" cy="366480"/>
                <a:chOff x="4900320" y="4748040"/>
                <a:chExt cx="602280" cy="36648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4942800" y="4748040"/>
                  <a:ext cx="5166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5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900320" y="4748040"/>
                  <a:ext cx="60228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5502960" y="4748040"/>
                <a:ext cx="516960" cy="366480"/>
                <a:chOff x="5502960" y="4748040"/>
                <a:chExt cx="516960" cy="3664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5545080" y="4748040"/>
                  <a:ext cx="4316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2.6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5502960" y="4748040"/>
                  <a:ext cx="5169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6019920" y="4748040"/>
                <a:ext cx="516960" cy="366480"/>
                <a:chOff x="6019920" y="4748040"/>
                <a:chExt cx="516960" cy="36648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6062040" y="4748040"/>
                  <a:ext cx="432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3.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019920" y="4748040"/>
                  <a:ext cx="5169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6536880" y="4748040"/>
                <a:ext cx="517320" cy="366480"/>
                <a:chOff x="6536880" y="4748040"/>
                <a:chExt cx="517320" cy="3664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6579360" y="4748040"/>
                  <a:ext cx="4316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4.6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536880" y="4748040"/>
                  <a:ext cx="51732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7054560" y="4748040"/>
                <a:ext cx="516960" cy="366480"/>
                <a:chOff x="7054560" y="4748040"/>
                <a:chExt cx="516960" cy="36648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7096680" y="4748040"/>
                  <a:ext cx="4316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4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054560" y="4748040"/>
                  <a:ext cx="51696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571520" y="4748040"/>
                <a:ext cx="533880" cy="366480"/>
                <a:chOff x="7571520" y="4748040"/>
                <a:chExt cx="533880" cy="36648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613640" y="4748040"/>
                  <a:ext cx="4485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.0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571520" y="4748040"/>
                  <a:ext cx="53388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8105400" y="4748040"/>
                <a:ext cx="523080" cy="366480"/>
                <a:chOff x="8105400" y="4748040"/>
                <a:chExt cx="523080" cy="36648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8147520" y="4748040"/>
                  <a:ext cx="4377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1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105400" y="4748040"/>
                  <a:ext cx="52308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8628840" y="4748040"/>
                <a:ext cx="510840" cy="366480"/>
                <a:chOff x="8628840" y="4748040"/>
                <a:chExt cx="510840" cy="36648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8670960" y="4748040"/>
                  <a:ext cx="42588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3.8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8628840" y="4748040"/>
                  <a:ext cx="510840" cy="36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-223920" y="5114520"/>
                <a:ext cx="1593720" cy="366120"/>
                <a:chOff x="-223920" y="5114520"/>
                <a:chExt cx="1593720" cy="366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-181440" y="5114520"/>
                  <a:ext cx="1508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Beagley y Sheldrake (1978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-223920" y="5114520"/>
                  <a:ext cx="15937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1369800" y="5114520"/>
                <a:ext cx="860760" cy="366120"/>
                <a:chOff x="1369800" y="5114520"/>
                <a:chExt cx="860760" cy="366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1412280" y="511452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7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1369800" y="511452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2230920" y="5114520"/>
                <a:ext cx="860760" cy="366120"/>
                <a:chOff x="2230920" y="5114520"/>
                <a:chExt cx="860760" cy="366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2273400" y="511452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230920" y="511452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3091680" y="5114520"/>
                <a:ext cx="860760" cy="366120"/>
                <a:chOff x="3091680" y="5114520"/>
                <a:chExt cx="860760" cy="366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134160" y="511452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091680" y="511452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952800" y="5114520"/>
                <a:ext cx="947520" cy="366120"/>
                <a:chOff x="3952800" y="5114520"/>
                <a:chExt cx="947520" cy="366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995280" y="5114520"/>
                  <a:ext cx="86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250-32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952800" y="5114520"/>
                  <a:ext cx="9475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4900320" y="5114520"/>
                <a:ext cx="602280" cy="366120"/>
                <a:chOff x="4900320" y="5114520"/>
                <a:chExt cx="602280" cy="366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942800" y="511452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2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900320" y="511452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5502960" y="5114520"/>
                <a:ext cx="516960" cy="366120"/>
                <a:chOff x="5502960" y="5114520"/>
                <a:chExt cx="516960" cy="366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545080" y="511452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3.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502960" y="511452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6019920" y="5114520"/>
                <a:ext cx="516960" cy="366120"/>
                <a:chOff x="6019920" y="5114520"/>
                <a:chExt cx="516960" cy="366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6062040" y="511452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4.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019920" y="511452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536880" y="5114520"/>
                <a:ext cx="517320" cy="366120"/>
                <a:chOff x="6536880" y="5114520"/>
                <a:chExt cx="517320" cy="366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579360" y="511452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5.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536880" y="511452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054560" y="5114520"/>
                <a:ext cx="516960" cy="366120"/>
                <a:chOff x="7054560" y="5114520"/>
                <a:chExt cx="516960" cy="366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096680" y="511452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054560" y="511452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7571520" y="5114520"/>
                <a:ext cx="533880" cy="366120"/>
                <a:chOff x="7571520" y="5114520"/>
                <a:chExt cx="533880" cy="36612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7613640" y="511452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.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571520" y="511452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8105400" y="5114520"/>
                <a:ext cx="523080" cy="366120"/>
                <a:chOff x="8105400" y="5114520"/>
                <a:chExt cx="523080" cy="36612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8147520" y="511452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1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8105400" y="511452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8628840" y="5114520"/>
                <a:ext cx="510840" cy="366120"/>
                <a:chOff x="8628840" y="5114520"/>
                <a:chExt cx="510840" cy="36612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8670960" y="511452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4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8628840" y="511452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-223920" y="5481000"/>
                <a:ext cx="1593720" cy="366120"/>
                <a:chOff x="-223920" y="5481000"/>
                <a:chExt cx="1593720" cy="3661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-181440" y="5481000"/>
                  <a:ext cx="1508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Chiappa et 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(1979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-223920" y="5481000"/>
                  <a:ext cx="15937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1369800" y="5481000"/>
                <a:ext cx="860760" cy="366120"/>
                <a:chOff x="1369800" y="5481000"/>
                <a:chExt cx="860760" cy="36612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1412280" y="548100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9800" y="548100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2230920" y="5481000"/>
                <a:ext cx="860760" cy="366120"/>
                <a:chOff x="2230920" y="5481000"/>
                <a:chExt cx="860760" cy="36612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2273400" y="548100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Al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230920" y="548100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3091680" y="5481000"/>
                <a:ext cx="860760" cy="366120"/>
                <a:chOff x="3091680" y="5481000"/>
                <a:chExt cx="860760" cy="3661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3134160" y="548100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091680" y="548100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3952800" y="5481000"/>
                <a:ext cx="947520" cy="366120"/>
                <a:chOff x="3952800" y="5481000"/>
                <a:chExt cx="947520" cy="3661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3995280" y="5481000"/>
                  <a:ext cx="86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100-3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3952800" y="5481000"/>
                  <a:ext cx="9475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4900320" y="5481000"/>
                <a:ext cx="602280" cy="366120"/>
                <a:chOff x="4900320" y="5481000"/>
                <a:chExt cx="602280" cy="3661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4942800" y="548100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900320" y="548100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5502960" y="5481000"/>
                <a:ext cx="516960" cy="366120"/>
                <a:chOff x="5502960" y="5481000"/>
                <a:chExt cx="516960" cy="3661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5545080" y="548100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2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502960" y="548100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6019920" y="5481000"/>
                <a:ext cx="516960" cy="366120"/>
                <a:chOff x="6019920" y="5481000"/>
                <a:chExt cx="516960" cy="36612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6062040" y="548100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3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019920" y="548100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536880" y="5481000"/>
                <a:ext cx="517320" cy="366120"/>
                <a:chOff x="6536880" y="5481000"/>
                <a:chExt cx="517320" cy="36612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579360" y="548100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5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536880" y="548100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7054560" y="5481000"/>
                <a:ext cx="516960" cy="366120"/>
                <a:chOff x="7054560" y="5481000"/>
                <a:chExt cx="516960" cy="36612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7096680" y="548100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054560" y="548100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7571520" y="5481000"/>
                <a:ext cx="533880" cy="366120"/>
                <a:chOff x="7571520" y="5481000"/>
                <a:chExt cx="533880" cy="36612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7613640" y="548100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571520" y="548100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8105400" y="5481000"/>
                <a:ext cx="523080" cy="366120"/>
                <a:chOff x="8105400" y="5481000"/>
                <a:chExt cx="523080" cy="36612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8147520" y="548100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1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8105400" y="548100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8628840" y="5481000"/>
                <a:ext cx="510840" cy="366120"/>
                <a:chOff x="8628840" y="5481000"/>
                <a:chExt cx="510840" cy="36612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8670960" y="548100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4.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628840" y="548100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-223920" y="5847480"/>
                <a:ext cx="1593720" cy="366120"/>
                <a:chOff x="-223920" y="5847480"/>
                <a:chExt cx="1593720" cy="36612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-181440" y="5847480"/>
                  <a:ext cx="1508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Schwartz y Ber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 u="sng">
                      <a:solidFill>
                        <a:srgbClr val="000080"/>
                      </a:solidFill>
                      <a:uFillTx/>
                      <a:latin typeface="Times New Roman"/>
                      <a:ea typeface="Times New Roman"/>
                    </a:rPr>
                    <a:t>(+</a:t>
                  </a:r>
                  <a:r>
                    <a:rPr b="0" lang="es-ES_tradnl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 1979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-223920" y="5847480"/>
                  <a:ext cx="15937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1369800" y="5847480"/>
                <a:ext cx="860760" cy="366120"/>
                <a:chOff x="1369800" y="5847480"/>
                <a:chExt cx="860760" cy="36612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1412280" y="584748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369800" y="584748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2230920" y="5847480"/>
                <a:ext cx="860760" cy="366120"/>
                <a:chOff x="2230920" y="5847480"/>
                <a:chExt cx="860760" cy="3661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2273400" y="584748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Ra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230920" y="584748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3091680" y="5847480"/>
                <a:ext cx="860760" cy="366120"/>
                <a:chOff x="3091680" y="5847480"/>
                <a:chExt cx="860760" cy="36612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3134160" y="5847480"/>
                  <a:ext cx="775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1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091680" y="5847480"/>
                  <a:ext cx="8607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3952800" y="5847480"/>
                <a:ext cx="947520" cy="366120"/>
                <a:chOff x="3952800" y="5847480"/>
                <a:chExt cx="947520" cy="36612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3995280" y="5847480"/>
                  <a:ext cx="862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75-15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952800" y="5847480"/>
                  <a:ext cx="9475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4900320" y="5847480"/>
                <a:ext cx="602280" cy="366120"/>
                <a:chOff x="4900320" y="5847480"/>
                <a:chExt cx="602280" cy="36612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4942800" y="5847480"/>
                  <a:ext cx="516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80"/>
                      </a:solidFill>
                      <a:latin typeface="Times New Roman"/>
                      <a:ea typeface="Times New Roman"/>
                    </a:rPr>
                    <a:t>1.6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900320" y="5847480"/>
                  <a:ext cx="6022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5502960" y="5847480"/>
                <a:ext cx="516960" cy="366120"/>
                <a:chOff x="5502960" y="5847480"/>
                <a:chExt cx="516960" cy="36612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5545080" y="584748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2.8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5502960" y="584748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6019920" y="5847480"/>
                <a:ext cx="516960" cy="366120"/>
                <a:chOff x="6019920" y="5847480"/>
                <a:chExt cx="516960" cy="3661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062040" y="5847480"/>
                  <a:ext cx="432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Times New Roman"/>
                      <a:ea typeface="Times New Roman"/>
                    </a:rPr>
                    <a:t>3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019920" y="584748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6536880" y="5847480"/>
                <a:ext cx="517320" cy="366120"/>
                <a:chOff x="6536880" y="5847480"/>
                <a:chExt cx="517320" cy="36612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6579360" y="584748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8000"/>
                      </a:solidFill>
                      <a:latin typeface="Times New Roman"/>
                      <a:ea typeface="Times New Roman"/>
                    </a:rPr>
                    <a:t>4.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536880" y="5847480"/>
                  <a:ext cx="51732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7054560" y="5847480"/>
                <a:ext cx="516960" cy="366120"/>
                <a:chOff x="7054560" y="5847480"/>
                <a:chExt cx="516960" cy="36612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7096680" y="5847480"/>
                  <a:ext cx="431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6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054560" y="5847480"/>
                  <a:ext cx="51696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7571520" y="5847480"/>
                <a:ext cx="533880" cy="366120"/>
                <a:chOff x="7571520" y="5847480"/>
                <a:chExt cx="533880" cy="3661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7613640" y="5847480"/>
                  <a:ext cx="4485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Times New Roman"/>
                    </a:rPr>
                    <a:t>2.0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7571520" y="5847480"/>
                  <a:ext cx="5338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8105400" y="5847480"/>
                <a:ext cx="523080" cy="366120"/>
                <a:chOff x="8105400" y="5847480"/>
                <a:chExt cx="523080" cy="36612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8147520" y="5847480"/>
                  <a:ext cx="4377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80"/>
                      </a:solidFill>
                      <a:latin typeface="Times New Roman"/>
                      <a:ea typeface="Times New Roman"/>
                    </a:rPr>
                    <a:t>1.8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8105400" y="5847480"/>
                  <a:ext cx="52308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8628840" y="5847480"/>
                <a:ext cx="510840" cy="366120"/>
                <a:chOff x="8628840" y="5847480"/>
                <a:chExt cx="510840" cy="36612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8670960" y="5847480"/>
                  <a:ext cx="425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8000"/>
                      </a:solidFill>
                      <a:latin typeface="Times New Roman"/>
                      <a:ea typeface="Times New Roman"/>
                    </a:rPr>
                    <a:t>4.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8628840" y="5847480"/>
                  <a:ext cx="510840" cy="36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4" name=""/>
            <p:cNvSpPr/>
            <p:nvPr/>
          </p:nvSpPr>
          <p:spPr>
            <a:xfrm>
              <a:off x="-228600" y="1447920"/>
              <a:ext cx="9372600" cy="4768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-314280" y="8959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mplejo IV/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828800" y="1012680"/>
          <a:ext cx="6095880" cy="584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012680"/>
                    <a:ext cx="609588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19:47:33Z</dcterms:created>
  <dc:creator>U DE CHILE</dc:creator>
  <dc:description/>
  <dc:language>en-US</dc:language>
  <cp:lastModifiedBy>Fac. de Medicina</cp:lastModifiedBy>
  <dcterms:modified xsi:type="dcterms:W3CDTF">2009-10-19T20:55:31Z</dcterms:modified>
  <cp:revision>24</cp:revision>
  <dc:subject/>
  <dc:title>BERA</dc:title>
</cp:coreProperties>
</file>