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BCA-22DE-442E-8EA7-703D0D95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316-1140-4D75-BB5F-7AD8C59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C8B-325E-46F9-AC36-1C4E9FCE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A01-E092-4394-93CA-E99CF77E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EC7-BC51-4509-BA26-389A1E45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625-23E0-4DE1-A5E3-52537AFA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63D-88EC-44F0-BE4E-6C1E3657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112-1C68-447B-AFE8-E42B4F7C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0DB-3859-4C77-94F2-91BB3EE1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376-F407-4A6B-88A1-62812BC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870-575C-45BE-8EC6-2A3E1E5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E0D-0295-4386-8C2B-7206346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12F-B906-4082-95B4-7C8DD5AA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zabeth Pavez A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tasa de est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09480" y="1219320"/>
          <a:ext cx="74678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4678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481440" y="1989000"/>
            <a:ext cx="26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fecto del cambio de tasa en esclerosis mú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 rot="60000">
            <a:off x="250920" y="333360"/>
            <a:ext cx="52974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istro ipsi vs registro con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209680" y="1752480"/>
          <a:ext cx="54864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54864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cambio de 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5120" y="1600200"/>
          <a:ext cx="51577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1577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1905120" y="1523880"/>
          <a:ext cx="515772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3880"/>
                    <a:ext cx="515772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cambio de 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edad y el género en el AB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04920" y="2057400"/>
          <a:ext cx="8839080" cy="41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839080" cy="41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aneste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rcRect l="0" t="1574" r="0" b="0"/>
          <a:stretch/>
        </p:blipFill>
        <p:spPr>
          <a:xfrm>
            <a:off x="457200" y="1295280"/>
            <a:ext cx="84582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temp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 rot="21540000">
            <a:off x="1523880" y="1168560"/>
            <a:ext cx="61722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 registrado durante una cirugía a corazón abierto con hipotermia en un a paciente femenina (A)  de 18 meses de edad y en un paciente masculino (B) de 56 años de edad. Ambas respuestas fueron obtenidas con clicks a 60 dB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112920" cy="51055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30720" y="1295280"/>
            <a:ext cx="291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 rot="60000">
            <a:off x="468000" y="803160"/>
            <a:ext cx="7848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ÍA AUDI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90720" y="1523880"/>
          <a:ext cx="7061040" cy="46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6104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21955" t="8113" r="13432" b="29928"/>
          <a:stretch/>
        </p:blipFill>
        <p:spPr>
          <a:xfrm rot="21540000">
            <a:off x="1763280" y="550440"/>
            <a:ext cx="45277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V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g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ne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alt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l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09480" y="685800"/>
            <a:ext cx="76168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NSIBILIDAD DEL ABR PARA TUMORES ACÚSTICOS CONFIRMADOS Y TASA DE FALSOS POSITIVOS EN LESIONES COCLEARES </a:t>
            </a:r>
            <a:r>
              <a:rPr b="0" lang="es-ES_tradnl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Musiek et al, 19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09480" y="2438280"/>
            <a:ext cx="7848360" cy="2667240"/>
            <a:chOff x="609480" y="2438280"/>
            <a:chExt cx="7848360" cy="2667240"/>
          </a:xfrm>
        </p:grpSpPr>
        <p:grpSp>
          <p:nvGrpSpPr>
            <p:cNvPr id="576" name=""/>
            <p:cNvGrpSpPr/>
            <p:nvPr/>
          </p:nvGrpSpPr>
          <p:grpSpPr>
            <a:xfrm>
              <a:off x="615240" y="2442240"/>
              <a:ext cx="7835400" cy="2658600"/>
              <a:chOff x="615240" y="2442240"/>
              <a:chExt cx="7835400" cy="265860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615240" y="2442240"/>
                <a:ext cx="1901880" cy="1016640"/>
                <a:chOff x="615240" y="2442240"/>
                <a:chExt cx="1901880" cy="1016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71760" y="2442240"/>
                  <a:ext cx="178848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U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15240" y="2442240"/>
                  <a:ext cx="19018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2517480" y="2442240"/>
                <a:ext cx="1151280" cy="1016640"/>
                <a:chOff x="2517480" y="2442240"/>
                <a:chExt cx="1151280" cy="10166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574360" y="2442240"/>
                  <a:ext cx="103752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Ñ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7480" y="2442240"/>
                  <a:ext cx="11512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669480" y="2442240"/>
                <a:ext cx="1267200" cy="1016640"/>
                <a:chOff x="3669480" y="2442240"/>
                <a:chExt cx="1267200" cy="10166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726000" y="2442240"/>
                  <a:ext cx="115380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A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CIER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669480" y="2442240"/>
                  <a:ext cx="126720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937040" y="2442240"/>
                <a:ext cx="984600" cy="1016640"/>
                <a:chOff x="4937040" y="2442240"/>
                <a:chExt cx="984600" cy="1016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993920" y="2442240"/>
                  <a:ext cx="87012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937040" y="2442240"/>
                  <a:ext cx="98460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922360" y="2442240"/>
                <a:ext cx="1407240" cy="1016640"/>
                <a:chOff x="5922360" y="2442240"/>
                <a:chExt cx="1407240" cy="10166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5978880" y="2442240"/>
                  <a:ext cx="129384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ASA FALSO POSI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922360" y="2442240"/>
                  <a:ext cx="140724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329960" y="2442240"/>
                <a:ext cx="1120680" cy="1016640"/>
                <a:chOff x="7329960" y="2442240"/>
                <a:chExt cx="1120680" cy="10166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386840" y="2442240"/>
                  <a:ext cx="100620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329960" y="2442240"/>
                  <a:ext cx="11206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615240" y="3458880"/>
                <a:ext cx="1901880" cy="1641960"/>
                <a:chOff x="615240" y="3458880"/>
                <a:chExt cx="1901880" cy="16419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671760" y="3458880"/>
                  <a:ext cx="178848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elter y Brack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lemis y McG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Glascock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Har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Eggermont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erkildsen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auch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15240" y="3458880"/>
                  <a:ext cx="19018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2517480" y="3458880"/>
                <a:ext cx="1151280" cy="1641960"/>
                <a:chOff x="2517480" y="3458880"/>
                <a:chExt cx="1151280" cy="16419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574360" y="3458880"/>
                  <a:ext cx="10375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17480" y="3458880"/>
                  <a:ext cx="11512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9480" y="3458880"/>
                <a:ext cx="1267200" cy="1641960"/>
                <a:chOff x="3669480" y="3458880"/>
                <a:chExt cx="1267200" cy="16419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26000" y="3458880"/>
                  <a:ext cx="115380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2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2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4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6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6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9480" y="3458880"/>
                  <a:ext cx="126720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937040" y="3458880"/>
                <a:ext cx="984600" cy="1641960"/>
                <a:chOff x="4937040" y="3458880"/>
                <a:chExt cx="984600" cy="1641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993920" y="3458880"/>
                  <a:ext cx="8701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937040" y="3458880"/>
                  <a:ext cx="98460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5922360" y="3458880"/>
                <a:ext cx="1407240" cy="1641960"/>
                <a:chOff x="5922360" y="3458880"/>
                <a:chExt cx="1407240" cy="1641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5978880" y="3458880"/>
                  <a:ext cx="129384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922360" y="3458880"/>
                  <a:ext cx="140724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7329960" y="3458880"/>
                <a:ext cx="1120680" cy="1641960"/>
                <a:chOff x="7329960" y="3458880"/>
                <a:chExt cx="1120680" cy="16419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7386840" y="3458880"/>
                  <a:ext cx="100620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329960" y="3458880"/>
                  <a:ext cx="11206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609480" y="2438280"/>
              <a:ext cx="7848360" cy="2667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las res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odu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nf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tr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sens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aco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V: aco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g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rcRect l="19963" t="10237" r="14428" b="20333"/>
          <a:stretch/>
        </p:blipFill>
        <p:spPr>
          <a:xfrm>
            <a:off x="2089080" y="0"/>
            <a:ext cx="470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rcRect l="17925" t="7103" r="15563" b="21646"/>
          <a:stretch/>
        </p:blipFill>
        <p:spPr>
          <a:xfrm rot="21540000">
            <a:off x="2484360" y="333000"/>
            <a:ext cx="419904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pérdidas ascendentes no son relevantes para 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828800"/>
          <a:ext cx="6956640" cy="47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95664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umbral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bral de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ficidad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o de frecuencias del EEG y de los potenciales evocados audi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138400"/>
            <a:ext cx="5751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533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ATENCIA DE LA ONDA V EN PREMATUROS DE 6 MESES DE EDADSEGÚN TIMPAN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447920" y="1447920"/>
            <a:ext cx="6153120" cy="4852800"/>
            <a:chOff x="1447920" y="1447920"/>
            <a:chExt cx="6153120" cy="4852800"/>
          </a:xfrm>
        </p:grpSpPr>
        <p:grpSp>
          <p:nvGrpSpPr>
            <p:cNvPr id="631" name=""/>
            <p:cNvGrpSpPr/>
            <p:nvPr/>
          </p:nvGrpSpPr>
          <p:grpSpPr>
            <a:xfrm>
              <a:off x="1452600" y="1452240"/>
              <a:ext cx="6143760" cy="4842720"/>
              <a:chOff x="1452600" y="1452240"/>
              <a:chExt cx="6143760" cy="484272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1452600" y="1452240"/>
                <a:ext cx="1228680" cy="1279080"/>
                <a:chOff x="1452600" y="1452240"/>
                <a:chExt cx="1228680" cy="12790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496880" y="1452240"/>
                  <a:ext cx="1140120" cy="12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452600" y="1452240"/>
                  <a:ext cx="1228680" cy="12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81280" y="1452240"/>
                <a:ext cx="4915080" cy="639360"/>
                <a:chOff x="2681280" y="1452240"/>
                <a:chExt cx="4915080" cy="6393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725920" y="1452240"/>
                  <a:ext cx="4825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IMPANOGR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81280" y="1452240"/>
                  <a:ext cx="49150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681280" y="2091600"/>
                <a:ext cx="1228680" cy="639360"/>
                <a:chOff x="2681280" y="2091600"/>
                <a:chExt cx="1228680" cy="6393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72592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68128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909960" y="2091600"/>
                <a:ext cx="1228680" cy="639360"/>
                <a:chOff x="3909960" y="2091600"/>
                <a:chExt cx="1228680" cy="6393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95460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0996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138640" y="2091600"/>
                <a:ext cx="1229040" cy="639360"/>
                <a:chOff x="5138640" y="2091600"/>
                <a:chExt cx="1229040" cy="6393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8328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138640" y="209160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6367680" y="2091600"/>
                <a:ext cx="1228680" cy="639360"/>
                <a:chOff x="6367680" y="2091600"/>
                <a:chExt cx="1228680" cy="6393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641196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36768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1452600" y="2731320"/>
                <a:ext cx="1228680" cy="822240"/>
                <a:chOff x="1452600" y="2731320"/>
                <a:chExt cx="1228680" cy="8222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1496880" y="2731320"/>
                  <a:ext cx="1140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45260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2681280" y="2731320"/>
                <a:ext cx="1228680" cy="822240"/>
                <a:chOff x="2681280" y="2731320"/>
                <a:chExt cx="1228680" cy="82224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272592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68128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3909960" y="2731320"/>
                <a:ext cx="1228680" cy="822240"/>
                <a:chOff x="3909960" y="2731320"/>
                <a:chExt cx="1228680" cy="8222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95460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3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90996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5138640" y="2731320"/>
                <a:ext cx="1229040" cy="822240"/>
                <a:chOff x="5138640" y="2731320"/>
                <a:chExt cx="1229040" cy="8222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18328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8640" y="2731320"/>
                  <a:ext cx="1229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6367680" y="2731320"/>
                <a:ext cx="1228680" cy="822240"/>
                <a:chOff x="6367680" y="2731320"/>
                <a:chExt cx="1228680" cy="8222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641196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6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36768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1452600" y="3553920"/>
                <a:ext cx="1228680" cy="821880"/>
                <a:chOff x="1452600" y="3553920"/>
                <a:chExt cx="1228680" cy="8218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496880" y="3553920"/>
                  <a:ext cx="11401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45260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681280" y="3553920"/>
                <a:ext cx="1228680" cy="821880"/>
                <a:chOff x="2681280" y="3553920"/>
                <a:chExt cx="1228680" cy="8218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272592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68128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3909960" y="3553920"/>
                <a:ext cx="1228680" cy="821880"/>
                <a:chOff x="3909960" y="3553920"/>
                <a:chExt cx="1228680" cy="8218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395460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5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0996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38640" y="3553920"/>
                <a:ext cx="1229040" cy="821880"/>
                <a:chOff x="5138640" y="3553920"/>
                <a:chExt cx="1229040" cy="8218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18328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3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8640" y="3553920"/>
                  <a:ext cx="12290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6367680" y="3553920"/>
                <a:ext cx="1228680" cy="821880"/>
                <a:chOff x="6367680" y="3553920"/>
                <a:chExt cx="1228680" cy="8218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641196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36768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452600" y="4376160"/>
                <a:ext cx="1228680" cy="639360"/>
                <a:chOff x="1452600" y="4376160"/>
                <a:chExt cx="1228680" cy="6393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496880" y="437616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otal Nº (10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5260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681280" y="4376160"/>
                <a:ext cx="1228680" cy="639360"/>
                <a:chOff x="2681280" y="4376160"/>
                <a:chExt cx="1228680" cy="6393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72592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68128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3909960" y="4376160"/>
                <a:ext cx="1228680" cy="639360"/>
                <a:chOff x="3909960" y="4376160"/>
                <a:chExt cx="1228680" cy="6393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95460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90996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138640" y="4376160"/>
                <a:ext cx="1229040" cy="639360"/>
                <a:chOff x="5138640" y="4376160"/>
                <a:chExt cx="1229040" cy="6393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18328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8640" y="437616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367680" y="4376160"/>
                <a:ext cx="1228680" cy="639360"/>
                <a:chOff x="6367680" y="4376160"/>
                <a:chExt cx="1228680" cy="6393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41196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36768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1452600" y="5015880"/>
                <a:ext cx="1228680" cy="639360"/>
                <a:chOff x="1452600" y="5015880"/>
                <a:chExt cx="1228680" cy="6393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1496880" y="501588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% NR 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45260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2681280" y="5015880"/>
                <a:ext cx="1228680" cy="639360"/>
                <a:chOff x="2681280" y="5015880"/>
                <a:chExt cx="1228680" cy="6393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72592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68128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3909960" y="5015880"/>
                <a:ext cx="1228680" cy="639360"/>
                <a:chOff x="3909960" y="5015880"/>
                <a:chExt cx="1228680" cy="6393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95460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90996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138640" y="5015880"/>
                <a:ext cx="1229040" cy="639360"/>
                <a:chOff x="5138640" y="5015880"/>
                <a:chExt cx="1229040" cy="6393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18328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38640" y="501588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367680" y="5015880"/>
                <a:ext cx="1228680" cy="639360"/>
                <a:chOff x="6367680" y="5015880"/>
                <a:chExt cx="1228680" cy="6393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41196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36768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452600" y="5655600"/>
                <a:ext cx="1228680" cy="639360"/>
                <a:chOff x="1452600" y="5655600"/>
                <a:chExt cx="1228680" cy="6393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496880" y="565560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% NR 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45260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2681280" y="5655600"/>
                <a:ext cx="1228680" cy="639360"/>
                <a:chOff x="2681280" y="5655600"/>
                <a:chExt cx="1228680" cy="639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272592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3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68128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3909960" y="5655600"/>
                <a:ext cx="1228680" cy="639360"/>
                <a:chOff x="3909960" y="5655600"/>
                <a:chExt cx="1228680" cy="639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395460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90996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138640" y="5655600"/>
                <a:ext cx="1229040" cy="639360"/>
                <a:chOff x="5138640" y="5655600"/>
                <a:chExt cx="1229040" cy="63936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18328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5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38640" y="565560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367680" y="5655600"/>
                <a:ext cx="1228680" cy="639360"/>
                <a:chOff x="6367680" y="5655600"/>
                <a:chExt cx="1228680" cy="63936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41196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.8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6768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"/>
            <p:cNvSpPr/>
            <p:nvPr/>
          </p:nvSpPr>
          <p:spPr>
            <a:xfrm>
              <a:off x="1447920" y="1447920"/>
              <a:ext cx="615312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3240" y="5945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57200" y="30492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LATENCIA DE LA ONDA V EN PREMATUROS DE 18 MESE DE DAD SEGÚN TIMPAN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47920" y="1523880"/>
            <a:ext cx="6153120" cy="4853160"/>
            <a:chOff x="1447920" y="1523880"/>
            <a:chExt cx="6153120" cy="4853160"/>
          </a:xfrm>
        </p:grpSpPr>
        <p:grpSp>
          <p:nvGrpSpPr>
            <p:cNvPr id="729" name=""/>
            <p:cNvGrpSpPr/>
            <p:nvPr/>
          </p:nvGrpSpPr>
          <p:grpSpPr>
            <a:xfrm>
              <a:off x="1452600" y="1528560"/>
              <a:ext cx="6143760" cy="4843440"/>
              <a:chOff x="1452600" y="1528560"/>
              <a:chExt cx="6143760" cy="484344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1452600" y="1528560"/>
                <a:ext cx="1228680" cy="1279440"/>
                <a:chOff x="1452600" y="1528560"/>
                <a:chExt cx="1228680" cy="12794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496880" y="1528560"/>
                  <a:ext cx="1140120" cy="12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52600" y="1528560"/>
                  <a:ext cx="1228680" cy="12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681280" y="1528560"/>
                <a:ext cx="4915080" cy="639720"/>
                <a:chOff x="2681280" y="1528560"/>
                <a:chExt cx="4915080" cy="6397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725920" y="1528560"/>
                  <a:ext cx="4825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TIMPANOGR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681280" y="1528560"/>
                  <a:ext cx="4915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2681280" y="2168280"/>
                <a:ext cx="1228680" cy="639720"/>
                <a:chOff x="2681280" y="2168280"/>
                <a:chExt cx="1228680" cy="639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72592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68128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909960" y="2168280"/>
                <a:ext cx="1228680" cy="639720"/>
                <a:chOff x="3909960" y="2168280"/>
                <a:chExt cx="1228680" cy="639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95460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90996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138640" y="2168280"/>
                <a:ext cx="1229040" cy="639720"/>
                <a:chOff x="5138640" y="2168280"/>
                <a:chExt cx="1229040" cy="6397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518328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138640" y="216828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367680" y="2168280"/>
                <a:ext cx="1228680" cy="639720"/>
                <a:chOff x="6367680" y="2168280"/>
                <a:chExt cx="1228680" cy="6397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41196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36768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1452600" y="2808000"/>
                <a:ext cx="1228680" cy="822600"/>
                <a:chOff x="1452600" y="2808000"/>
                <a:chExt cx="1228680" cy="8226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496880" y="2808000"/>
                  <a:ext cx="1140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45260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2681280" y="2808000"/>
                <a:ext cx="1228680" cy="822600"/>
                <a:chOff x="2681280" y="2808000"/>
                <a:chExt cx="1228680" cy="8226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272592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68128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3909960" y="2808000"/>
                <a:ext cx="1228680" cy="822600"/>
                <a:chOff x="3909960" y="2808000"/>
                <a:chExt cx="1228680" cy="8226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95460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90996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5138640" y="2808000"/>
                <a:ext cx="1229040" cy="822600"/>
                <a:chOff x="5138640" y="2808000"/>
                <a:chExt cx="1229040" cy="8226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518328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138640" y="2808000"/>
                  <a:ext cx="12290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367680" y="2808000"/>
                <a:ext cx="1228680" cy="822600"/>
                <a:chOff x="6367680" y="2808000"/>
                <a:chExt cx="1228680" cy="8226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41196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6768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452600" y="3630600"/>
                <a:ext cx="1228680" cy="822240"/>
                <a:chOff x="1452600" y="3630600"/>
                <a:chExt cx="1228680" cy="8222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496880" y="3630600"/>
                  <a:ext cx="1140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45260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2681280" y="3630600"/>
                <a:ext cx="1228680" cy="822240"/>
                <a:chOff x="2681280" y="3630600"/>
                <a:chExt cx="1228680" cy="8222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72592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68128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909960" y="3630600"/>
                <a:ext cx="1228680" cy="822240"/>
                <a:chOff x="3909960" y="3630600"/>
                <a:chExt cx="1228680" cy="8222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95460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6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90996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5138640" y="3630600"/>
                <a:ext cx="1229040" cy="822240"/>
                <a:chOff x="5138640" y="3630600"/>
                <a:chExt cx="1229040" cy="8222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518328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138640" y="3630600"/>
                  <a:ext cx="1229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6367680" y="3630600"/>
                <a:ext cx="1228680" cy="822240"/>
                <a:chOff x="6367680" y="3630600"/>
                <a:chExt cx="1228680" cy="8222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641196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8.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36768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452600" y="4452840"/>
                <a:ext cx="1228680" cy="639720"/>
                <a:chOff x="1452600" y="4452840"/>
                <a:chExt cx="1228680" cy="6397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496880" y="445284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Total Nº (10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45260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681280" y="4452840"/>
                <a:ext cx="1228680" cy="639720"/>
                <a:chOff x="2681280" y="4452840"/>
                <a:chExt cx="1228680" cy="6397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72592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68128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3909960" y="4452840"/>
                <a:ext cx="1228680" cy="639720"/>
                <a:chOff x="3909960" y="4452840"/>
                <a:chExt cx="1228680" cy="6397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5460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90996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5138640" y="4452840"/>
                <a:ext cx="1229040" cy="639720"/>
                <a:chOff x="5138640" y="4452840"/>
                <a:chExt cx="1229040" cy="6397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18328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138640" y="445284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367680" y="4452840"/>
                <a:ext cx="1228680" cy="639720"/>
                <a:chOff x="6367680" y="4452840"/>
                <a:chExt cx="1228680" cy="6397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41196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36768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1452600" y="5092560"/>
                <a:ext cx="1228680" cy="639720"/>
                <a:chOff x="1452600" y="5092560"/>
                <a:chExt cx="1228680" cy="6397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1496880" y="509256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% NR 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45260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2681280" y="5092560"/>
                <a:ext cx="1228680" cy="639720"/>
                <a:chOff x="2681280" y="5092560"/>
                <a:chExt cx="1228680" cy="6397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272592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4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68128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3909960" y="5092560"/>
                <a:ext cx="1228680" cy="639720"/>
                <a:chOff x="3909960" y="5092560"/>
                <a:chExt cx="1228680" cy="6397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395460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90996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138640" y="5092560"/>
                <a:ext cx="1229040" cy="639720"/>
                <a:chOff x="5138640" y="5092560"/>
                <a:chExt cx="1229040" cy="6397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18328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8640" y="509256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367680" y="5092560"/>
                <a:ext cx="1228680" cy="639720"/>
                <a:chOff x="6367680" y="5092560"/>
                <a:chExt cx="1228680" cy="6397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41196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36768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1452600" y="5732280"/>
                <a:ext cx="1228680" cy="639720"/>
                <a:chOff x="1452600" y="5732280"/>
                <a:chExt cx="1228680" cy="639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496880" y="573228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% NR 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45260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681280" y="5732280"/>
                <a:ext cx="1228680" cy="639720"/>
                <a:chOff x="2681280" y="5732280"/>
                <a:chExt cx="1228680" cy="6397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272592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68128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3909960" y="5732280"/>
                <a:ext cx="1228680" cy="639720"/>
                <a:chOff x="3909960" y="5732280"/>
                <a:chExt cx="1228680" cy="6397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395460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90996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5138640" y="5732280"/>
                <a:ext cx="1229040" cy="639720"/>
                <a:chOff x="5138640" y="5732280"/>
                <a:chExt cx="1229040" cy="6397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18328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9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138640" y="573228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6367680" y="5732280"/>
                <a:ext cx="1228680" cy="639720"/>
                <a:chOff x="6367680" y="5732280"/>
                <a:chExt cx="1228680" cy="6397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641196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5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36768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3" name=""/>
            <p:cNvSpPr/>
            <p:nvPr/>
          </p:nvSpPr>
          <p:spPr>
            <a:xfrm>
              <a:off x="1447920" y="1523880"/>
              <a:ext cx="6153120" cy="485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minación y evaluación de pará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encias intera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4357800" cy="59436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252960" cy="3276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340000" y="2060640"/>
            <a:ext cx="533520" cy="2971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838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RA con estímulo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A en neon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as anc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queñas ampl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ncias l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 absoluto del tiempo de conducción central y su diferencia intera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OLVIDAR CONSIDERAR LAS DIFERENCIA DE LADO  DE UMBRAL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 BERA es un método diagnóstico objetivo pero sus mediciones tiene numerosas fuentes de err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 calidad del registro debe ser optimizada y estim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mezcle la calidad del registro con la respues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lidad del registro  se describe por el ruid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lidad de la respuesta se define por la reproduc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ímulo cl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143000"/>
          <a:ext cx="746784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46784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ímulo cl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990720"/>
          <a:ext cx="7619760" cy="52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61976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RA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371600"/>
          <a:ext cx="71629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1629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tipo de f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514600"/>
          <a:ext cx="815328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81532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3808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IAS NORMALES DE ABR SEGÚN LABORAT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600" y="1447920"/>
            <a:ext cx="9372600" cy="4768560"/>
            <a:chOff x="-228600" y="1447920"/>
            <a:chExt cx="9372600" cy="4768560"/>
          </a:xfrm>
        </p:grpSpPr>
        <p:grpSp>
          <p:nvGrpSpPr>
            <p:cNvPr id="62" name=""/>
            <p:cNvGrpSpPr/>
            <p:nvPr/>
          </p:nvGrpSpPr>
          <p:grpSpPr>
            <a:xfrm>
              <a:off x="-223920" y="1449720"/>
              <a:ext cx="9363600" cy="4763880"/>
              <a:chOff x="-223920" y="1449720"/>
              <a:chExt cx="9363600" cy="47638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-223920" y="1449720"/>
                <a:ext cx="1593720" cy="732960"/>
                <a:chOff x="-223920" y="1449720"/>
                <a:chExt cx="1593720" cy="732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-181440" y="1449720"/>
                  <a:ext cx="150876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Laborator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-223920" y="1449720"/>
                  <a:ext cx="159372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369800" y="1449720"/>
                <a:ext cx="860760" cy="732960"/>
                <a:chOff x="1369800" y="1449720"/>
                <a:chExt cx="860760" cy="7329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41228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Intensidad de estímul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(dB SPL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36980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2230920" y="1449720"/>
                <a:ext cx="860760" cy="732960"/>
                <a:chOff x="2230920" y="1449720"/>
                <a:chExt cx="860760" cy="7329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27340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Polaridad del estímul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3092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3091680" y="1449720"/>
                <a:ext cx="860760" cy="732960"/>
                <a:chOff x="3091680" y="1449720"/>
                <a:chExt cx="860760" cy="7329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13416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Tasa de repetición (cps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9168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952800" y="1449720"/>
                <a:ext cx="947520" cy="732960"/>
                <a:chOff x="3952800" y="1449720"/>
                <a:chExt cx="947520" cy="7329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995280" y="1449720"/>
                  <a:ext cx="86220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Filtr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(Hz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52800" y="1449720"/>
                  <a:ext cx="94752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900320" y="1449720"/>
                <a:ext cx="4239000" cy="366480"/>
                <a:chOff x="4900320" y="1449720"/>
                <a:chExt cx="4239000" cy="366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942800" y="1449720"/>
                  <a:ext cx="41536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Latencia de la on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(mse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00320" y="1449720"/>
                  <a:ext cx="423900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900320" y="1816200"/>
                <a:ext cx="602280" cy="366120"/>
                <a:chOff x="4900320" y="1816200"/>
                <a:chExt cx="602280" cy="366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942800" y="18162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900320" y="18162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502960" y="1816200"/>
                <a:ext cx="516960" cy="366120"/>
                <a:chOff x="5502960" y="1816200"/>
                <a:chExt cx="516960" cy="366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54508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50296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019920" y="1816200"/>
                <a:ext cx="516960" cy="366120"/>
                <a:chOff x="6019920" y="1816200"/>
                <a:chExt cx="516960" cy="366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062040" y="18162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536880" y="1816200"/>
                <a:ext cx="517320" cy="366120"/>
                <a:chOff x="6536880" y="1816200"/>
                <a:chExt cx="517320" cy="36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57936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I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536880" y="18162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054560" y="1816200"/>
                <a:ext cx="516960" cy="366120"/>
                <a:chOff x="7054560" y="1816200"/>
                <a:chExt cx="516960" cy="36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09668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5456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571520" y="1816200"/>
                <a:ext cx="533880" cy="366120"/>
                <a:chOff x="7571520" y="1816200"/>
                <a:chExt cx="533880" cy="36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613640" y="18162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I-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71520" y="18162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8105400" y="1816200"/>
                <a:ext cx="523080" cy="366120"/>
                <a:chOff x="8105400" y="1816200"/>
                <a:chExt cx="523080" cy="36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147520" y="18162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II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05400" y="18162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8628840" y="1816200"/>
                <a:ext cx="510840" cy="366120"/>
                <a:chOff x="8628840" y="1816200"/>
                <a:chExt cx="510840" cy="36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670960" y="18162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8840" y="18162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-223920" y="2182680"/>
                <a:ext cx="1593720" cy="366120"/>
                <a:chOff x="-223920" y="2182680"/>
                <a:chExt cx="1593720" cy="36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-181440" y="21826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Jewett y Williston (197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-223920" y="21826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369800" y="2182680"/>
                <a:ext cx="860760" cy="366120"/>
                <a:chOff x="1369800" y="2182680"/>
                <a:chExt cx="860760" cy="366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41228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 - 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36980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230920" y="2182680"/>
                <a:ext cx="860760" cy="366120"/>
                <a:chOff x="2230920" y="2182680"/>
                <a:chExt cx="86076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27340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3092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091680" y="2182680"/>
                <a:ext cx="860760" cy="366120"/>
                <a:chOff x="3091680" y="2182680"/>
                <a:chExt cx="860760" cy="366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13416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09168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952800" y="2182680"/>
                <a:ext cx="947520" cy="366120"/>
                <a:chOff x="3952800" y="2182680"/>
                <a:chExt cx="947520" cy="366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995280" y="21826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-10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952800" y="21826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00320" y="2182680"/>
                <a:ext cx="602280" cy="366120"/>
                <a:chOff x="4900320" y="2182680"/>
                <a:chExt cx="602280" cy="366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42800" y="21826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0320" y="21826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502960" y="2182680"/>
                <a:ext cx="516960" cy="366120"/>
                <a:chOff x="5502960" y="2182680"/>
                <a:chExt cx="516960" cy="3661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54508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50296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019920" y="2182680"/>
                <a:ext cx="516960" cy="366120"/>
                <a:chOff x="6019920" y="2182680"/>
                <a:chExt cx="516960" cy="366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062040" y="21826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1992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536880" y="2182680"/>
                <a:ext cx="517320" cy="366120"/>
                <a:chOff x="6536880" y="2182680"/>
                <a:chExt cx="517320" cy="3661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57936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36880" y="21826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054560" y="2182680"/>
                <a:ext cx="516960" cy="366120"/>
                <a:chOff x="7054560" y="2182680"/>
                <a:chExt cx="516960" cy="3661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09668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5456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571520" y="2182680"/>
                <a:ext cx="533880" cy="366120"/>
                <a:chOff x="7571520" y="2182680"/>
                <a:chExt cx="533880" cy="3661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13640" y="21826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71520" y="21826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105400" y="2182680"/>
                <a:ext cx="523080" cy="366120"/>
                <a:chOff x="8105400" y="2182680"/>
                <a:chExt cx="523080" cy="3661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147520" y="21826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05400" y="21826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8628840" y="2182680"/>
                <a:ext cx="510840" cy="366120"/>
                <a:chOff x="8628840" y="2182680"/>
                <a:chExt cx="510840" cy="366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670960" y="21826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628840" y="21826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-223920" y="2549160"/>
                <a:ext cx="1593720" cy="366120"/>
                <a:chOff x="-223920" y="2549160"/>
                <a:chExt cx="1593720" cy="3661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-181440" y="254916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Lev y Sohme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2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-223920" y="254916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9800" y="2549160"/>
                <a:ext cx="860760" cy="366120"/>
                <a:chOff x="1369800" y="2549160"/>
                <a:chExt cx="860760" cy="366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28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980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230920" y="2549160"/>
                <a:ext cx="860760" cy="366120"/>
                <a:chOff x="2230920" y="2549160"/>
                <a:chExt cx="860760" cy="366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27340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3092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091680" y="2549160"/>
                <a:ext cx="860760" cy="366120"/>
                <a:chOff x="3091680" y="2549160"/>
                <a:chExt cx="860760" cy="3661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13416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9168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952800" y="2549160"/>
                <a:ext cx="947520" cy="366120"/>
                <a:chOff x="3952800" y="2549160"/>
                <a:chExt cx="947520" cy="3661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995280" y="254916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250-5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52800" y="254916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900320" y="2549160"/>
                <a:ext cx="602280" cy="366120"/>
                <a:chOff x="4900320" y="2549160"/>
                <a:chExt cx="602280" cy="3661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942800" y="254916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00320" y="254916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502960" y="2549160"/>
                <a:ext cx="516960" cy="366120"/>
                <a:chOff x="5502960" y="2549160"/>
                <a:chExt cx="516960" cy="36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54508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50296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19920" y="2549160"/>
                <a:ext cx="516960" cy="366120"/>
                <a:chOff x="6019920" y="2549160"/>
                <a:chExt cx="516960" cy="366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62040" y="254916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1992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536880" y="2549160"/>
                <a:ext cx="517320" cy="366120"/>
                <a:chOff x="6536880" y="2549160"/>
                <a:chExt cx="517320" cy="366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57936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36880" y="254916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054560" y="2549160"/>
                <a:ext cx="516960" cy="366120"/>
                <a:chOff x="7054560" y="2549160"/>
                <a:chExt cx="516960" cy="366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09668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05456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7571520" y="2549160"/>
                <a:ext cx="533880" cy="366120"/>
                <a:chOff x="7571520" y="2549160"/>
                <a:chExt cx="533880" cy="366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613640" y="254916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1520" y="254916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105400" y="2549160"/>
                <a:ext cx="523080" cy="366120"/>
                <a:chOff x="8105400" y="2549160"/>
                <a:chExt cx="523080" cy="366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8147520" y="254916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105400" y="254916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8628840" y="2549160"/>
                <a:ext cx="510840" cy="366120"/>
                <a:chOff x="8628840" y="2549160"/>
                <a:chExt cx="510840" cy="366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70960" y="254916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628840" y="254916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-223920" y="2915640"/>
                <a:ext cx="1593720" cy="366480"/>
                <a:chOff x="-223920" y="2915640"/>
                <a:chExt cx="1593720" cy="3664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-181440" y="2915640"/>
                  <a:ext cx="1508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Picton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-223920" y="2915640"/>
                  <a:ext cx="15937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369800" y="2915640"/>
                <a:ext cx="860760" cy="366480"/>
                <a:chOff x="1369800" y="2915640"/>
                <a:chExt cx="860760" cy="366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41228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36980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230920" y="2915640"/>
                <a:ext cx="860760" cy="366480"/>
                <a:chOff x="2230920" y="2915640"/>
                <a:chExt cx="860760" cy="3664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27340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3092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091680" y="2915640"/>
                <a:ext cx="860760" cy="366480"/>
                <a:chOff x="3091680" y="2915640"/>
                <a:chExt cx="860760" cy="3664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3416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9168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952800" y="2915640"/>
                <a:ext cx="947520" cy="366480"/>
                <a:chOff x="3952800" y="2915640"/>
                <a:chExt cx="947520" cy="366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995280" y="2915640"/>
                  <a:ext cx="8622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952800" y="2915640"/>
                  <a:ext cx="9475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900320" y="2915640"/>
                <a:ext cx="602280" cy="366480"/>
                <a:chOff x="4900320" y="2915640"/>
                <a:chExt cx="602280" cy="366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942800" y="2915640"/>
                  <a:ext cx="516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00320" y="2915640"/>
                  <a:ext cx="6022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02960" y="2915640"/>
                <a:ext cx="516960" cy="366480"/>
                <a:chOff x="5502960" y="2915640"/>
                <a:chExt cx="516960" cy="366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4508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0296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019920" y="2915640"/>
                <a:ext cx="516960" cy="366480"/>
                <a:chOff x="6019920" y="2915640"/>
                <a:chExt cx="516960" cy="366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62040" y="2915640"/>
                  <a:ext cx="432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01992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536880" y="2915640"/>
                <a:ext cx="517320" cy="366480"/>
                <a:chOff x="6536880" y="2915640"/>
                <a:chExt cx="517320" cy="366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7936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36880" y="2915640"/>
                  <a:ext cx="5173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054560" y="2915640"/>
                <a:ext cx="516960" cy="366480"/>
                <a:chOff x="7054560" y="2915640"/>
                <a:chExt cx="516960" cy="366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09668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05456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571520" y="2915640"/>
                <a:ext cx="533880" cy="366480"/>
                <a:chOff x="7571520" y="2915640"/>
                <a:chExt cx="533880" cy="366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613640" y="2915640"/>
                  <a:ext cx="4485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71520" y="2915640"/>
                  <a:ext cx="5338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8105400" y="2915640"/>
                <a:ext cx="523080" cy="366480"/>
                <a:chOff x="8105400" y="2915640"/>
                <a:chExt cx="523080" cy="3664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147520" y="2915640"/>
                  <a:ext cx="437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05400" y="2915640"/>
                  <a:ext cx="5230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628840" y="2915640"/>
                <a:ext cx="510840" cy="366480"/>
                <a:chOff x="8628840" y="2915640"/>
                <a:chExt cx="510840" cy="366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70960" y="2915640"/>
                  <a:ext cx="425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628840" y="2915640"/>
                  <a:ext cx="51084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-223920" y="3282120"/>
                <a:ext cx="1593720" cy="366120"/>
                <a:chOff x="-223920" y="3282120"/>
                <a:chExt cx="1593720" cy="366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-181440" y="328212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tarr y Acho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5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-223920" y="328212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369800" y="3282120"/>
                <a:ext cx="860760" cy="366120"/>
                <a:chOff x="1369800" y="3282120"/>
                <a:chExt cx="860760" cy="366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41228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36980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230920" y="3282120"/>
                <a:ext cx="860760" cy="366120"/>
                <a:chOff x="2230920" y="3282120"/>
                <a:chExt cx="860760" cy="366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27340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Al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23092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091680" y="3282120"/>
                <a:ext cx="860760" cy="366120"/>
                <a:chOff x="3091680" y="3282120"/>
                <a:chExt cx="860760" cy="366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3416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09168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952800" y="3282120"/>
                <a:ext cx="947520" cy="366120"/>
                <a:chOff x="3952800" y="3282120"/>
                <a:chExt cx="947520" cy="3661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995280" y="328212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52800" y="328212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00320" y="3282120"/>
                <a:ext cx="602280" cy="366120"/>
                <a:chOff x="4900320" y="3282120"/>
                <a:chExt cx="602280" cy="366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942800" y="328212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00320" y="328212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02960" y="3282120"/>
                <a:ext cx="516960" cy="366120"/>
                <a:chOff x="5502960" y="3282120"/>
                <a:chExt cx="516960" cy="366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4508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0296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019920" y="3282120"/>
                <a:ext cx="516960" cy="366120"/>
                <a:chOff x="6019920" y="3282120"/>
                <a:chExt cx="516960" cy="3661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062040" y="328212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1992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536880" y="3282120"/>
                <a:ext cx="517320" cy="366120"/>
                <a:chOff x="6536880" y="3282120"/>
                <a:chExt cx="517320" cy="3661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7936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36880" y="328212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054560" y="3282120"/>
                <a:ext cx="516960" cy="366120"/>
                <a:chOff x="7054560" y="3282120"/>
                <a:chExt cx="516960" cy="3661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09668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5456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571520" y="3282120"/>
                <a:ext cx="533880" cy="366120"/>
                <a:chOff x="7571520" y="3282120"/>
                <a:chExt cx="533880" cy="3661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613640" y="328212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571520" y="328212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8105400" y="3282120"/>
                <a:ext cx="523080" cy="366120"/>
                <a:chOff x="8105400" y="3282120"/>
                <a:chExt cx="523080" cy="3661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8147520" y="328212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05400" y="328212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8628840" y="3282120"/>
                <a:ext cx="510840" cy="366120"/>
                <a:chOff x="8628840" y="3282120"/>
                <a:chExt cx="510840" cy="366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70960" y="328212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628840" y="328212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-223920" y="3648600"/>
                <a:ext cx="1593720" cy="366120"/>
                <a:chOff x="-223920" y="3648600"/>
                <a:chExt cx="1593720" cy="3661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-181440" y="364860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tockard y Rossiter (197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-223920" y="364860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69800" y="3648600"/>
                <a:ext cx="860760" cy="366120"/>
                <a:chOff x="1369800" y="3648600"/>
                <a:chExt cx="860760" cy="366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41228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36980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230920" y="3648600"/>
                <a:ext cx="860760" cy="366120"/>
                <a:chOff x="2230920" y="3648600"/>
                <a:chExt cx="860760" cy="366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27340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Ra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23092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091680" y="3648600"/>
                <a:ext cx="860760" cy="366120"/>
                <a:chOff x="3091680" y="3648600"/>
                <a:chExt cx="860760" cy="366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13416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09168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952800" y="3648600"/>
                <a:ext cx="947520" cy="366120"/>
                <a:chOff x="3952800" y="3648600"/>
                <a:chExt cx="947520" cy="366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995280" y="364860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52800" y="364860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00320" y="3648600"/>
                <a:ext cx="602280" cy="366120"/>
                <a:chOff x="4900320" y="3648600"/>
                <a:chExt cx="602280" cy="3661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942800" y="36486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00320" y="36486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502960" y="3648600"/>
                <a:ext cx="516960" cy="366120"/>
                <a:chOff x="5502960" y="3648600"/>
                <a:chExt cx="516960" cy="366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54508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50296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019920" y="3648600"/>
                <a:ext cx="516960" cy="366120"/>
                <a:chOff x="6019920" y="3648600"/>
                <a:chExt cx="516960" cy="3661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062040" y="36486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4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1992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36880" y="3648600"/>
                <a:ext cx="517320" cy="366120"/>
                <a:chOff x="6536880" y="3648600"/>
                <a:chExt cx="517320" cy="366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7936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6880" y="36486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054560" y="3648600"/>
                <a:ext cx="516960" cy="366120"/>
                <a:chOff x="7054560" y="3648600"/>
                <a:chExt cx="516960" cy="366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9668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05456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571520" y="3648600"/>
                <a:ext cx="533880" cy="366120"/>
                <a:chOff x="7571520" y="3648600"/>
                <a:chExt cx="533880" cy="366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613640" y="36486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71520" y="36486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8105400" y="3648600"/>
                <a:ext cx="523080" cy="366120"/>
                <a:chOff x="8105400" y="3648600"/>
                <a:chExt cx="523080" cy="366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8147520" y="36486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105400" y="36486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628840" y="3648600"/>
                <a:ext cx="510840" cy="366120"/>
                <a:chOff x="8628840" y="3648600"/>
                <a:chExt cx="510840" cy="366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70960" y="36486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628840" y="36486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-223920" y="4015080"/>
                <a:ext cx="1593720" cy="366120"/>
                <a:chOff x="-223920" y="4015080"/>
                <a:chExt cx="1593720" cy="366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-181440" y="40150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Rosenhamer et al 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-223920" y="40150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369800" y="4015080"/>
                <a:ext cx="860760" cy="366120"/>
                <a:chOff x="1369800" y="4015080"/>
                <a:chExt cx="860760" cy="366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41228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36980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230920" y="4015080"/>
                <a:ext cx="860760" cy="366120"/>
                <a:chOff x="2230920" y="4015080"/>
                <a:chExt cx="860760" cy="366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27340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3092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091680" y="4015080"/>
                <a:ext cx="860760" cy="366120"/>
                <a:chOff x="3091680" y="4015080"/>
                <a:chExt cx="860760" cy="366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13416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6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09168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952800" y="4015080"/>
                <a:ext cx="947520" cy="366120"/>
                <a:chOff x="3952800" y="4015080"/>
                <a:chExt cx="947520" cy="366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995280" y="40150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80-4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952800" y="40150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900320" y="4015080"/>
                <a:ext cx="602280" cy="366120"/>
                <a:chOff x="4900320" y="4015080"/>
                <a:chExt cx="602280" cy="366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942800" y="40150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900320" y="40150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502960" y="4015080"/>
                <a:ext cx="516960" cy="366120"/>
                <a:chOff x="5502960" y="4015080"/>
                <a:chExt cx="516960" cy="366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54508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0296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019920" y="4015080"/>
                <a:ext cx="516960" cy="366120"/>
                <a:chOff x="6019920" y="4015080"/>
                <a:chExt cx="516960" cy="366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062040" y="40150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992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536880" y="4015080"/>
                <a:ext cx="517320" cy="366120"/>
                <a:chOff x="6536880" y="4015080"/>
                <a:chExt cx="517320" cy="366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57936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36880" y="40150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054560" y="4015080"/>
                <a:ext cx="516960" cy="366120"/>
                <a:chOff x="7054560" y="4015080"/>
                <a:chExt cx="516960" cy="366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09668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5456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571520" y="4015080"/>
                <a:ext cx="533880" cy="366120"/>
                <a:chOff x="7571520" y="4015080"/>
                <a:chExt cx="533880" cy="366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613640" y="40150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571520" y="40150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8105400" y="4015080"/>
                <a:ext cx="523080" cy="366120"/>
                <a:chOff x="8105400" y="4015080"/>
                <a:chExt cx="523080" cy="366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147520" y="40150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2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105400" y="40150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8628840" y="4015080"/>
                <a:ext cx="510840" cy="366120"/>
                <a:chOff x="8628840" y="4015080"/>
                <a:chExt cx="510840" cy="366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670960" y="40150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628840" y="40150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-223920" y="4381560"/>
                <a:ext cx="1593720" cy="366120"/>
                <a:chOff x="-223920" y="4381560"/>
                <a:chExt cx="1593720" cy="366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-181440" y="438156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-223920" y="438156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369800" y="4381560"/>
                <a:ext cx="860760" cy="366120"/>
                <a:chOff x="1369800" y="4381560"/>
                <a:chExt cx="860760" cy="366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41228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36980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230920" y="4381560"/>
                <a:ext cx="860760" cy="366120"/>
                <a:chOff x="2230920" y="4381560"/>
                <a:chExt cx="860760" cy="366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27340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092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091680" y="4381560"/>
                <a:ext cx="860760" cy="366120"/>
                <a:chOff x="3091680" y="4381560"/>
                <a:chExt cx="860760" cy="366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13416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09168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952800" y="4381560"/>
                <a:ext cx="947520" cy="366120"/>
                <a:chOff x="3952800" y="4381560"/>
                <a:chExt cx="947520" cy="366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995280" y="438156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52800" y="438156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900320" y="4381560"/>
                <a:ext cx="602280" cy="366120"/>
                <a:chOff x="4900320" y="4381560"/>
                <a:chExt cx="602280" cy="366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942800" y="438156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00320" y="438156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502960" y="4381560"/>
                <a:ext cx="516960" cy="366120"/>
                <a:chOff x="5502960" y="4381560"/>
                <a:chExt cx="516960" cy="366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54508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50296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019920" y="4381560"/>
                <a:ext cx="516960" cy="366120"/>
                <a:chOff x="6019920" y="4381560"/>
                <a:chExt cx="516960" cy="366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062040" y="438156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01992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36880" y="4381560"/>
                <a:ext cx="517320" cy="366120"/>
                <a:chOff x="6536880" y="4381560"/>
                <a:chExt cx="517320" cy="366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57936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36880" y="438156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054560" y="4381560"/>
                <a:ext cx="516960" cy="366120"/>
                <a:chOff x="7054560" y="4381560"/>
                <a:chExt cx="516960" cy="366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09668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5456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7571520" y="4381560"/>
                <a:ext cx="533880" cy="366120"/>
                <a:chOff x="7571520" y="4381560"/>
                <a:chExt cx="533880" cy="366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613640" y="438156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.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571520" y="438156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8105400" y="4381560"/>
                <a:ext cx="523080" cy="366120"/>
                <a:chOff x="8105400" y="4381560"/>
                <a:chExt cx="523080" cy="366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147520" y="438156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105400" y="438156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8628840" y="4381560"/>
                <a:ext cx="510840" cy="366120"/>
                <a:chOff x="8628840" y="4381560"/>
                <a:chExt cx="510840" cy="366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670960" y="438156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3.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628840" y="438156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-223920" y="4748040"/>
                <a:ext cx="1593720" cy="366480"/>
                <a:chOff x="-223920" y="4748040"/>
                <a:chExt cx="1593720" cy="3664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-181440" y="4748040"/>
                  <a:ext cx="1508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Gilyroy y Lin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-223920" y="4748040"/>
                  <a:ext cx="15937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369800" y="4748040"/>
                <a:ext cx="860760" cy="366480"/>
                <a:chOff x="1369800" y="4748040"/>
                <a:chExt cx="860760" cy="3664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41228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36980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230920" y="4748040"/>
                <a:ext cx="860760" cy="366480"/>
                <a:chOff x="2230920" y="4748040"/>
                <a:chExt cx="860760" cy="366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27340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3092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3091680" y="4748040"/>
                <a:ext cx="860760" cy="366480"/>
                <a:chOff x="3091680" y="4748040"/>
                <a:chExt cx="860760" cy="3664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13416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09168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952800" y="4748040"/>
                <a:ext cx="947520" cy="366480"/>
                <a:chOff x="3952800" y="4748040"/>
                <a:chExt cx="947520" cy="3664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995280" y="4748040"/>
                  <a:ext cx="8622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5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952800" y="4748040"/>
                  <a:ext cx="9475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900320" y="4748040"/>
                <a:ext cx="602280" cy="366480"/>
                <a:chOff x="4900320" y="4748040"/>
                <a:chExt cx="602280" cy="366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942800" y="4748040"/>
                  <a:ext cx="516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900320" y="4748040"/>
                  <a:ext cx="6022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502960" y="4748040"/>
                <a:ext cx="516960" cy="366480"/>
                <a:chOff x="5502960" y="4748040"/>
                <a:chExt cx="516960" cy="3664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54508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50296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019920" y="4748040"/>
                <a:ext cx="516960" cy="366480"/>
                <a:chOff x="6019920" y="4748040"/>
                <a:chExt cx="516960" cy="3664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062040" y="4748040"/>
                  <a:ext cx="432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01992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536880" y="4748040"/>
                <a:ext cx="517320" cy="366480"/>
                <a:chOff x="6536880" y="4748040"/>
                <a:chExt cx="517320" cy="366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57936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6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36880" y="4748040"/>
                  <a:ext cx="5173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054560" y="4748040"/>
                <a:ext cx="516960" cy="366480"/>
                <a:chOff x="7054560" y="4748040"/>
                <a:chExt cx="516960" cy="3664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09668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05456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571520" y="4748040"/>
                <a:ext cx="533880" cy="366480"/>
                <a:chOff x="7571520" y="4748040"/>
                <a:chExt cx="533880" cy="3664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613640" y="4748040"/>
                  <a:ext cx="4485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571520" y="4748040"/>
                  <a:ext cx="5338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105400" y="4748040"/>
                <a:ext cx="523080" cy="366480"/>
                <a:chOff x="8105400" y="4748040"/>
                <a:chExt cx="523080" cy="3664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147520" y="4748040"/>
                  <a:ext cx="437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05400" y="4748040"/>
                  <a:ext cx="5230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628840" y="4748040"/>
                <a:ext cx="510840" cy="366480"/>
                <a:chOff x="8628840" y="4748040"/>
                <a:chExt cx="510840" cy="3664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670960" y="4748040"/>
                  <a:ext cx="425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3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628840" y="4748040"/>
                  <a:ext cx="51084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-223920" y="5114520"/>
                <a:ext cx="1593720" cy="366120"/>
                <a:chOff x="-223920" y="5114520"/>
                <a:chExt cx="1593720" cy="366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-181440" y="511452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eagley y Sheldrake 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-223920" y="511452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369800" y="5114520"/>
                <a:ext cx="860760" cy="366120"/>
                <a:chOff x="1369800" y="5114520"/>
                <a:chExt cx="860760" cy="366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41228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36980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230920" y="5114520"/>
                <a:ext cx="860760" cy="366120"/>
                <a:chOff x="2230920" y="5114520"/>
                <a:chExt cx="860760" cy="366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27340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23092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91680" y="5114520"/>
                <a:ext cx="860760" cy="366120"/>
                <a:chOff x="3091680" y="5114520"/>
                <a:chExt cx="860760" cy="366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3416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9168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952800" y="5114520"/>
                <a:ext cx="947520" cy="366120"/>
                <a:chOff x="3952800" y="5114520"/>
                <a:chExt cx="947520" cy="366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995280" y="511452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250-3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952800" y="511452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900320" y="5114520"/>
                <a:ext cx="602280" cy="366120"/>
                <a:chOff x="4900320" y="5114520"/>
                <a:chExt cx="602280" cy="366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942800" y="511452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00320" y="511452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502960" y="5114520"/>
                <a:ext cx="516960" cy="366120"/>
                <a:chOff x="5502960" y="5114520"/>
                <a:chExt cx="516960" cy="366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54508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0296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019920" y="5114520"/>
                <a:ext cx="516960" cy="366120"/>
                <a:chOff x="6019920" y="5114520"/>
                <a:chExt cx="516960" cy="366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62040" y="511452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4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992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536880" y="5114520"/>
                <a:ext cx="517320" cy="366120"/>
                <a:chOff x="6536880" y="5114520"/>
                <a:chExt cx="517320" cy="366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57936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536880" y="511452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054560" y="5114520"/>
                <a:ext cx="516960" cy="366120"/>
                <a:chOff x="7054560" y="5114520"/>
                <a:chExt cx="516960" cy="366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09668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05456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571520" y="5114520"/>
                <a:ext cx="533880" cy="366120"/>
                <a:chOff x="7571520" y="5114520"/>
                <a:chExt cx="533880" cy="3661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613640" y="511452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71520" y="511452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105400" y="5114520"/>
                <a:ext cx="523080" cy="366120"/>
                <a:chOff x="8105400" y="5114520"/>
                <a:chExt cx="523080" cy="3661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147520" y="511452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105400" y="511452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8628840" y="5114520"/>
                <a:ext cx="510840" cy="366120"/>
                <a:chOff x="8628840" y="5114520"/>
                <a:chExt cx="510840" cy="366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8670960" y="511452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628840" y="511452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-223920" y="5481000"/>
                <a:ext cx="1593720" cy="366120"/>
                <a:chOff x="-223920" y="5481000"/>
                <a:chExt cx="1593720" cy="366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-181440" y="548100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hiappa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-223920" y="548100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369800" y="5481000"/>
                <a:ext cx="860760" cy="366120"/>
                <a:chOff x="1369800" y="5481000"/>
                <a:chExt cx="860760" cy="366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41228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980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230920" y="5481000"/>
                <a:ext cx="860760" cy="366120"/>
                <a:chOff x="2230920" y="5481000"/>
                <a:chExt cx="860760" cy="3661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27340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Al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23092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091680" y="5481000"/>
                <a:ext cx="860760" cy="366120"/>
                <a:chOff x="3091680" y="5481000"/>
                <a:chExt cx="860760" cy="366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13416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09168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952800" y="5481000"/>
                <a:ext cx="947520" cy="366120"/>
                <a:chOff x="3952800" y="5481000"/>
                <a:chExt cx="947520" cy="366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995280" y="548100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52800" y="548100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900320" y="5481000"/>
                <a:ext cx="602280" cy="366120"/>
                <a:chOff x="4900320" y="5481000"/>
                <a:chExt cx="602280" cy="3661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942800" y="54810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900320" y="54810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502960" y="5481000"/>
                <a:ext cx="516960" cy="366120"/>
                <a:chOff x="5502960" y="5481000"/>
                <a:chExt cx="516960" cy="366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54508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50296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019920" y="5481000"/>
                <a:ext cx="516960" cy="366120"/>
                <a:chOff x="6019920" y="5481000"/>
                <a:chExt cx="516960" cy="3661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062040" y="54810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01992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536880" y="5481000"/>
                <a:ext cx="517320" cy="366120"/>
                <a:chOff x="6536880" y="5481000"/>
                <a:chExt cx="517320" cy="3661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57936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536880" y="54810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054560" y="5481000"/>
                <a:ext cx="516960" cy="366120"/>
                <a:chOff x="7054560" y="5481000"/>
                <a:chExt cx="516960" cy="3661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09668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05456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571520" y="5481000"/>
                <a:ext cx="533880" cy="366120"/>
                <a:chOff x="7571520" y="5481000"/>
                <a:chExt cx="533880" cy="3661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613640" y="54810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571520" y="54810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8105400" y="5481000"/>
                <a:ext cx="523080" cy="366120"/>
                <a:chOff x="8105400" y="5481000"/>
                <a:chExt cx="523080" cy="3661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147520" y="54810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05400" y="54810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628840" y="5481000"/>
                <a:ext cx="510840" cy="366120"/>
                <a:chOff x="8628840" y="5481000"/>
                <a:chExt cx="510840" cy="3661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670960" y="54810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628840" y="54810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-223920" y="5847480"/>
                <a:ext cx="1593720" cy="366120"/>
                <a:chOff x="-223920" y="5847480"/>
                <a:chExt cx="1593720" cy="3661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-181440" y="58474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chwartz y Ber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 u="sng">
                      <a:solidFill>
                        <a:srgbClr val="000080"/>
                      </a:solidFill>
                      <a:uFillTx/>
                      <a:latin typeface="Times New Roman"/>
                      <a:ea typeface="Times New Roman"/>
                    </a:rPr>
                    <a:t>(+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19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-223920" y="58474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1369800" y="5847480"/>
                <a:ext cx="860760" cy="366120"/>
                <a:chOff x="1369800" y="5847480"/>
                <a:chExt cx="860760" cy="366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41228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6980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230920" y="5847480"/>
                <a:ext cx="860760" cy="366120"/>
                <a:chOff x="2230920" y="5847480"/>
                <a:chExt cx="860760" cy="3661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27340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Ra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23092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091680" y="5847480"/>
                <a:ext cx="860760" cy="366120"/>
                <a:chOff x="3091680" y="5847480"/>
                <a:chExt cx="860760" cy="3661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13416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1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09168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3952800" y="5847480"/>
                <a:ext cx="947520" cy="366120"/>
                <a:chOff x="3952800" y="5847480"/>
                <a:chExt cx="947520" cy="3661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995280" y="58474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75-1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952800" y="58474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900320" y="5847480"/>
                <a:ext cx="602280" cy="366120"/>
                <a:chOff x="4900320" y="5847480"/>
                <a:chExt cx="602280" cy="3661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942800" y="58474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900320" y="58474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5502960" y="5847480"/>
                <a:ext cx="516960" cy="366120"/>
                <a:chOff x="5502960" y="5847480"/>
                <a:chExt cx="516960" cy="3661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554508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50296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019920" y="5847480"/>
                <a:ext cx="516960" cy="366120"/>
                <a:chOff x="6019920" y="5847480"/>
                <a:chExt cx="516960" cy="3661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062040" y="58474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1992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536880" y="5847480"/>
                <a:ext cx="517320" cy="366120"/>
                <a:chOff x="6536880" y="5847480"/>
                <a:chExt cx="517320" cy="3661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57936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36880" y="58474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054560" y="5847480"/>
                <a:ext cx="516960" cy="366120"/>
                <a:chOff x="7054560" y="5847480"/>
                <a:chExt cx="516960" cy="36612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09668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5456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7571520" y="5847480"/>
                <a:ext cx="533880" cy="366120"/>
                <a:chOff x="7571520" y="5847480"/>
                <a:chExt cx="533880" cy="366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613640" y="58474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571520" y="58474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8105400" y="5847480"/>
                <a:ext cx="523080" cy="366120"/>
                <a:chOff x="8105400" y="5847480"/>
                <a:chExt cx="523080" cy="3661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8147520" y="58474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105400" y="58474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8628840" y="5847480"/>
                <a:ext cx="510840" cy="366120"/>
                <a:chOff x="8628840" y="5847480"/>
                <a:chExt cx="510840" cy="3661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8670960" y="58474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628840" y="58474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>
              <a:off x="-228600" y="1447920"/>
              <a:ext cx="9372600" cy="4768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-314280" y="8959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lejo IV/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828800" y="1012680"/>
          <a:ext cx="6095880" cy="58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12680"/>
                    <a:ext cx="609588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9:47:33Z</dcterms:created>
  <dc:creator>U DE CHILE</dc:creator>
  <dc:description/>
  <dc:language>en-US</dc:language>
  <cp:lastModifiedBy>Fac. de Medicina</cp:lastModifiedBy>
  <dcterms:modified xsi:type="dcterms:W3CDTF">2009-10-19T20:55:31Z</dcterms:modified>
  <cp:revision>24</cp:revision>
  <dc:subject/>
  <dc:title>BERA</dc:title>
</cp:coreProperties>
</file>