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0846-14B5-4CA1-AC61-14A86832F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E3AC-C9AE-4099-BC6E-967D977A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CF95-60C6-4DF9-8355-526D327B8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364D-DD46-4B78-88A4-64A37B246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9498-AF72-4EB3-BB78-40E07252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4E28-8C09-4BE5-8A31-9EC15E90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3A51-CF48-413C-866C-2D59AF09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25AF-ABC6-4EF3-9122-831EEC82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F7CA-D0EC-4A8A-9C66-C4BBB793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FB0E-0AAC-43CA-B0B2-451ECE33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FE02-D189-4743-AB12-167BC5C3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460B-0AF1-47BE-BD83-BC5826F2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DAE0-56A0-4FAB-B2B0-D807868F7E2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28400" y="1000080"/>
            <a:ext cx="8358120" cy="28576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EVALUACIÓN DE INTERVENCIONES ALIMENTARIO NUTRI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3500280" y="5572080"/>
            <a:ext cx="5040360" cy="936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Nut. MSc. Margarita Andrade  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Universidad de Chil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4360" y="571320"/>
            <a:ext cx="7416720" cy="50720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Verdana"/>
              </a:rPr>
              <a:t>Valoración sistemática sobre el diseño, ejecución y los resultados de una intervenc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85840" y="571680"/>
            <a:ext cx="8572320" cy="59292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Verdana"/>
              </a:rPr>
              <a:t>Proceso organizativo orientado a determinar tan sistemática y objetivamente como sea posible, la efectividad y eficiencia de las actividades de una intervenció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99"/>
                </a:solidFill>
                <a:latin typeface="Verdana"/>
              </a:rPr>
              <a:t>a la luz de objetivos y me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9720" y="1428840"/>
            <a:ext cx="6643800" cy="26431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68321" dir="20281825" blurRad="0" rotWithShape="0">
              <a:srgbClr val="000099"/>
            </a:outerShdw>
          </a:effectLst>
        </p:spPr>
        <p:txBody>
          <a:bodyPr anchor="t">
            <a:noAutofit/>
          </a:bodyPr>
          <a:p>
            <a:pPr marL="17136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¿Qué tipos de evaluación existen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85480" y="1428480"/>
            <a:ext cx="8459640" cy="50814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Según organismo que la realiza</a:t>
            </a: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- Evaluación inte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- Evaluación exte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- Evaluación mix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Según su naturaleza de los da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- Evaluación descrip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- Evaluación explic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618920" y="404280"/>
            <a:ext cx="6264360" cy="7621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68321" dir="20281825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TIPOS DE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56760" y="928800"/>
            <a:ext cx="8572680" cy="55720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marL="380880" indent="-9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95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Según criterios de eficiencia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95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95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- Evaluación económica y financiera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95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v. Ex 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95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v. Ex p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95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95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Se determina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*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costo-benef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95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*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costo-efe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95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28440" y="642600"/>
            <a:ext cx="7467480" cy="53578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66"/>
            </a:outerShdw>
          </a:effectLst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Según aspecto que se evalú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- Evaluación de contex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- Evaluación de insu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- Evaluación de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- Evaluación de resul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 “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Enfoque sistémico</a:t>
            </a:r>
            <a:r>
              <a:rPr b="1" lang="es-ES_tradnl" sz="3600" spc="-1" strike="noStrike">
                <a:solidFill>
                  <a:srgbClr val="000099"/>
                </a:solidFill>
                <a:latin typeface="Verdana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8137440" cy="51134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marL="457200" indent="-36180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Juicio de valor sobre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61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Coherencia entre lo planificado y     lo ejecut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61800">
              <a:lnSpc>
                <a:spcPct val="11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Oportunidad y suficiencia en cantidad y calidad de los insumos asignados durante la ejecu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61800">
              <a:lnSpc>
                <a:spcPct val="11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Calidad de la administración de recursos human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61800" algn="just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4360" y="260280"/>
            <a:ext cx="7991280" cy="936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68321" dir="20281825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EVALUACIÓN DE PROCE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99680" y="1142640"/>
            <a:ext cx="8358120" cy="53751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marL="285840" indent="-114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14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Pertinencia y eficacia de los procesos de comunicación y coordinación utiliz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14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Utilización de los recursos asig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14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Oportunidad y eficacia del seguimiento de las actividades planificad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1214280" y="285840"/>
            <a:ext cx="6816960" cy="720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68321" dir="20281825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EVALUACIÓN DE PRO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42600" y="1928520"/>
            <a:ext cx="8001000" cy="44463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marL="285840" indent="-114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14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14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Calidad y eficacia de la supervisión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técnica y administrativ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14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14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14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fectividad en el logro de las metas  propuest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1285560" y="714240"/>
            <a:ext cx="6786360" cy="720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68321" dir="20281825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EVALUACIÓN DE PRO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71320" y="1642680"/>
            <a:ext cx="8072280" cy="50007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>
              <a:lnSpc>
                <a:spcPct val="15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Proceso sistemático y objetivo de recolección, procesamiento, interpretación y análisis de datos, con el propósito de verificar el logro de los objetivos y metas de una intervención, con indicadores pre establec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213920" y="357120"/>
            <a:ext cx="6929640" cy="9684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68321" dir="20281825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EVALUACIÓN  DE 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499680" y="428760"/>
            <a:ext cx="8358120" cy="58579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Recordemos qué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Toda propuesta de interven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(plan, programa o proyecto) debe basarse en una evaluación diagnóstica o línea 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0080" y="357120"/>
            <a:ext cx="7215120" cy="9684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68321" dir="20281825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EVALUACIÓN  DE 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85840" y="1571760"/>
            <a:ext cx="8501040" cy="47275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marL="266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Los resultados se pueden evaluar en términos de productos, efectos e impacto, logrados por la interven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s fundamental establecer los datos que se requiere y los métodos de recolección, procesamiento y análisis de los mism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28480" y="357120"/>
            <a:ext cx="5662440" cy="9684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68321" dir="20281825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Verdana"/>
              </a:rPr>
              <a:t>RESULT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57120" y="1643040"/>
            <a:ext cx="8305920" cy="47671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PRODUCTOS: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Bienes y/o servicios generados por la interven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- N° de consultas nutri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-  N° de programas educativ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28760" y="856800"/>
            <a:ext cx="8501040" cy="5715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marL="171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EFECTOS: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Cambios logrados como consecuencia de la utilización de los productos de una intervenció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Cambios en la conducta aliment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Cambios en el nivel de actividad fís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n una intervención, también pueden obtenerse efectos inesperados, que es necesario evalu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71320" y="785880"/>
            <a:ext cx="7715160" cy="52149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marL="171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IMPACTO: </a:t>
            </a:r>
            <a:r>
              <a:rPr b="0" lang="es-ES" sz="3200" spc="-1" strike="noStrike">
                <a:solidFill>
                  <a:srgbClr val="000099"/>
                </a:solidFill>
                <a:latin typeface="Verdana"/>
              </a:rPr>
              <a:t>Cambio logrado como resultado de los efectos que produce la intervención en la población obje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ste cambio puede ser en la condición biológica, económica, social o ambiental de la población obje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3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360" algn="just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71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85840" y="571680"/>
            <a:ext cx="8572320" cy="59292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marL="2667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Resultados de impacto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desde el punto de vis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algn="just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Biológico: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mejor estado nutri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algn="just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algn="just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Económico: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mayor ingr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algn="just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Social: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menor violencia intrafamil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algn="just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Ambiental: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menor contami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571320" y="285480"/>
            <a:ext cx="8143560" cy="63579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En toda evaluación se de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Seleccionar claramente las variab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que se desea evalu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stablecer indicadores mensur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n términos cuantitativos 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cualitativ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Y… ¿Qué es un indicad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57120" y="571680"/>
            <a:ext cx="8429760" cy="59292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Un indicador es la unidad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medida de una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Los indicadores miden el cambio atribuible a la intervención, especificando los resultados esperados en cantidad, calidad y tiemp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57120" y="928440"/>
            <a:ext cx="8353440" cy="47862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Los buenos indicadores, permi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decidir la “necesidad de resultados  esperados adicionales y corregir el rumbo, para lograr las metas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68321" dir="20281825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FASES DEL PROCESO DE EVALU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99680" y="1571760"/>
            <a:ext cx="8358120" cy="4968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47628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Constituir el equipo evaluado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47628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Determinar el o los tipos de evaluación a realizar, considerando su localización en la estructura de la organ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47628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Seleccionar variables según el tipo de  evalu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8001000" cy="6858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68321" dir="20281825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FASES DEL PROCESO DE EVALU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94920" y="1700280"/>
            <a:ext cx="7921800" cy="4572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marL="380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stablecer los indicadore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pertinen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Identificar las fuentes de verificación o de información primarias y secundar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899640" y="2060640"/>
            <a:ext cx="7093080" cy="3225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Verdana"/>
              </a:rPr>
              <a:t>¿Qué es evaluació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Verdana"/>
              </a:rPr>
              <a:t>diagnóstic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7617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68321" dir="20281825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FASES DEL PROCESO DE EVALU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72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19080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Seleccionar y si es necesario diseñar 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validar instrumentos para recolect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los datos neces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19080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Diseñar el modelo de proces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y análisis de lo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19080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Organizar procedimientos opera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Verdana"/>
              </a:rPr>
              <a:t>y logísticos de recolección de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01000" cy="7621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68321" dir="20281825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FASES DEL PROCESO DE EVALU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28760" y="1714320"/>
            <a:ext cx="8105760" cy="46717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marL="285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380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Recolectar los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380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Procesar, interpretar y analizar l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información da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380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Preparar el informe de 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y difundir oportuna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5480" y="1571400"/>
            <a:ext cx="8459640" cy="36716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68321" dir="20281825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Y ahora… 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  A diseñar el modelo de evaluación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MUCHAS GRA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275600" cy="7621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68321" dir="20281825" blurRad="0" rotWithShape="0">
              <a:srgbClr val="0000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Verdana"/>
              </a:rPr>
              <a:t>EVALUACIÓN DIAGNÓS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480" y="1285920"/>
            <a:ext cx="8429400" cy="52862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marL="1746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Proceso de evaluación destinado a describir, explicar la situación alimentaria y nutricional actual de una comunidad u organización y su evolución histórica, en un determinado período del pasado y también, pronosticar la situación a futur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357120" y="285480"/>
            <a:ext cx="8501040" cy="63579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n la evaluación diagnóstica  se obtiene datos sob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Los problemas de nutrición y salud y las necesidades emergen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Loa factores condicionantes de l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mis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Las intervenciones y su cober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7120" y="285480"/>
            <a:ext cx="8501040" cy="63579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n la evaluación diagnóstica  se obtiene datos sob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Las instituciones involucrad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l tipo y cantidad de recurs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disponi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Las organizaciones de la comun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Las dificultades y potencia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xist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95280" y="549360"/>
            <a:ext cx="8353440" cy="59515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Recordemos también qu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n planes y programas se expresan los objetivos y metas, cuanti y cualitativas que se desea logr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stas se pueden alcanzar a través de  la ejecución de diversas actividades, utilizando múltiples recur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57120" y="642960"/>
            <a:ext cx="8429760" cy="58579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Verdana"/>
              </a:rPr>
              <a:t>Recordemos además que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Las actividades permiten establecer el cronograma y el presupuest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99"/>
                </a:solidFill>
                <a:latin typeface="Verdana"/>
              </a:rPr>
              <a:t>En la elaboración del presupuesto, se debe asignar valor a los recursos propios de la institución y los que es necesario solicitar, para llevar a cabo las actividades planificad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00000" y="2060640"/>
            <a:ext cx="7315200" cy="3225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ffffff"/>
              </a:gs>
              <a:gs pos="100000">
                <a:srgbClr val="0066ff"/>
              </a:gs>
            </a:gsLst>
            <a:lin ang="18900000"/>
          </a:gradFill>
          <a:ln w="0">
            <a:noFill/>
          </a:ln>
          <a:effectLst>
            <a:outerShdw dist="80486" dir="20489041" blurRad="0" rotWithShape="0">
              <a:srgbClr val="000099"/>
            </a:outerShdw>
          </a:effectLst>
        </p:spPr>
        <p:txBody>
          <a:bodyPr anchor="t">
            <a:noAutofit/>
          </a:bodyPr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Verdana"/>
              </a:rPr>
              <a:t>¿QUÉ ES EVALUACIÓN D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Verdana"/>
              </a:rPr>
              <a:t>INTERVENCIONE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2T21:08:32Z</dcterms:created>
  <dc:creator>Division de Informatica</dc:creator>
  <dc:description/>
  <dc:language>en-US</dc:language>
  <cp:lastModifiedBy>Usuario</cp:lastModifiedBy>
  <cp:lastPrinted>2001-11-16T13:49:45Z</cp:lastPrinted>
  <dcterms:modified xsi:type="dcterms:W3CDTF">2011-12-27T11:40:38Z</dcterms:modified>
  <cp:revision>165</cp:revision>
  <dc:subject/>
  <dc:title>UNIVERSIDAD DE CHILE  FACULTAD DE MEDICINA</dc:title>
</cp:coreProperties>
</file>