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FE7-4A29-4205-971A-182A0B4D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AA2-CA5B-41D3-AEC2-D66B381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187-CF77-456C-B5A1-EAFE7F90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C97-2A70-40DB-87E8-FA44857A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385-008E-466B-9902-CA2DEF5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EB8-5D7D-449F-9E1E-08B3D41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C77-F8A3-4305-8A0C-9785308F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BC1-51B5-4AFE-8251-6E45155E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E7B-676F-42F6-99A9-71F3430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5FD-6FF2-4963-B7A3-B4FD1A5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F19-8DF8-40B9-BD84-7BEF73E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D37-79D3-4B77-9ECB-25AA55C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3C4-97FB-4E68-AF9A-4E5F0F5778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1000080"/>
            <a:ext cx="8358120" cy="28576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 DE INTERVENCIONES ALIMENTARIO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00280" y="5572080"/>
            <a:ext cx="504036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Nut. MSc. Margarita Andrade  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Universidad de Chi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571320"/>
            <a:ext cx="7416720" cy="5072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Valoración sistemática sobre el diseño, ejecución y los resultados de una interve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Proceso organizativo orientado a determinar tan sistemática y objetivamente como sea posible, la efectividad y eficiencia de las actividades de una intervenc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a la luz de objetivos y me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9720" y="1428840"/>
            <a:ext cx="6643800" cy="2643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¿Qué tipos de evaluación existe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8459640" cy="5081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organismo que la realiza</a:t>
            </a: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in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mix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su naturaleza de los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descrip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pl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26436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TIPOS D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6760" y="928800"/>
            <a:ext cx="8572680" cy="5572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-9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criterios de eficienci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económica y financie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 determina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bene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efe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8440" y="642600"/>
            <a:ext cx="7467480" cy="5357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66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aspecto que se evalú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“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foque sistémico</a:t>
            </a: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137440" cy="511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457200" indent="-3618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Juicio de valor sobr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herencia entre lo planificado y     lo ejecu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suficiencia en cantidad y calidad de los insumos asignados durante la ejec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de la administración de recursos hum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358120" cy="53751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cia y eficacia de los procesos de comunicación y coordinación uti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Utilización de los recursos asig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eficacia del seguimiento de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14280" y="285840"/>
            <a:ext cx="68169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8001000" cy="4446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y eficacia de la supervisió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écnica y administrati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fectividad en el logro de las metas  propues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285560" y="714240"/>
            <a:ext cx="67863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72280" cy="5000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sistemático y objetivo de recolección, procesamiento, interpretación y análisis de datos, con el propósito de verificar el logro de los objetivos y metas de una intervención, con indicadores pre establ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9296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9680" y="428760"/>
            <a:ext cx="835812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qu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oda propuesta de interven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(plan, programa o proyecto) debe basarse en una evaluación diagnóstica o línea 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1512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85840" y="1571760"/>
            <a:ext cx="8501040" cy="4727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resultados se pueden evaluar en términos de productos, efectos e impacto, log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 fundamental establecer los datos que se requiere y los métodos de recolección, procesamiento y análisis de los m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480" y="357120"/>
            <a:ext cx="56624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57120" y="1643040"/>
            <a:ext cx="8305920" cy="4767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PRODUCTOS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Bienes y/o servicios gene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N° de consultas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 N° de programas educativ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760" y="856800"/>
            <a:ext cx="8501040" cy="5715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FECTOS: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logrados como consecuencia de la utilización de los productos de una interven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la conducta alime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el nivel de actividad fís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una intervención, también pueden obtenerse efectos inesperados, que es necesario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1320" y="785880"/>
            <a:ext cx="7715160" cy="5214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IMPACTO: </a:t>
            </a: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Cambio logrado como resultado de los efectos que produce la intervención en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e cambio puede ser en la condición biológica, económica, social o ambiental de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sultados de impacto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sde el punto de vi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Biológ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jor estado nutr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conóm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ayor ingr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oci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violencia intra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Ambient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14356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 toda evaluación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claramente las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que se desea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indicadores mensu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términos cuantitativos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ualita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… ¿Qué es un indicad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57120" y="571680"/>
            <a:ext cx="842976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Un indicador es la unidad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edida de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indicadores miden el cambio atribuible a la intervención, especificando los resultados esperados en cantidad, calidad y tiem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57120" y="928440"/>
            <a:ext cx="8353440" cy="4786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Los buenos indicadores, perm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decidir la “necesidad de resultados  esperados adicionales y corregir el rumbo, para lograr las metas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358120" cy="4968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nstituir el equipo evalu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terminar el o los tipos de evaluación a realizar, considerando su localización en la estructura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variables según el tipo de  eval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01000" cy="685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792180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los indicador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dentificar las fuentes de verificación o de información primarias y secund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09308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diagnóst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Seleccionar y si es necesario diseñar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validar instrumentos para recolec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los dat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Diseñar el mode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análisis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Organizar procedimientos 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logísticos de recolec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760" y="1714320"/>
            <a:ext cx="8105760" cy="4671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Recolectar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ar, interpretar y analizar 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nformación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eparar el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y difundir oportun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1571400"/>
            <a:ext cx="8459640" cy="367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 ahora… 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A diseñar el modelo de evaluación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2756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IAGNÓ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429400" cy="5286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46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de evaluación destinado a describir, explicar la situación alimentaria y nutricional actual de una comunidad u organización y su evolución histórica, en un determinado período del pasado y también, pronosticar la situación a futu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problemas de nutrición y salud y las necesidades emerg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a factores condicionantes de l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m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tervenciones y su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stituciones involucr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l tipo y cantidad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organizacione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dificultades y 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xist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951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también qu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planes y programas se expresan los objetivos y metas, cuanti y cualitativas que se desea log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s se pueden alcanzar a través de  la ejecución de diversas actividades, utilizando múltiples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7120" y="642960"/>
            <a:ext cx="842976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además qu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actividades permiten establecer el cronograma y el presupues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laboración del presupuesto, se debe asignar valor a los recursos propios de la institución y los que es necesario solicitar, para llevar a cabo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731520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INTERVENCIONE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1:08:32Z</dcterms:created>
  <dc:creator>Division de Informatica</dc:creator>
  <dc:description/>
  <dc:language>en-US</dc:language>
  <cp:lastModifiedBy>Usuario</cp:lastModifiedBy>
  <cp:lastPrinted>2001-11-16T13:49:45Z</cp:lastPrinted>
  <dcterms:modified xsi:type="dcterms:W3CDTF">2011-12-27T11:40:38Z</dcterms:modified>
  <cp:revision>165</cp:revision>
  <dc:subject/>
  <dc:title>UNIVERSIDAD DE CHILE  FACULTAD DE MEDICINA</dc:title>
</cp:coreProperties>
</file>