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EC3-B721-42CF-A356-063EF0F7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FF9-5A49-4BC5-8935-BF967D8E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1299-9BFC-4D56-A504-6378C1FF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C35B-9E7B-4D8E-A9B6-43F82132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A13-0C1D-47EA-9217-093A24E2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05D-8B15-4BDD-9A61-6B13C83A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F11-9D41-43EF-94FF-BD604EF3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7970-00AD-440E-9BB4-F7DA2539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56B-74BF-4CB7-8221-19433327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12D-BB88-43CD-A5AF-84BBAB3C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0A15-28D5-439A-AF16-FB7151D8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C4CB-0949-4AE6-8E72-63480AEA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CE34-C24A-463C-B92F-29EAAED9382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 o   pronombres personales áton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116000" y="549360"/>
          <a:ext cx="6985080" cy="19368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terminan de manera directa a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 de ellos funciona como pronombre que reemplaza un CD o un 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mayoría, por lo tanto, se clasifica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direct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 com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lementario indir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16000" y="2637000"/>
          <a:ext cx="6985080" cy="190008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emplazo de 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 la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la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116000" y="549360"/>
          <a:ext cx="6985080" cy="1936800"/>
        </p:xfrm>
        <a:graphic>
          <a:graphicData uri="http://schemas.openxmlformats.org/drawingml/2006/table">
            <a:tbl>
              <a:tblPr/>
              <a:tblGrid>
                <a:gridCol w="3492360"/>
                <a:gridCol w="349272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Complementarios in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  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Reemplazo pronominal para identificación de función sintáct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imos en la bibli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vimos en la biblioteca / *Le vimos en la bibliote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raje la medicin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prome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traje la medicina / le traje la medic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1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La medicina que la prometí / la medicina que le prome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Te(2)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complementario indir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ijeron que no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sperár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an a traér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l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mañ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: 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taron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arán vac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os: 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Oraciones con pronominales reflej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solito todas las mañan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sujeto del verbo es, a la vez, el ob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lava el pelo solito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es una parte semántica d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”: pronominal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reflej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lava todas las mañ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objeto del verbo no coincide con el sujeto del ver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” no es reflejo (es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licuo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), con función 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Verbos pronomin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rbos que se construyen con un pronom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pronominal es parte del ver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r lo tanto, el pronominal no tiene función sintácti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ugarse des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ndi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4:14:58Z</dcterms:created>
  <dc:creator>medicina</dc:creator>
  <dc:description/>
  <dc:language>en-US</dc:language>
  <cp:lastModifiedBy>medicina</cp:lastModifiedBy>
  <dcterms:modified xsi:type="dcterms:W3CDTF">2011-12-05T20:50:59Z</dcterms:modified>
  <cp:revision>6</cp:revision>
  <dc:subject/>
  <dc:title>Los pronominales o   pronombres personales átonos</dc:title>
</cp:coreProperties>
</file>