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F5FA-F237-4BBD-B2F2-CFE78C8D2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C570-7382-471B-8C7E-3A647D45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FA4E-835F-42D2-A96C-0C434F55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6D98-49CD-423D-A2EF-2BC9088E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76EC-399A-4B60-BBEB-C6E4AEAC5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CB92-7B1A-4CE2-BDE4-F5AF7912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7AE9-A669-473A-81DE-DF9AC9AF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8EAE-F0C7-42AE-BE9B-BA341866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C60E-37C7-49A1-AE90-EA84735F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4E2C-A0C5-497E-87C4-2DD5E4AA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95E1-FBE0-4943-82A8-D8B33839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8F72-E230-40CC-A2B6-BAF9504C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75AD-DD3B-422C-82F6-E403004B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E431-46B5-49B3-9716-05740EC2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1FC3-8B6A-4489-BBD0-DC5595F8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16A5-7EC3-444C-9AC2-133AB998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BF7C-E734-4CAC-BE98-9F2BDFA1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CC6BD-4E3C-48C4-AFDB-F0760C48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1AFC2-D070-4170-B2BA-133EAF2E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B4FB5-4D85-4C40-815A-AB5CFECA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DBECA-6870-450E-835F-C63C93EE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AD543-6DDB-4A6E-8ED5-992C55FC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DF69-1F8E-40F3-8E6F-2BC5CE76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B8051-7466-415F-A807-1DC38D23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C342D-2B08-41E4-9999-4E6D6F19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4F555-D6F1-4623-BEA3-C48C3726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FED8F-4DDA-4E1D-9F55-873DAE64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D40C6-D77A-4072-9786-EABE9AA0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FE8D3-8B51-401B-82B8-EA7F49E3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32876-C160-47C7-82B3-52950297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BFDB1-2282-42B0-96CD-86625548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B7F7E-CB53-471E-A638-555CBEFB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1932A-F411-4733-8FAF-52F522E0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6D9C-0434-4B37-B238-48044C86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71EBC-6F6B-4ED0-B3F3-B084E920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4ED1E-BC9B-42ED-99D7-BFF19136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9AAC0-0B3C-45E3-904B-2AB5811A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72FFF-C82B-48D5-BD7D-1690A81E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949A6-7E6E-4D59-85E6-C875F370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071D7-1B16-4FD7-815F-921EFCA7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491EA-DD61-417B-B2D7-D9A026CC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79554-1A0C-4142-BB0D-D7FA9CE48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1A17F-263A-4E90-8AED-299FCA70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F115B-FF45-4C23-8595-C1C1CDFE2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7F9B-83A1-40AF-9D1D-B8EA8677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B72C9-17A9-4696-9304-1181DE44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97B60-B642-4075-A73D-ACA5C719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D00EE-BFB2-464A-8A90-15570A76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1948F-87A9-4632-AF33-BC6F76C6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1AC2C-582F-4251-A7A4-0C78F25B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91F99-51E1-4F52-80F0-AEDED12D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B6B09-7F70-438E-B09B-88876312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1B4D3-8BE0-4C42-8C30-1D926FFE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F0FD0-9A23-483D-843B-47464341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F9F9C-BDAD-4CB4-869E-FF020978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F9EF-FA22-45FF-A9AC-62D4838A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41757-4B5E-46CE-A2E1-97F60634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478AA-AAE3-4985-BFF8-CAC8AC51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ADECD-0D8C-4282-9BC1-5961C962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3419B-B24D-4388-B30D-4E48844E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CFFB7-BAAB-4F38-9611-4356329A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C02A7-B989-49D4-9370-713BE8D1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B20CD-C222-463F-B861-7F5A83CB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12BFD-A91D-4E34-9842-2B5D62BB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58271-7152-41ED-8085-B59ECCF8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0DD77-322F-4523-B8D4-07783689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1D81-E859-4790-B1CC-1651865B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BDBF6-7A0E-4595-9D40-1BC73504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CDC7F-B89D-4E88-AE66-83D18684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90961-3BEE-418A-BFA0-312D81D0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3E0A2-EA6A-45E4-9819-00C5E8C4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D249C-97C3-4D98-A7C4-5FCAAF9F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3F567-73AB-4C93-8FB7-F5ED9F20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ADA43-4686-496A-97B0-4B828759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B8411-97FD-4571-B9E2-AC2122FF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EB44C-D33B-40AE-83A5-E68901B8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93B22-1428-4192-AA3B-8E8F583B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84F5-4CD2-44F9-8A66-C371DA5E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8ED81-59DD-4217-8CDC-58D5B80D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0D0CE-4549-4CDF-97DC-59BA2F7B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906A7-FEA9-4EC5-B6AF-929E5FD7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61E15-E3DD-4198-A77C-326F720A6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87470-9AA8-4F0A-9004-46160AD4B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95980-95CE-4749-8942-D96BC9C0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7626F-44CD-47A9-ADE1-3F848A30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20C80-5A50-4D6F-8BA8-3E931A2C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55299-9A73-421B-B1C5-443AAE06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74875-B6F3-4B6C-BC43-AA7CA447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E153-D342-4B70-BB20-93BF095C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65992-6CC8-4B3C-B5F8-A90BEF22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E1883-1B53-4760-9A5D-EA010300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E8BF5-5EB1-4CD2-9902-94B2ECF8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F272F-A15A-40DD-8A5D-A1E34424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E4025-1339-47B7-A1B6-A5B09D66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CF650-1F01-4F6D-8C80-B7CBBE993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2E290-AE53-4816-A5AF-6F03C6CF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456F-698C-4482-9F92-3F6EA66B5A1A}" type="slidenum"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Rectángulo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2 Rectángulo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14 Rectángulo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BE09-04CB-4832-9087-EDE6C8331C1C}" type="slidenum"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Rectángulo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3929-F56C-4DB6-807E-90643F5E464F}" type="slidenum">
              <a:rPr b="0" lang="es-MX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10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9A7C-65EC-4F34-8764-99D489CD88FA}" type="slidenum"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5660-570D-4358-8213-CD176EE46B49}" type="slidenum"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11 Conector recto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12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27E1-B744-4903-AA56-9DA2EB40B274}" type="slidenum"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12 Rectángulo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68D9-5B76-41E7-9D4E-9551BB6B033A}" type="slidenum">
              <a:rPr b="0" lang="es-MX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2 Conector recto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A543-E080-4393-B426-8BDF8B31C1F7}" type="slidenum"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Cláusulas sustantiva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04920" y="1522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s preocupa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no haya respues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Atributo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o más urgente es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pensar en nuevas formas de sumar gen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mplemento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Van a decir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todo está maravillos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nversaban con los que ya no participan tant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304920" y="1522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s preocupa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no haya respues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Atributo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o más urgente es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pensar en nuevas formas de sumar gen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mplemento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Van a decir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todo está maravillos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nversaban con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ya no participan tant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04920" y="1522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s preocupa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no haya respues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Atributo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o más urgente es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pensar en nuevas formas de sumar gen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mplemento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Van a decir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todo está maravillos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nversaban con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ya no participan tant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Me llegó una consulta sobre cómo obtener más in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04920" y="1522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789120" indent="-21924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89120" indent="-21924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s preocupa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no haya respues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89120" indent="-219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Atributo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789120" indent="-21924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o más urgente es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pensar en nuevas formas de sumar gen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mplemento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789120" indent="-21924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Van a decir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todo está maravillos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89120" indent="-21924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nversaban con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ya no participan tant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89120" indent="-21924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Me llegó una consulta sobre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cómo obtener más in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89120" indent="-219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Distintas posibilidades de estructurar cláusulas sustantiva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on infinitiv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4653"/>
                </a:solidFill>
                <a:latin typeface="Gill Sans MT"/>
              </a:rPr>
              <a:t>Me solicitaron </a:t>
            </a:r>
            <a:r>
              <a:rPr b="1" lang="es-ES" sz="2400" spc="-1" strike="noStrike">
                <a:solidFill>
                  <a:srgbClr val="464653"/>
                </a:solidFill>
                <a:latin typeface="Gill Sans MT"/>
              </a:rPr>
              <a:t>recolectar firmas de apoyo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on relativos sin referen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64653"/>
                </a:solidFill>
                <a:latin typeface="Gill Sans MT"/>
              </a:rPr>
              <a:t>Los que siguen sin clases </a:t>
            </a:r>
            <a:r>
              <a:rPr b="0" lang="es-ES" sz="2400" spc="-1" strike="noStrike">
                <a:solidFill>
                  <a:srgbClr val="464653"/>
                </a:solidFill>
                <a:latin typeface="Gill Sans MT"/>
              </a:rPr>
              <a:t>son los secundario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on subjunciones “que” o “si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4653"/>
                </a:solidFill>
                <a:latin typeface="Gill Sans MT"/>
              </a:rPr>
              <a:t>Los invito a </a:t>
            </a:r>
            <a:r>
              <a:rPr b="1" lang="es-ES" sz="2400" spc="-1" strike="noStrike">
                <a:solidFill>
                  <a:srgbClr val="464653"/>
                </a:solidFill>
                <a:latin typeface="Gill Sans MT"/>
              </a:rPr>
              <a:t>que propongan idea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4653"/>
                </a:solidFill>
                <a:latin typeface="Gill Sans MT"/>
              </a:rPr>
              <a:t>No saben </a:t>
            </a:r>
            <a:r>
              <a:rPr b="1" lang="es-ES" sz="2400" spc="-1" strike="noStrike">
                <a:solidFill>
                  <a:srgbClr val="464653"/>
                </a:solidFill>
                <a:latin typeface="Gill Sans MT"/>
              </a:rPr>
              <a:t>si marzo será un mes relajado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on interrogativas indirect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4653"/>
                </a:solidFill>
                <a:latin typeface="Gill Sans MT"/>
              </a:rPr>
              <a:t>Tienes que decirme </a:t>
            </a:r>
            <a:r>
              <a:rPr b="1" lang="es-ES" sz="2400" spc="-1" strike="noStrike">
                <a:solidFill>
                  <a:srgbClr val="464653"/>
                </a:solidFill>
                <a:latin typeface="Gill Sans MT"/>
              </a:rPr>
              <a:t>qué fue lo que le escribiste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s preocupa que no haya respues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s preocupa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no haya respues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04920" y="1522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s preocupa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no haya respues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Atributo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o más urgente es pensar en nuevas formas de sumar gen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04920" y="1522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s preocupa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no haya respues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Atributo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o más urgente es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pensar en nuevas formas de sumar gen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304920" y="1522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s preocupa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no haya respues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Atributo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o más urgente es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pensar en nuevas formas de sumar gen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mplemento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Van a decir que todo está maravillos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04920" y="1522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s preocupa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no haya respues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Atributo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o más urgente es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pensar en nuevas formas de sumar gen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mplemento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Van a decir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todo está maravillos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3:38:20Z</dcterms:created>
  <dc:creator>Cristian Peñaloza</dc:creator>
  <dc:description/>
  <dc:language>en-US</dc:language>
  <cp:lastModifiedBy>medicina</cp:lastModifiedBy>
  <dcterms:modified xsi:type="dcterms:W3CDTF">2011-12-05T20:49:57Z</dcterms:modified>
  <cp:revision>12</cp:revision>
  <dc:subject/>
  <dc:title>Frase nominal</dc:title>
</cp:coreProperties>
</file>