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F3D-D805-4429-834F-54FC60AD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9FB-0431-4899-9CD9-1091E036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B97-6548-4FA0-91C2-6C3692DE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3AA9-F532-42D4-8884-A8F4AA77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7159-B0F8-4914-95D1-096EE661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A589-A167-4B84-9666-DAC91344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DE30-A4E5-4AB7-86FB-827461F7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3E7A-1F08-4B63-B551-14AFDD8D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BAF5-8874-4CAA-9972-7281909A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2420-0564-4AB4-B4E0-D9BCE555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B9D1-B5D2-4FEE-8CCF-C4EFAE3C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CB0-E2CD-49E6-9D59-98BD67AC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700D-D161-4E2C-8E4E-FBAF340A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37B7-B93D-4BCC-9A55-8AF8E6A4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0B55-EC40-410E-88D2-BAF669EC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E169-C0AC-4793-B0C2-D5F62F3E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4317-8FF9-4706-A224-13C993CD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79BF1-20F4-4650-923C-07C8DA7D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F0DCC-52C2-4CE4-B536-4950FDE0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B0264-9D9E-4F38-AB6D-33431353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00D0B-9048-464E-A170-A3A4AF18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DFBC3-C6AD-48CE-8B98-5626EF87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77B8-2502-498A-B015-0635BF2A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49BE1-B1E7-43D7-9C08-10AF2AD7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FEBD6-0DE5-4F83-88C6-4DAECF0D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5E729-C556-4DA6-847B-42B6F60D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11383-0EC7-4831-89D8-6BB80993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394B2-1B97-48FC-9C1E-2B6CBAE1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35EF9-C472-4594-B062-453D9526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ED5A1-5C57-45BC-BD79-A1268D94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8FC32-62B4-4376-820C-ED7EAA11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58D10-79DC-4E6D-BB2B-FDED9BFB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54199-8434-4EF0-B544-2091E512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4B2-585D-4399-A9DD-606EF503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ED845-AE62-4F97-AE2F-650F50A4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5B326-B064-473C-9797-588AA656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38843-65FC-4D18-AA38-35D4BAD2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22EFB-0681-4D8F-B81D-59C57CE7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9D438-070D-4F2E-80A1-488E83DE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8838F-8FE5-4684-AB64-8ECD721D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474CA-026D-4DE3-847A-1B6958C9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4F5A6-C996-4041-A89E-62C3C780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E4705-6D04-43A4-9C11-8EDE56E1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4CAB1-9E99-4AFE-9D24-BAFC5FB2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C1C9-D94A-485A-87CB-04171C02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4FD6C-053B-42B3-BCD5-95116446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C8DB9-76D1-432E-A09F-BB0EABD0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5F6FB-F043-4DF2-A6CC-D8685AAD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DB2E7-B871-4688-AA8A-08AB3CA8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CBBFD-460B-46D6-B644-CC520111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F8A8C-5EC0-4940-B45C-F90EDEAE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C3F4C-D681-4A27-A713-2350C462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51C8D-7A37-4579-9DA9-C8CED4B9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F3BF6-5174-4746-9A43-0858B53E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0FCD4-2CE9-46AE-ABA3-FAD88668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659B-2A55-40E8-8368-80708DCD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4388C-4399-41B7-8BD1-A7DAE6FF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B5D75-1B1E-414C-BA9E-745C7270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3B74E-EE2C-4A73-BCD9-AC455638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697D9-2643-4411-8220-FDA36727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1D4F5-7611-4B79-94A8-C6D99B72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D273B-0EF3-43CE-8E2F-8DB29221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ACC83-C70B-49F1-95AF-1254445D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4D248-A2BE-4295-84DA-FEAF04B9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E04C6-B7F9-4DD8-BD71-7D320B9F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E820A-27C8-423E-A1F0-7CBB6374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BC5-862E-4E6E-9EAF-A680E75E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B7445-245D-4064-B5D3-586BD06C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A2C22-AC28-4E96-8D1D-49AEE973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CEAC3-2E2D-4368-BB69-CAD1E284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72FBF-5129-4D61-8693-7E48BED3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772F6-BCC3-45DC-B904-8F5C9B22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A7EF5-D2D6-4AC1-AEC9-7CADD5C0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5904D-72D7-426E-BB46-F0D3B2F2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90E8F-6FC2-4683-8B0E-CB9619A3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C3306-E01F-47C7-ACE3-62E6CD80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7DEA6-029D-4B60-9C0D-58B0745D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89EB-1CE6-4E25-88A0-AAF76292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1D149-FAE0-436F-A246-F3CAE6F0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3858A-90DD-4133-8B4A-79BC29E8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94841-9D20-4636-A73D-30406B9D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F7F92-104C-4400-998A-3918656C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1E16B-D420-4D51-A9FD-27FF81B0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55A38-DE2F-4014-8074-6E0D0702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DEC6E-723A-41FC-B3E3-EA709E45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69E2D-A5AC-4A7F-A9E4-D6DC7985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FB18E-2F31-4874-922D-647BB52C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7B150-4B69-4DFD-85C7-BFC68A7F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51D-BA82-4686-9BD2-F290A47C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A318C-071B-426D-B11E-1693EF4E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46C7B-7A0A-4E46-B93B-F2962E1C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031B7-9265-4A12-A9A2-93C13B8A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0C8FC-3AFF-4AC3-A95D-98065E9C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97AA4-298D-43CA-AF84-1703F7D0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79351-083B-4721-ADEE-1978E385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62734-194C-4387-B7CF-398047A9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07D2-F261-464B-BB26-5AB2600B2DFF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7FF6-3E7C-4604-8359-0BE1657EBBE0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0467-C6ED-42F3-83DB-1646EDBEF7BF}" type="slidenum">
              <a:rPr b="0" lang="es-MX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6C02-0582-46A6-9E0C-B4CB4F07C31A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1D18-14B4-488F-A751-4E5698FB2ADD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2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0DAB-4832-4522-BC5B-6D437EA1704E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2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DD49-4577-4904-8953-A8822429E956}" type="slidenum">
              <a:rPr b="0" lang="es-MX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2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80B7-CBD3-4B0F-89BD-A0EC1B83FDFD}" type="slidenum">
              <a:rPr b="0" lang="es-MX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Cláusulas sustantiva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versaban con los que ya no participan ta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versaban con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ya no participan ta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versaban con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ya no participan ta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e llegó una consulta sobre cómo obtener más in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versaban con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ya no participan ta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e llegó una consulta sobre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cómo obtener más in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Distintas posibilidades de estructurar cláusulas sustantiva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 infinitiv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Gill Sans MT"/>
              </a:rPr>
              <a:t>Me solicitaron </a:t>
            </a:r>
            <a:r>
              <a:rPr b="1" lang="es-ES" sz="2400" spc="-1" strike="noStrike">
                <a:solidFill>
                  <a:srgbClr val="464653"/>
                </a:solidFill>
                <a:latin typeface="Gill Sans MT"/>
              </a:rPr>
              <a:t>recolectar firmas de apoyo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 relativos sin refer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64653"/>
                </a:solidFill>
                <a:latin typeface="Gill Sans MT"/>
              </a:rPr>
              <a:t>Los que siguen sin clases </a:t>
            </a:r>
            <a:r>
              <a:rPr b="0" lang="es-ES" sz="2400" spc="-1" strike="noStrike">
                <a:solidFill>
                  <a:srgbClr val="464653"/>
                </a:solidFill>
                <a:latin typeface="Gill Sans MT"/>
              </a:rPr>
              <a:t>son los secundario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 subjunciones “que” o “si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Gill Sans MT"/>
              </a:rPr>
              <a:t>Los invito a </a:t>
            </a:r>
            <a:r>
              <a:rPr b="1" lang="es-ES" sz="2400" spc="-1" strike="noStrike">
                <a:solidFill>
                  <a:srgbClr val="464653"/>
                </a:solidFill>
                <a:latin typeface="Gill Sans MT"/>
              </a:rPr>
              <a:t>que propongan idea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Gill Sans MT"/>
              </a:rPr>
              <a:t>No saben </a:t>
            </a:r>
            <a:r>
              <a:rPr b="1" lang="es-ES" sz="2400" spc="-1" strike="noStrike">
                <a:solidFill>
                  <a:srgbClr val="464653"/>
                </a:solidFill>
                <a:latin typeface="Gill Sans MT"/>
              </a:rPr>
              <a:t>si marzo será un mes relajado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n interrogativas indirect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Gill Sans MT"/>
              </a:rPr>
              <a:t>Tienes que decirme </a:t>
            </a:r>
            <a:r>
              <a:rPr b="1" lang="es-ES" sz="2400" spc="-1" strike="noStrike">
                <a:solidFill>
                  <a:srgbClr val="464653"/>
                </a:solidFill>
                <a:latin typeface="Gill Sans MT"/>
              </a:rPr>
              <a:t>qué fue lo que le escribist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0492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áusulas que cumplen alguna función de F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or lo tanto, pueden funcionar com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úcleo de FN(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Los que participan de las comisiones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riquecen su forma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s preocupa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no haya respuest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tribut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o más urgente es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pensar en nuevas formas de sumar g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lemen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n a decir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que todo está maravillos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3:38:20Z</dcterms:created>
  <dc:creator>Cristian Peñaloza</dc:creator>
  <dc:description/>
  <dc:language>en-US</dc:language>
  <cp:lastModifiedBy>medicina</cp:lastModifiedBy>
  <dcterms:modified xsi:type="dcterms:W3CDTF">2011-12-05T20:49:57Z</dcterms:modified>
  <cp:revision>12</cp:revision>
  <dc:subject/>
  <dc:title>Frase nominal</dc:title>
</cp:coreProperties>
</file>