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62A-A699-4C0E-8829-7B42EE1B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239-E365-4312-816E-7B149A6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A02-C93E-4384-A1D1-BE067758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3A2-4C83-4B5C-87D1-F06BDD50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21EE-A28D-4BDD-BCD8-143F5B84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EA77-42C7-493D-8C29-D3021E49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F408-DCBB-47FB-ADE3-2A81A59E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BA29-D292-427E-9400-C25B90EE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7204-4295-480B-B53C-642CA993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B83E-CDAC-4858-A628-ED9107F7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6743-E1EA-4597-9FCC-0816D26E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26D-571A-491A-AD3F-ED7FA5A6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39CC-3E4C-4EBD-B5CE-64023469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C5EC-51DD-45CE-8947-4E2FF9EC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4D0C-B5D6-4CDD-8760-957A44F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C363-D5D7-42AF-9E3C-63BD5F8B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F626-5EA2-4EB2-BFAD-5BF8D13A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7C4C-87CB-49A2-8475-BC2CD12B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5C87-15CB-462D-8753-748F3975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C5BB-E30D-4806-9672-014CFD2D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005E-A447-4474-AD00-B359AEE5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CAA9-71DC-4C04-9410-EA4267C4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2B7-FB8A-48DF-BAB1-B93E2B27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A48A-D03A-4A70-A11A-D41023D6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0DBB-B5E2-48B7-959E-B48B719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775E-7D6A-49DC-BC98-F5E0B5C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DCC57-A281-4893-8925-9E40EA49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6D61-5113-48ED-8147-3C8F7073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5C1CC-F4E2-4B98-90A5-2F6FF697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6CCF-4EAF-436B-8960-145E5C00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3A90-25E7-4EBB-84A2-9749C5FD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507D-811C-4F5F-8C5C-8308E80B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917B-4E31-4745-A872-19846E03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591-EB49-4089-8A39-C4240D90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632B-4A37-4C5F-B8A9-9ED92D8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D2F9-D009-4B87-9842-7697CB8E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C83F-2770-42A1-8AF1-A8E46C8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8A4E-02B0-4834-B588-3D2BC94F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357A-ABDE-44C4-BE9D-0FE59DD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E50D2-C9BB-4DB2-9FE8-1F2AEB9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7759-5602-40B3-9635-BAD2FA41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C2B08-9580-493E-B3A2-13F43C8F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571C4-04F2-4E5C-B1D4-CE6A78AD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39917-3909-4A0B-B3EF-CC3AEEFA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C74-EA71-4647-9F61-A882C595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40E7-A98E-4E81-AF64-A29EDE4E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32131-33C9-4EA7-AB69-55641D57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3C528-C604-44BB-BEB7-7DD4B351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EC1F-F05B-4DF2-AD0C-462EA460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F6613-1B3A-40EC-AC9B-9B298234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5DF5D-CAEE-4824-B9F1-EA6884BA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DF4B-B995-479D-9AFD-6DE72DFD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F9A70-3BE9-4EC3-8E4B-3023BE1C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AE23-FFAE-46EC-BD22-E746466E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4926-8DE3-436E-9301-00F5424A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FFC-D9C9-48DD-B3C2-1103AD31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05861-54EE-40C6-8173-B0646138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6AC40-0F4E-460E-AC44-C2E9F9A8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B2802-4388-4778-9DBF-BB594A53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1CA74-ECED-4A44-9B35-2474790B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17123-7FF8-4277-9681-D4065957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44E0C-BC71-4962-9977-1DB6D58C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DACDC-7D04-4874-A668-8A3BB20E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04116-62F9-4D2C-B939-FFEF7578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F449-10FC-4527-BD34-62ABE4F9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243F-D611-42B3-941E-539496A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153-AC9A-46DA-9529-D13CD5E0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3B2DC-3514-4E68-B391-BA8AA2EC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EFEB9-840E-40FA-A93A-B5647185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99689-B26F-4D59-A60D-2DCB1284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D49E3-D726-488A-9824-C575AB94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59BCF-2973-4E77-9671-109E0565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2481-1447-48A0-860C-05E1FCBC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C695-EDB3-44EE-9A8B-EA7E1D91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049C5-08B6-469B-A01E-DC566B92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5D087-A6F2-4AE4-A069-EB42F856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FD72F-6A1C-4D1B-A5CC-ED393F9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73F-5FB7-4BD4-A047-8C06AD5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81C7-3067-4DE8-B81A-D386C4C0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01313-1F9C-4BF6-9F5F-AB68D10B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F3D44-FB6A-4069-9525-23D6AAA7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AD462-BB10-423E-9C93-373AA1B3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53F43-A83F-47B5-8A83-3E8233B0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5405B-C380-430F-BD51-C87F298E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3281B-DD61-4C37-9EC2-4BF2C7C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4DDAA-F23A-4349-9B57-6979AC0E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586B1-324F-4884-8A3F-1FB38406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CFAE9-A473-45A8-90C0-A6209016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13F-3821-4EE0-A202-99B0854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1993E-6750-4276-A3F0-73EFF442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EBB74-7B88-42AB-B609-BD400A1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E4A3F-AE22-4D5D-9C48-3E89851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24C8-9CD7-4989-BE71-EEB5BAE3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70B43-41A9-4A65-AC31-1DC29AA9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DB8A1-DA52-44E3-8ECA-EA6BD7F8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64DE5-A421-464D-BB78-08BD4BB9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3A43-C7DA-4D12-BC79-CC42C35950DB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8C7D-D552-4414-9912-F7CE92035843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DC8C-09C9-4A88-BDE9-D820AF4342E3}" type="slidenum"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AD77-1EC2-4F00-A450-716E4253A6D9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6014-960B-41AE-A40B-2C52C3F83AAB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4898-FA6B-49EE-BE92-F28535D586C3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B12-EDDA-4EDC-9364-72071624ED31}" type="slidenum"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D14C-3598-4F6A-B453-1581020BF9E1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Cláusulas sustantiv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e llegó una consulta sobre cómo obtener más in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e llegó una consulta sobr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cómo obtener más in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Distintas posibilidades de estructurar cláusulas sustantiv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infini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Me solicitaron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recolectar firmas de apoy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relativos sin refer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Los que siguen sin clases </a:t>
            </a: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son los secundario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subjunciones “que” o “si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Los invito a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que propongan idea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No saben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si marzo será un mes relajad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interrogativas indirect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Tienes que decirme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qué fue lo que le escribist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3:38:20Z</dcterms:created>
  <dc:creator>Cristian Peñaloza</dc:creator>
  <dc:description/>
  <dc:language>en-US</dc:language>
  <cp:lastModifiedBy>medicina</cp:lastModifiedBy>
  <dcterms:modified xsi:type="dcterms:W3CDTF">2011-12-05T20:49:57Z</dcterms:modified>
  <cp:revision>12</cp:revision>
  <dc:subject/>
  <dc:title>Frase nominal</dc:title>
</cp:coreProperties>
</file>