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26B-5F7A-4129-975A-0A15F466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156-8228-4600-A4C9-83E9090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569-89EE-4E1D-B9B0-A69B74F0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F53-0898-4997-9762-0DCFA98C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6B1-70EF-4F6D-BAAD-159629E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F0E-91F7-4D06-BDF0-9A5E6EA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E60-BF9C-4A97-B986-EE590EFD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124-17BA-4F2E-9215-F09078ED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D3B-86C6-49FC-8FD6-4BD86B68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8BF-6D0C-4E0C-A329-5AFF99D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F66-ADEB-40B5-A723-D124864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98D-7F9D-4476-8AA2-ADC9CC4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028-A560-421C-B669-39662A3009F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mento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tes que presentan al menos una de las dos siguientes caracterís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ructura de complemento: preposición + F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emplazo por un pronombre átono con el que presenta concorda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ronombres átonos 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nombres (reemplazan semánticamente a nomina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ónicos (como los pronombres núcleos de F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determinan directamente al verb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v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recuer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611280" y="765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11280" y="1484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611280" y="191628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611280" y="2565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611280" y="2997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61128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a los pres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 CuadroTexto"/>
          <p:cNvSpPr/>
          <p:nvPr/>
        </p:nvSpPr>
        <p:spPr>
          <a:xfrm>
            <a:off x="611280" y="3860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1 CuadroTexto"/>
          <p:cNvSpPr/>
          <p:nvPr/>
        </p:nvSpPr>
        <p:spPr>
          <a:xfrm>
            <a:off x="611280" y="4724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O, LA, LOS, LAS, en concordancia de género y número con la FN reemplazada, ese complemento es 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E o LES, en concordancia de número con la FN reemplazada, o por SE cuando hay otro p.a., ese complemento es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tiene estructura de complemento, pero no es posible reemplazarlo por ningún p.a., ese complemento es CIRCUNST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611280" y="119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11280" y="2133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</a:t>
            </a: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 CuadroTexto"/>
          <p:cNvSpPr/>
          <p:nvPr/>
        </p:nvSpPr>
        <p:spPr>
          <a:xfrm>
            <a:off x="61128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 CuadroTexto"/>
          <p:cNvSpPr/>
          <p:nvPr/>
        </p:nvSpPr>
        <p:spPr>
          <a:xfrm>
            <a:off x="4140360" y="6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4067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CuadroTexto"/>
          <p:cNvSpPr/>
          <p:nvPr/>
        </p:nvSpPr>
        <p:spPr>
          <a:xfrm>
            <a:off x="3059280" y="2492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5 CuadroTexto"/>
          <p:cNvSpPr/>
          <p:nvPr/>
        </p:nvSpPr>
        <p:spPr>
          <a:xfrm>
            <a:off x="579600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6 CuadroTexto"/>
          <p:cNvSpPr/>
          <p:nvPr/>
        </p:nvSpPr>
        <p:spPr>
          <a:xfrm>
            <a:off x="4284720" y="371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39640" y="465300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studiantes está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bsolutamente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pid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     &lt; a &gt; más FN o simplemente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le doli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a sen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ol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es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v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539640" y="342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escuchará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menz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ab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 avisó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d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1-11-18T21:14:37Z</dcterms:modified>
  <cp:revision>10</cp:revision>
  <dc:subject/>
  <dc:title>Diapositiva 1</dc:title>
</cp:coreProperties>
</file>