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9B6-1CC0-4F56-B260-E45AF160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C8D-2F5D-4A96-8FCA-CF149ACB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921-C8BC-47CD-8991-A83614B4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4B2-C78E-4731-AFAE-38112D4A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B24-55D5-48B7-8D48-7F586E6E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343-5AC8-43C0-9830-881E462C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B1A-9ABC-4232-92B4-38A52839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87A-6068-4B8B-8932-923CCEBC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1DF-41E2-4E15-A4D2-2EB2D121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24F-3F93-4422-9C7D-9A700DF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FC7-E924-4863-BA2E-1483B31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9AA-5CE2-4FA9-9527-BADB7183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CCF5-F029-4637-997E-39BEC69F9FC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mento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tes que presentan al menos una de las dos siguientes caracterís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ructura de complemento: preposición + F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emplazo por un pronombre átono con el que presenta concorda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ronombres átonos 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nombres (reemplazan semánticamente a nomina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ónicos (como los pronombres núcleos de F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determinan directamente al verb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v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recuer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611280" y="765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 CuadroTexto"/>
          <p:cNvSpPr/>
          <p:nvPr/>
        </p:nvSpPr>
        <p:spPr>
          <a:xfrm>
            <a:off x="611280" y="1484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 CuadroTexto"/>
          <p:cNvSpPr/>
          <p:nvPr/>
        </p:nvSpPr>
        <p:spPr>
          <a:xfrm>
            <a:off x="611280" y="191628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611280" y="2565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8 CuadroTexto"/>
          <p:cNvSpPr/>
          <p:nvPr/>
        </p:nvSpPr>
        <p:spPr>
          <a:xfrm>
            <a:off x="611280" y="2997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61128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a los pres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 CuadroTexto"/>
          <p:cNvSpPr/>
          <p:nvPr/>
        </p:nvSpPr>
        <p:spPr>
          <a:xfrm>
            <a:off x="611280" y="3860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1 CuadroTexto"/>
          <p:cNvSpPr/>
          <p:nvPr/>
        </p:nvSpPr>
        <p:spPr>
          <a:xfrm>
            <a:off x="611280" y="4724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O, LA, LOS, LAS, en concordancia de género y número con la FN reemplazada, ese complemento es 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E o LES, en concordancia de número con la FN reemplazada, o por SE cuando hay otro p.a., ese complemento es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tiene estructura de complemento, pero no es posible reemplazarlo por ningún p.a., ese complemento es CIRCUNST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CuadroTexto"/>
          <p:cNvSpPr/>
          <p:nvPr/>
        </p:nvSpPr>
        <p:spPr>
          <a:xfrm>
            <a:off x="611280" y="1197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611280" y="2133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</a:t>
            </a: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1 CuadroTexto"/>
          <p:cNvSpPr/>
          <p:nvPr/>
        </p:nvSpPr>
        <p:spPr>
          <a:xfrm>
            <a:off x="61128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2 CuadroTexto"/>
          <p:cNvSpPr/>
          <p:nvPr/>
        </p:nvSpPr>
        <p:spPr>
          <a:xfrm>
            <a:off x="4140360" y="6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406728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CuadroTexto"/>
          <p:cNvSpPr/>
          <p:nvPr/>
        </p:nvSpPr>
        <p:spPr>
          <a:xfrm>
            <a:off x="3059280" y="249228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5 CuadroTexto"/>
          <p:cNvSpPr/>
          <p:nvPr/>
        </p:nvSpPr>
        <p:spPr>
          <a:xfrm>
            <a:off x="5796000" y="249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6 CuadroTexto"/>
          <p:cNvSpPr/>
          <p:nvPr/>
        </p:nvSpPr>
        <p:spPr>
          <a:xfrm>
            <a:off x="4284720" y="371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39640" y="465300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studiantes está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bsolutamente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260280"/>
          <a:ext cx="8785440" cy="5904000"/>
        </p:xfrm>
        <a:graphic>
          <a:graphicData uri="http://schemas.openxmlformats.org/drawingml/2006/table">
            <a:tbl>
              <a:tblPr/>
              <a:tblGrid>
                <a:gridCol w="2195640"/>
                <a:gridCol w="2197080"/>
                <a:gridCol w="2195640"/>
                <a:gridCol w="2197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 verificarlo, puede reemplazarse por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pid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O LA LOS LAS y SE, según concordancia de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ne preposición      &lt; a &gt; más FN o simplemente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le dolió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a sen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ol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E LES y SE. Según concordancia de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presenta preposición &lt; a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es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 personal átono LO neutro en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etivo, frase adjetiva, frase nominal, cláusul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ui a Valparaí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reemplazo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CIRCUNST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 cualquier preposición +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v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539640" y="342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escuchará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7 CuadroTexto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menz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ab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 avisó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rd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4:30:52Z</dcterms:created>
  <dc:creator>medicina</dc:creator>
  <dc:description/>
  <dc:language>en-US</dc:language>
  <cp:lastModifiedBy>medicina</cp:lastModifiedBy>
  <dcterms:modified xsi:type="dcterms:W3CDTF">2011-11-18T21:14:37Z</dcterms:modified>
  <cp:revision>10</cp:revision>
  <dc:subject/>
  <dc:title>Diapositiva 1</dc:title>
</cp:coreProperties>
</file>