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gif" ContentType="image/gif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C3C-577F-4640-B060-BCA8B90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765-883A-4E3E-8042-0CBE546E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C44-F5F9-4889-99D9-4390ABFE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ED7-E6B9-487B-B52A-37C70D24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90AF-E032-4CB5-BE66-690CBF26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675-9E52-4191-A326-965538C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FB9-DAF0-4884-9F21-081DCCA6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0695-24AE-4EC7-B10C-FFF918C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9B9F-E5C2-45D6-A3E5-C9EC1FD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2458-3E88-4645-AF70-F9DB1FBB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CC4B-3B81-49A8-ABA0-3AAA933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845-42AE-468C-9635-F5F38427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F75A-F919-4280-9DFA-9539E97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9982-0DA6-4C1B-B269-2D458F5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51B-2A22-497D-AB7B-4107ED7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2A69-FE31-488C-8FFE-C8A3358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BEE5-952C-4014-951B-FEDF3FC5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2C3-7982-4951-BBCD-018BEBB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EBA-F840-4502-BC54-9CB486F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056-B29E-42A0-81E1-6891A97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316-627D-4672-B657-1FDF37CB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6F4-2686-47F4-B5D7-B39E6C0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E81-2146-4F19-A737-10310CC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958-DDA0-4B2D-9AE2-5B2391C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0BAB-16BA-4E6A-8807-C275E499C12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FF1-C2FD-4229-8552-A29E501AA36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65B-EFFF-483C-A8C9-C91F318E620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000080" y="1643040"/>
            <a:ext cx="500076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URSO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Bases moleculares, celulares y genéticas  de la organización de los sistemas vivo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2000"/>
                </a:solidFill>
                <a:latin typeface="Times New Roman"/>
              </a:rPr>
              <a:t>UNIDAD DE 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QUIMICA REMEDIA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86480" y="4357800"/>
            <a:ext cx="4813560" cy="3682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02000"/>
                </a:solidFill>
                <a:latin typeface="Arial Narrow"/>
              </a:rPr>
              <a:t>Prof. Asoc. LUIS QUIÑONES SEPULVEDA, BQ., Ph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Picture 7" descr="C:\FIGURAS\ace\Photos\CIENCIA\QUIMICA.JPG"/>
          <p:cNvPicPr/>
          <p:nvPr/>
        </p:nvPicPr>
        <p:blipFill>
          <a:blip r:embed="rId1"/>
          <a:stretch/>
        </p:blipFill>
        <p:spPr>
          <a:xfrm>
            <a:off x="6195960" y="1928880"/>
            <a:ext cx="2519280" cy="3857400"/>
          </a:xfrm>
          <a:prstGeom prst="rect">
            <a:avLst/>
          </a:prstGeom>
          <a:ln w="38160">
            <a:solidFill>
              <a:srgbClr val="cd3333"/>
            </a:solidFill>
            <a:miter/>
          </a:ln>
        </p:spPr>
      </p:pic>
      <p:sp>
        <p:nvSpPr>
          <p:cNvPr id="93" name="8 Rectángulo"/>
          <p:cNvSpPr/>
          <p:nvPr/>
        </p:nvSpPr>
        <p:spPr>
          <a:xfrm>
            <a:off x="714240" y="42876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KINESIOLOG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Picture 22" descr="logmed"/>
          <p:cNvPicPr/>
          <p:nvPr/>
        </p:nvPicPr>
        <p:blipFill>
          <a:blip r:embed="rId2"/>
          <a:stretch/>
        </p:blipFill>
        <p:spPr>
          <a:xfrm>
            <a:off x="6715080" y="285840"/>
            <a:ext cx="1076400" cy="1285920"/>
          </a:xfrm>
          <a:prstGeom prst="rect">
            <a:avLst/>
          </a:prstGeom>
          <a:ln w="9360">
            <a:solidFill>
              <a:srgbClr val="fbfae2"/>
            </a:solidFill>
            <a:miter/>
          </a:ln>
        </p:spPr>
      </p:pic>
      <p:sp>
        <p:nvSpPr>
          <p:cNvPr id="95" name="10 Rectángulo"/>
          <p:cNvSpPr/>
          <p:nvPr/>
        </p:nvSpPr>
        <p:spPr>
          <a:xfrm>
            <a:off x="2143080" y="5143680"/>
            <a:ext cx="2643120" cy="520560"/>
          </a:xfrm>
          <a:prstGeom prst="rect">
            <a:avLst/>
          </a:prstGeom>
          <a:solidFill>
            <a:srgbClr val="6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Estequiometrí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6"/>
          <p:cNvSpPr/>
          <p:nvPr/>
        </p:nvSpPr>
        <p:spPr>
          <a:xfrm>
            <a:off x="857160" y="214200"/>
            <a:ext cx="6858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 Narrow"/>
              </a:rPr>
              <a:t>4.- Ley de los volúmenes de combinación de Gay Lussa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“</a:t>
            </a: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En cualquier reacción química los volúmenes de todas las  sustancia gaseosas que intervienen en la misma están en una relación de números enteros sencillos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 Narrow"/>
              </a:rPr>
              <a:t>5.- Ley de Ritcher de las proporciones recíprocas (1792)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“</a:t>
            </a: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Los pesos de los elementos diferentes que se combinan con un mismo peso de un elemento dado son los pesos relativos de aquellos elementos cuando se combinan entre si o bien múltiplos o submúltiplos de estos”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 Narrow"/>
              </a:rPr>
              <a:t>6.- Ley de Boyle-Mariotte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“</a:t>
            </a: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A temperatura constante el volumen ocupado por un gas es inversamente proporcional a la presión a que es sometido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 Narrow"/>
              </a:rPr>
              <a:t>7.- Ley de Charles-Gay Luss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“</a:t>
            </a:r>
            <a:r>
              <a:rPr b="1" lang="es-ES" sz="2000" spc="-1" strike="noStrike">
                <a:solidFill>
                  <a:srgbClr val="402000"/>
                </a:solidFill>
                <a:latin typeface="Arial Narrow"/>
              </a:rPr>
              <a:t>A presión constante, el volumen ocupado por un  gas es directamente proporcional a la temperatura absoluta a la que se encuentra” // “A volumen constante, la presión de un gas es directamente proporcional a la temperatura absoluta a la cual se encuentra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6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7500960" y="714240"/>
            <a:ext cx="1278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2E6-E2E1-4CF2-92EC-36162299096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18" name="5 Grupo"/>
          <p:cNvGrpSpPr/>
          <p:nvPr/>
        </p:nvGrpSpPr>
        <p:grpSpPr>
          <a:xfrm>
            <a:off x="1000080" y="714240"/>
            <a:ext cx="7765920" cy="5143680"/>
            <a:chOff x="1000080" y="714240"/>
            <a:chExt cx="7765920" cy="5143680"/>
          </a:xfrm>
        </p:grpSpPr>
        <p:pic>
          <p:nvPicPr>
            <p:cNvPr id="319" name="Picture 2" descr=""/>
            <p:cNvPicPr/>
            <p:nvPr/>
          </p:nvPicPr>
          <p:blipFill>
            <a:blip r:embed="rId1"/>
            <a:stretch/>
          </p:blipFill>
          <p:spPr>
            <a:xfrm>
              <a:off x="1000080" y="714240"/>
              <a:ext cx="77659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4 CuadroTexto"/>
            <p:cNvSpPr/>
            <p:nvPr/>
          </p:nvSpPr>
          <p:spPr>
            <a:xfrm>
              <a:off x="7074360" y="3929040"/>
              <a:ext cx="628920" cy="3988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2a2806"/>
                  </a:solidFill>
                  <a:latin typeface="Times New Roman"/>
                </a:rPr>
                <a:t>18.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31A-5EAC-4438-8D01-34D442C9FC0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966960" y="642960"/>
            <a:ext cx="7748280" cy="5429160"/>
          </a:xfrm>
          <a:prstGeom prst="rect">
            <a:avLst/>
          </a:prstGeom>
          <a:ln w="0">
            <a:noFill/>
          </a:ln>
        </p:spPr>
      </p:pic>
      <p:sp>
        <p:nvSpPr>
          <p:cNvPr id="323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F67-6F01-40EE-A9EE-1071422EA8B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635960" cy="5643720"/>
          </a:xfrm>
          <a:prstGeom prst="rect">
            <a:avLst/>
          </a:prstGeom>
          <a:ln w="0">
            <a:noFill/>
          </a:ln>
        </p:spPr>
      </p:pic>
      <p:sp>
        <p:nvSpPr>
          <p:cNvPr id="326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28D-4E02-489F-B4BB-ED36F0DE526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720200" cy="4929120"/>
          </a:xfrm>
          <a:prstGeom prst="rect">
            <a:avLst/>
          </a:prstGeom>
          <a:ln w="0">
            <a:noFill/>
          </a:ln>
        </p:spPr>
      </p:pic>
      <p:sp>
        <p:nvSpPr>
          <p:cNvPr id="329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3A9-E71D-4F38-BC9B-B68CD29750A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540560" cy="578664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4 CuadroTexto"/>
          <p:cNvSpPr/>
          <p:nvPr/>
        </p:nvSpPr>
        <p:spPr>
          <a:xfrm>
            <a:off x="5717520" y="385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5 CuadroTexto"/>
          <p:cNvSpPr/>
          <p:nvPr/>
        </p:nvSpPr>
        <p:spPr>
          <a:xfrm>
            <a:off x="2788560" y="521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6 CuadroTexto"/>
          <p:cNvSpPr/>
          <p:nvPr/>
        </p:nvSpPr>
        <p:spPr>
          <a:xfrm>
            <a:off x="2931120" y="39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7 CuadroTexto"/>
          <p:cNvSpPr/>
          <p:nvPr/>
        </p:nvSpPr>
        <p:spPr>
          <a:xfrm>
            <a:off x="5717160" y="5543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348-3EA2-4510-BD10-DE7F09DA3B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39" name="5 Grupo"/>
          <p:cNvGrpSpPr/>
          <p:nvPr/>
        </p:nvGrpSpPr>
        <p:grpSpPr>
          <a:xfrm>
            <a:off x="1071720" y="906480"/>
            <a:ext cx="7611840" cy="4808520"/>
            <a:chOff x="1071720" y="906480"/>
            <a:chExt cx="7611840" cy="4808520"/>
          </a:xfrm>
        </p:grpSpPr>
        <p:pic>
          <p:nvPicPr>
            <p:cNvPr id="340" name="Picture 2" descr=""/>
            <p:cNvPicPr/>
            <p:nvPr/>
          </p:nvPicPr>
          <p:blipFill>
            <a:blip r:embed="rId1"/>
            <a:stretch/>
          </p:blipFill>
          <p:spPr>
            <a:xfrm>
              <a:off x="1071720" y="906480"/>
              <a:ext cx="7611840" cy="48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4 CuadroTexto"/>
            <p:cNvSpPr/>
            <p:nvPr/>
          </p:nvSpPr>
          <p:spPr>
            <a:xfrm>
              <a:off x="3861720" y="1942920"/>
              <a:ext cx="66528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2a2806"/>
                  </a:solidFill>
                  <a:latin typeface="Times New Roman"/>
                </a:rPr>
                <a:t>(25°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484-3387-44BF-B038-69B6C92817E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7489800" cy="5715000"/>
          </a:xfrm>
          <a:prstGeom prst="rect">
            <a:avLst/>
          </a:prstGeom>
          <a:ln w="0">
            <a:noFill/>
          </a:ln>
        </p:spPr>
      </p:pic>
      <p:sp>
        <p:nvSpPr>
          <p:cNvPr id="344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97C5-8BC4-472D-83AF-125C6293617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7715160" cy="2952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1071720" y="3857760"/>
            <a:ext cx="7143480" cy="1500120"/>
          </a:xfrm>
          <a:prstGeom prst="rect">
            <a:avLst/>
          </a:prstGeom>
          <a:ln w="0">
            <a:noFill/>
          </a:ln>
        </p:spPr>
      </p:pic>
      <p:sp>
        <p:nvSpPr>
          <p:cNvPr id="348" name="4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948-E89E-4158-BC57-2692A942AA1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857160" y="285840"/>
            <a:ext cx="8005680" cy="5786280"/>
          </a:xfrm>
          <a:prstGeom prst="rect">
            <a:avLst/>
          </a:prstGeom>
          <a:ln w="0">
            <a:noFill/>
          </a:ln>
        </p:spPr>
      </p:pic>
      <p:sp>
        <p:nvSpPr>
          <p:cNvPr id="351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36720" y="185724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CEPTOS IMPORTANTES EN ESTEQUIOMET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23880" y="2754360"/>
            <a:ext cx="6873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SIMBOLO: Notación resumida del nombre completo de un elemento (ej: Arsénico = As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FORMULA: Conjunto de símbolos en que se indica la relación existente entre los elementos de un compuest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ECUACION QUIMICA: Representación escrita de una reacción química que indica la naturaleza y la cantidad de las sustancias que intervienen en ell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MOL: 6,023 x 10</a:t>
            </a:r>
            <a:r>
              <a:rPr b="1" lang="es-ES_tradnl" sz="2000" spc="-1" strike="noStrike" baseline="30000">
                <a:solidFill>
                  <a:srgbClr val="402000"/>
                </a:solidFill>
                <a:latin typeface="Times New Roman"/>
              </a:rPr>
              <a:t>23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 átomos de un elemento o moléculas de un compuesto. Este número es llamado nº de Avogadro (Químico Italiano del siglo XIX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066680" y="2830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3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066680" y="35924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3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066680" y="4506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3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066680" y="5573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3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1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50C-C874-4DEF-8FFC-50028B8DFE9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2980440" y="21420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ESTEQUIOMETR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85880" y="74772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 Narrow"/>
              </a:rPr>
              <a:t>Estudia las leyes fundamentales sobre las combinaciones y proporciones entre los elementos, la cuantificación de las masas reaccionantes y la composición de los compuestos y sus reacciones. (stoicheion: elemento, metro: medida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30E-AE91-4EBA-8AD8-11606E8F567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462800" cy="5715000"/>
          </a:xfrm>
          <a:prstGeom prst="rect">
            <a:avLst/>
          </a:prstGeom>
          <a:ln w="0">
            <a:noFill/>
          </a:ln>
        </p:spPr>
      </p:pic>
      <p:sp>
        <p:nvSpPr>
          <p:cNvPr id="354" name="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3 Marcador de número de diapositiva"/>
          <p:cNvSpPr/>
          <p:nvPr/>
        </p:nvSpPr>
        <p:spPr>
          <a:xfrm>
            <a:off x="692928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134-4E7A-4F34-B99F-29BD55D8A279}" type="slidenum">
              <a:rPr b="0" lang="es-ES" sz="11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928880" y="642960"/>
            <a:ext cx="5737320" cy="459720"/>
          </a:xfrm>
          <a:prstGeom prst="rect">
            <a:avLst/>
          </a:prstGeom>
          <a:solidFill>
            <a:srgbClr val="f9eb6b"/>
          </a:solidFill>
          <a:ln w="0">
            <a:noFill/>
          </a:ln>
          <a:effectLst>
            <a:outerShdw dist="107932" dir="2700000" blurRad="0" rotWithShape="0">
              <a:srgbClr val="a08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 Black"/>
              </a:rPr>
              <a:t>CÁLCULOS ESTEQUIOMÉTR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1071720" y="1700280"/>
            <a:ext cx="753264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Arial"/>
              </a:rPr>
              <a:t>Conocida la masa de un reactivo o de un producto, pueden calcularse el resto de las masas que intervienen en la reacció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071720" y="2492280"/>
            <a:ext cx="7572240" cy="8240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eb6b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402000"/>
                </a:solidFill>
                <a:latin typeface="Arial"/>
              </a:rPr>
              <a:t> En la descomposición del clorato de potasio se obtiene cloruro de potasio y oxígeno ¿Cuántos gramos de oxígeno se obtienen a partir de 1 kg de clorato?</a:t>
            </a:r>
            <a:r>
              <a:rPr b="1" lang="es-ES_tradnl" sz="11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9" name="40 Grupo"/>
          <p:cNvGrpSpPr/>
          <p:nvPr/>
        </p:nvGrpSpPr>
        <p:grpSpPr>
          <a:xfrm>
            <a:off x="1943280" y="3571920"/>
            <a:ext cx="6178320" cy="405720"/>
            <a:chOff x="1943280" y="3571920"/>
            <a:chExt cx="6178320" cy="405720"/>
          </a:xfrm>
        </p:grpSpPr>
        <p:sp>
          <p:nvSpPr>
            <p:cNvPr id="360" name="Line 10"/>
            <p:cNvSpPr/>
            <p:nvPr/>
          </p:nvSpPr>
          <p:spPr>
            <a:xfrm>
              <a:off x="3143160" y="3786480"/>
              <a:ext cx="7538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1943280" y="35719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KCl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5929560" y="3571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Text Box 13"/>
            <p:cNvSpPr/>
            <p:nvPr/>
          </p:nvSpPr>
          <p:spPr>
            <a:xfrm>
              <a:off x="4572000" y="3571920"/>
              <a:ext cx="76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KCl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Text Box 14"/>
            <p:cNvSpPr/>
            <p:nvPr/>
          </p:nvSpPr>
          <p:spPr>
            <a:xfrm>
              <a:off x="6659640" y="3571920"/>
              <a:ext cx="14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3/2 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65" name="41 Grupo"/>
          <p:cNvGrpSpPr/>
          <p:nvPr/>
        </p:nvGrpSpPr>
        <p:grpSpPr>
          <a:xfrm>
            <a:off x="1219320" y="4038480"/>
            <a:ext cx="7097760" cy="405720"/>
            <a:chOff x="1219320" y="4038480"/>
            <a:chExt cx="7097760" cy="405720"/>
          </a:xfrm>
        </p:grpSpPr>
        <p:sp>
          <p:nvSpPr>
            <p:cNvPr id="366" name="Text Box 15"/>
            <p:cNvSpPr/>
            <p:nvPr/>
          </p:nvSpPr>
          <p:spPr>
            <a:xfrm>
              <a:off x="4191120" y="4038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1 mol de KCl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6477120" y="4038480"/>
              <a:ext cx="183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3/2 mol de 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19320" y="4038480"/>
              <a:ext cx="205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1 mol de KCl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69" name="42 Grupo"/>
          <p:cNvGrpSpPr/>
          <p:nvPr/>
        </p:nvGrpSpPr>
        <p:grpSpPr>
          <a:xfrm>
            <a:off x="971640" y="4365720"/>
            <a:ext cx="7132680" cy="427680"/>
            <a:chOff x="971640" y="4365720"/>
            <a:chExt cx="7132680" cy="427680"/>
          </a:xfrm>
        </p:grpSpPr>
        <p:sp>
          <p:nvSpPr>
            <p:cNvPr id="370" name="Text Box 18"/>
            <p:cNvSpPr/>
            <p:nvPr/>
          </p:nvSpPr>
          <p:spPr>
            <a:xfrm>
              <a:off x="4191120" y="4403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74,45 g de KCl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Text Box 19"/>
            <p:cNvSpPr/>
            <p:nvPr/>
          </p:nvSpPr>
          <p:spPr>
            <a:xfrm>
              <a:off x="6732720" y="43657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48 g de 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971640" y="4387680"/>
              <a:ext cx="23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122,45 g de KCl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73" name="43 Grupo"/>
          <p:cNvGrpSpPr/>
          <p:nvPr/>
        </p:nvGrpSpPr>
        <p:grpSpPr>
          <a:xfrm>
            <a:off x="971640" y="4724280"/>
            <a:ext cx="7516800" cy="450000"/>
            <a:chOff x="971640" y="4724280"/>
            <a:chExt cx="7516800" cy="450000"/>
          </a:xfrm>
        </p:grpSpPr>
        <p:sp>
          <p:nvSpPr>
            <p:cNvPr id="374" name="Text Box 21"/>
            <p:cNvSpPr/>
            <p:nvPr/>
          </p:nvSpPr>
          <p:spPr>
            <a:xfrm>
              <a:off x="6659640" y="4724280"/>
              <a:ext cx="1828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X g de 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Text Box 22"/>
            <p:cNvSpPr/>
            <p:nvPr/>
          </p:nvSpPr>
          <p:spPr>
            <a:xfrm>
              <a:off x="971640" y="4768560"/>
              <a:ext cx="2228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1000 g de KClO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76" name="Rectangle 23"/>
          <p:cNvSpPr/>
          <p:nvPr/>
        </p:nvSpPr>
        <p:spPr>
          <a:xfrm>
            <a:off x="965160" y="5300640"/>
            <a:ext cx="7786800" cy="9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77" name="Group 24"/>
          <p:cNvGrpSpPr/>
          <p:nvPr/>
        </p:nvGrpSpPr>
        <p:grpSpPr>
          <a:xfrm>
            <a:off x="641520" y="5486400"/>
            <a:ext cx="2309400" cy="697320"/>
            <a:chOff x="641520" y="5486400"/>
            <a:chExt cx="2309400" cy="697320"/>
          </a:xfrm>
        </p:grpSpPr>
        <p:sp>
          <p:nvSpPr>
            <p:cNvPr id="378" name="Line 25"/>
            <p:cNvSpPr/>
            <p:nvPr/>
          </p:nvSpPr>
          <p:spPr>
            <a:xfrm>
              <a:off x="812160" y="5882400"/>
              <a:ext cx="1882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Text Box 26"/>
            <p:cNvSpPr/>
            <p:nvPr/>
          </p:nvSpPr>
          <p:spPr>
            <a:xfrm>
              <a:off x="641520" y="5486400"/>
              <a:ext cx="2309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122,45 g de KClO</a:t>
              </a:r>
              <a:r>
                <a:rPr b="1" lang="es-ES_tradnl" sz="12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Text Box 27"/>
            <p:cNvSpPr/>
            <p:nvPr/>
          </p:nvSpPr>
          <p:spPr>
            <a:xfrm>
              <a:off x="1068840" y="5882400"/>
              <a:ext cx="136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48 g O</a:t>
              </a:r>
              <a:r>
                <a:rPr b="1" lang="es-ES_tradnl" sz="12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81" name="Text Box 28"/>
          <p:cNvSpPr/>
          <p:nvPr/>
        </p:nvSpPr>
        <p:spPr>
          <a:xfrm>
            <a:off x="2470320" y="571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4756320" y="5791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5060880" y="5715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1200" spc="-1" strike="noStrike">
                <a:solidFill>
                  <a:srgbClr val="402000"/>
                </a:solidFill>
                <a:latin typeface="Arial"/>
              </a:rPr>
              <a:t>  =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6889680" y="5715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6889680" y="5715000"/>
            <a:ext cx="2111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391,997 g de O</a:t>
            </a:r>
            <a:r>
              <a:rPr b="1" lang="es-ES_tradnl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6" name="Group 33"/>
          <p:cNvGrpSpPr/>
          <p:nvPr/>
        </p:nvGrpSpPr>
        <p:grpSpPr>
          <a:xfrm>
            <a:off x="2774880" y="5486400"/>
            <a:ext cx="1752480" cy="682560"/>
            <a:chOff x="2774880" y="5486400"/>
            <a:chExt cx="1752480" cy="682560"/>
          </a:xfrm>
        </p:grpSpPr>
        <p:sp>
          <p:nvSpPr>
            <p:cNvPr id="387" name="Text Box 34"/>
            <p:cNvSpPr/>
            <p:nvPr/>
          </p:nvSpPr>
          <p:spPr>
            <a:xfrm>
              <a:off x="2774880" y="5486400"/>
              <a:ext cx="1752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1000 g de KClO</a:t>
              </a:r>
              <a:r>
                <a:rPr b="1" lang="es-ES_tradnl" sz="1200" spc="-1" strike="noStrike" baseline="-25000">
                  <a:solidFill>
                    <a:srgbClr val="402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Line 35"/>
            <p:cNvSpPr/>
            <p:nvPr/>
          </p:nvSpPr>
          <p:spPr>
            <a:xfrm>
              <a:off x="2851200" y="5867640"/>
              <a:ext cx="1676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Text Box 36"/>
            <p:cNvSpPr/>
            <p:nvPr/>
          </p:nvSpPr>
          <p:spPr>
            <a:xfrm>
              <a:off x="3003480" y="586764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 g O</a:t>
              </a:r>
              <a:r>
                <a:rPr b="1" lang="es-ES_tradnl" sz="12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0" name="Group 37"/>
          <p:cNvGrpSpPr/>
          <p:nvPr/>
        </p:nvGrpSpPr>
        <p:grpSpPr>
          <a:xfrm>
            <a:off x="5594400" y="5562720"/>
            <a:ext cx="1371600" cy="581400"/>
            <a:chOff x="5594400" y="5562720"/>
            <a:chExt cx="1371600" cy="581400"/>
          </a:xfrm>
        </p:grpSpPr>
        <p:sp>
          <p:nvSpPr>
            <p:cNvPr id="391" name="Text Box 38"/>
            <p:cNvSpPr/>
            <p:nvPr/>
          </p:nvSpPr>
          <p:spPr>
            <a:xfrm>
              <a:off x="5594400" y="55627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1000 · 48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670720" y="5867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122,4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Line 40"/>
            <p:cNvSpPr/>
            <p:nvPr/>
          </p:nvSpPr>
          <p:spPr>
            <a:xfrm>
              <a:off x="5746680" y="5867640"/>
              <a:ext cx="1143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4" name="39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3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D4C2-1ED6-4E41-8871-1A65419F7707}" type="slidenum">
              <a:rPr b="0" lang="es-ES" sz="11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785880" y="2475000"/>
            <a:ext cx="817884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bfae2"/>
                </a:solidFill>
                <a:latin typeface="Arial"/>
              </a:rPr>
              <a:t>En las reacciones, cualquier pareja de sustancias reaccionan en la proporción un equivalente a un equivalente e igual proporción con los product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779400" y="1198440"/>
            <a:ext cx="8964360" cy="405720"/>
            <a:chOff x="779400" y="1198440"/>
            <a:chExt cx="8964360" cy="405720"/>
          </a:xfrm>
        </p:grpSpPr>
        <p:sp>
          <p:nvSpPr>
            <p:cNvPr id="398" name="Text Box 6"/>
            <p:cNvSpPr/>
            <p:nvPr/>
          </p:nvSpPr>
          <p:spPr>
            <a:xfrm>
              <a:off x="779400" y="1198440"/>
              <a:ext cx="896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Si el HClO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actúa como ácido: HClO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3              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ClO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es-ES_tradnl" sz="1800" spc="-1" strike="noStrike" baseline="30000">
                  <a:solidFill>
                    <a:srgbClr val="000099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+ H</a:t>
              </a:r>
              <a:r>
                <a:rPr b="1" lang="es-ES_tradnl" sz="18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                PE = P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m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/1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4944240" y="1358640"/>
              <a:ext cx="45288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6755760" y="1282320"/>
              <a:ext cx="723960" cy="152640"/>
            </a:xfrm>
            <a:prstGeom prst="rightArrow">
              <a:avLst>
                <a:gd name="adj1" fmla="val 50000"/>
                <a:gd name="adj2" fmla="val 118573"/>
              </a:avLst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779400" y="1701720"/>
            <a:ext cx="9107280" cy="405720"/>
            <a:chOff x="779400" y="1701720"/>
            <a:chExt cx="9107280" cy="405720"/>
          </a:xfrm>
        </p:grpSpPr>
        <p:sp>
          <p:nvSpPr>
            <p:cNvPr id="402" name="Text Box 10"/>
            <p:cNvSpPr/>
            <p:nvPr/>
          </p:nvSpPr>
          <p:spPr>
            <a:xfrm>
              <a:off x="779400" y="1701720"/>
              <a:ext cx="910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Si el HClO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actúa como oxidante: Cl</a:t>
              </a:r>
              <a:r>
                <a:rPr b="1" lang="es-ES_tradnl" sz="1800" spc="-1" strike="noStrike" baseline="30000">
                  <a:solidFill>
                    <a:srgbClr val="000099"/>
                  </a:solidFill>
                  <a:latin typeface="Arial"/>
                </a:rPr>
                <a:t>+5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+ 6 e</a:t>
              </a:r>
              <a:r>
                <a:rPr b="1" lang="es-ES_tradnl" sz="1800" spc="-1" strike="noStrike" baseline="30000">
                  <a:solidFill>
                    <a:srgbClr val="000099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          Cl</a:t>
              </a:r>
              <a:r>
                <a:rPr b="1" lang="es-ES_tradnl" sz="1800" spc="-1" strike="noStrike" baseline="30000">
                  <a:solidFill>
                    <a:srgbClr val="000099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                  PE = P</a:t>
              </a:r>
              <a:r>
                <a:rPr b="1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m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/6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5747040" y="1870200"/>
              <a:ext cx="45972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4" name="AutoShape 12"/>
            <p:cNvSpPr/>
            <p:nvPr/>
          </p:nvSpPr>
          <p:spPr>
            <a:xfrm>
              <a:off x="6850800" y="1793880"/>
              <a:ext cx="735480" cy="136440"/>
            </a:xfrm>
            <a:prstGeom prst="rightArrow">
              <a:avLst>
                <a:gd name="adj1" fmla="val 50000"/>
                <a:gd name="adj2" fmla="val 134763"/>
              </a:avLst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5" name="Text Box 13"/>
          <p:cNvSpPr/>
          <p:nvPr/>
        </p:nvSpPr>
        <p:spPr>
          <a:xfrm>
            <a:off x="2357280" y="3987720"/>
            <a:ext cx="5256360" cy="822960"/>
          </a:xfrm>
          <a:prstGeom prst="rect">
            <a:avLst/>
          </a:prstGeom>
          <a:solidFill>
            <a:srgbClr val="70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NaOH+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SO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               Na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SO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398680" y="3273480"/>
            <a:ext cx="3247920" cy="368280"/>
          </a:xfrm>
          <a:prstGeom prst="rect">
            <a:avLst/>
          </a:prstGeom>
          <a:gradFill rotWithShape="0">
            <a:gsLst>
              <a:gs pos="0">
                <a:srgbClr val="70e4f4"/>
              </a:gs>
              <a:gs pos="100000">
                <a:srgbClr val="9a7f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2000"/>
                </a:solidFill>
                <a:latin typeface="Times New Roman"/>
              </a:rPr>
              <a:t>Equivalente=moles x valenc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Text Box 20"/>
          <p:cNvSpPr/>
          <p:nvPr/>
        </p:nvSpPr>
        <p:spPr>
          <a:xfrm>
            <a:off x="2363760" y="4716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2 eq de NaO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Text Box 21"/>
          <p:cNvSpPr/>
          <p:nvPr/>
        </p:nvSpPr>
        <p:spPr>
          <a:xfrm>
            <a:off x="3292560" y="4714920"/>
            <a:ext cx="1008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2eq de 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SO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Text Box 22"/>
          <p:cNvSpPr/>
          <p:nvPr/>
        </p:nvSpPr>
        <p:spPr>
          <a:xfrm>
            <a:off x="4721400" y="4716360"/>
            <a:ext cx="129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2eq de Na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SO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5578560" y="4716360"/>
            <a:ext cx="1150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2 eq de 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1785960" y="5572080"/>
            <a:ext cx="6248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2000"/>
                </a:solidFill>
                <a:latin typeface="Times New Roman"/>
              </a:rPr>
              <a:t>¡ Todas las reacciones se producen equivalente a equivalente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412" name="25 Conector recto de flecha"/>
          <p:cNvCxnSpPr/>
          <p:nvPr/>
        </p:nvCxnSpPr>
        <p:spPr>
          <a:xfrm>
            <a:off x="4103280" y="4200120"/>
            <a:ext cx="429480" cy="2520"/>
          </a:xfrm>
          <a:prstGeom prst="straightConnector1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</p:cxnSp>
      <p:sp>
        <p:nvSpPr>
          <p:cNvPr id="413" name="26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14" name="Group 25" descr=""/>
          <p:cNvPicPr/>
          <p:nvPr/>
        </p:nvPicPr>
        <p:blipFill>
          <a:blip r:embed="rId1"/>
          <a:stretch/>
        </p:blipFill>
        <p:spPr>
          <a:xfrm>
            <a:off x="1322280" y="255600"/>
            <a:ext cx="702324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3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A09C-72F2-47D8-8A89-9ACA1BD55E5C}" type="slidenum">
              <a:rPr b="0" lang="es-ES" sz="11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1000080" y="857160"/>
            <a:ext cx="7893000" cy="991800"/>
          </a:xfrm>
          <a:prstGeom prst="rect">
            <a:avLst/>
          </a:prstGeom>
          <a:solidFill>
            <a:srgbClr val="f9e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d3333"/>
                </a:solidFill>
                <a:latin typeface="Times New Roman"/>
              </a:rPr>
              <a:t>Ejemplo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:Una mezcla de 17,6g de CO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, 4,81g de C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 y 5,6 g de CO ejerce una presión sobre el recipiente que les contiene de 800mmHg calcula la presión parcial del CH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 en la mezcl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1073160" y="2376360"/>
                <a:ext cx="14400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2728800" y="2376360"/>
                <a:ext cx="12956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3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241880" y="2376360"/>
                <a:ext cx="1368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19"/>
          <p:cNvSpPr/>
          <p:nvPr/>
        </p:nvSpPr>
        <p:spPr>
          <a:xfrm>
            <a:off x="5643720" y="2401920"/>
            <a:ext cx="3174840" cy="368280"/>
          </a:xfrm>
          <a:prstGeom prst="rect">
            <a:avLst/>
          </a:prstGeom>
          <a:solidFill>
            <a:srgbClr val="70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Moles totales=0,4+0,3+0,2=0,9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1030320" y="3097080"/>
                <a:ext cx="167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Text Box 23"/>
          <p:cNvSpPr/>
          <p:nvPr/>
        </p:nvSpPr>
        <p:spPr>
          <a:xfrm>
            <a:off x="3305160" y="3313080"/>
            <a:ext cx="4176720" cy="405720"/>
          </a:xfrm>
          <a:prstGeom prst="rect">
            <a:avLst/>
          </a:prstGeom>
          <a:solidFill>
            <a:srgbClr val="70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402000"/>
                </a:solidFill>
                <a:latin typeface="Times New Roman"/>
              </a:rPr>
              <a:t>metano</a:t>
            </a: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=0,333.800=266,4mmH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23" name="Picture 5" descr="http://mhe.es/secundaria/cienciasnaturaleza/8448162951/archivos/media/esp/img_enlaces/10-4.jpg"/>
          <p:cNvPicPr/>
          <p:nvPr/>
        </p:nvPicPr>
        <p:blipFill>
          <a:blip r:embed="rId1"/>
          <a:stretch/>
        </p:blipFill>
        <p:spPr>
          <a:xfrm>
            <a:off x="3643200" y="4214880"/>
            <a:ext cx="2019240" cy="2019240"/>
          </a:xfrm>
          <a:prstGeom prst="rect">
            <a:avLst/>
          </a:prstGeom>
          <a:ln w="0">
            <a:noFill/>
          </a:ln>
        </p:spPr>
      </p:pic>
      <p:sp>
        <p:nvSpPr>
          <p:cNvPr id="424" name="21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08E-9DCB-449C-A5AE-6D7DDA3F84C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WordArt 2"/>
          <p:cNvSpPr txBox="1"/>
          <p:nvPr/>
        </p:nvSpPr>
        <p:spPr>
          <a:xfrm>
            <a:off x="1071720" y="3643200"/>
            <a:ext cx="771516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asta la Próxima Cl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7" name="Picture 3" descr="AG00564_"/>
          <p:cNvPicPr/>
          <p:nvPr/>
        </p:nvPicPr>
        <p:blipFill>
          <a:blip r:embed="rId1"/>
          <a:stretch/>
        </p:blipFill>
        <p:spPr>
          <a:xfrm>
            <a:off x="3059280" y="1197000"/>
            <a:ext cx="3382920" cy="2589120"/>
          </a:xfrm>
          <a:prstGeom prst="rect">
            <a:avLst/>
          </a:prstGeom>
          <a:ln w="0">
            <a:noFill/>
          </a:ln>
        </p:spPr>
      </p:pic>
      <p:sp>
        <p:nvSpPr>
          <p:cNvPr id="428" name="6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33"/>
                </a:solidFill>
                <a:latin typeface="Arial"/>
              </a:rPr>
              <a:t>Mol: Que tan grande 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2814120"/>
            <a:ext cx="4510080" cy="34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2000"/>
                </a:solidFill>
                <a:latin typeface="Times New Roman"/>
              </a:rPr>
              <a:t>Producción anual de china </a:t>
            </a:r>
            <a:r>
              <a:rPr b="1" lang="es-MX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~200 millones de toneladas de arroz (2 x 10¹¹ Kg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La masa de un mol de granos de arroz es 50.000.000 veces mayor. Por lo tanto China necesita 50 millones de años para producir 1 mol de granos de arroz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Picture 11" descr="http://www.chemical-stoichiometry.net/logo.gif"/>
          <p:cNvPicPr/>
          <p:nvPr/>
        </p:nvPicPr>
        <p:blipFill>
          <a:blip r:embed="rId1"/>
          <a:stretch/>
        </p:blipFill>
        <p:spPr>
          <a:xfrm>
            <a:off x="5572080" y="3362400"/>
            <a:ext cx="313380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1163520" y="500040"/>
            <a:ext cx="74091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300-508C-4143-97EF-9E904220B3F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D17-C0F6-4B76-8DC4-F2C976C3AB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8800" y="357120"/>
            <a:ext cx="7696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s-GT" sz="2400" spc="-1" strike="noStrike">
                <a:solidFill>
                  <a:srgbClr val="402000"/>
                </a:solidFill>
                <a:latin typeface="Times New Roman"/>
              </a:rPr>
              <a:t>Un compuesto puede estar formado por </a:t>
            </a:r>
            <a:r>
              <a:rPr b="1" i="1" lang="es-GT" sz="2400" spc="-1" strike="noStrike">
                <a:solidFill>
                  <a:srgbClr val="eca07a"/>
                </a:solidFill>
                <a:latin typeface="Times New Roman"/>
              </a:rPr>
              <a:t>iones</a:t>
            </a:r>
            <a:r>
              <a:rPr b="1" lang="es-GT" sz="2400" spc="-1" strike="noStrike">
                <a:solidFill>
                  <a:srgbClr val="402000"/>
                </a:solidFill>
                <a:latin typeface="Times New Roman"/>
              </a:rPr>
              <a:t> (compuestos iónicos) o </a:t>
            </a:r>
            <a:r>
              <a:rPr b="1" i="1" lang="es-GT" sz="2400" spc="-1" strike="noStrike">
                <a:solidFill>
                  <a:srgbClr val="000099"/>
                </a:solidFill>
                <a:latin typeface="Times New Roman"/>
              </a:rPr>
              <a:t>moléculas</a:t>
            </a:r>
            <a:r>
              <a:rPr b="1" lang="es-GT" sz="2400" spc="-1" strike="noStrike">
                <a:solidFill>
                  <a:srgbClr val="402000"/>
                </a:solidFill>
                <a:latin typeface="Times New Roman"/>
              </a:rPr>
              <a:t> (compuestos covalentes o moleculares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708360" y="2781360"/>
            <a:ext cx="2016000" cy="1008000"/>
          </a:xfrm>
          <a:prstGeom prst="flowChartAlternate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  <a:effectLst>
            <a:outerShdw dist="153753" dir="2700000" blurRad="0" rotWithShape="0">
              <a:srgbClr val="a08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84360" y="4508640"/>
            <a:ext cx="1582920" cy="1152360"/>
          </a:xfrm>
          <a:prstGeom prst="flowChartExtra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  <a:effectLst>
            <a:outerShdw dist="153753" dir="2700000" blurRad="0" rotWithShape="0">
              <a:srgbClr val="a08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Ion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580000" y="4581360"/>
            <a:ext cx="1584360" cy="1152720"/>
          </a:xfrm>
          <a:prstGeom prst="flowChartExtra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  <a:effectLst>
            <a:outerShdw dist="153753" dir="2700000" blurRad="0" rotWithShape="0">
              <a:srgbClr val="a08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Molécul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117" name="AutoShape 10"/>
          <p:cNvCxnSpPr>
            <a:stCxn id="114" idx="2"/>
            <a:endCxn id="115" idx="0"/>
          </p:cNvCxnSpPr>
          <p:nvPr/>
        </p:nvCxnSpPr>
        <p:spPr>
          <a:xfrm flipH="1">
            <a:off x="3276000" y="3789360"/>
            <a:ext cx="1440360" cy="720000"/>
          </a:xfrm>
          <a:prstGeom prst="straightConnector1">
            <a:avLst/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118" name="AutoShape 11"/>
          <p:cNvCxnSpPr>
            <a:stCxn id="114" idx="2"/>
            <a:endCxn id="116" idx="0"/>
          </p:cNvCxnSpPr>
          <p:nvPr/>
        </p:nvCxnSpPr>
        <p:spPr>
          <a:xfrm>
            <a:off x="4716360" y="3789360"/>
            <a:ext cx="1656720" cy="792720"/>
          </a:xfrm>
          <a:prstGeom prst="straightConnector1">
            <a:avLst/>
          </a:prstGeom>
          <a:ln w="9360">
            <a:solidFill>
              <a:srgbClr val="402000"/>
            </a:solidFill>
            <a:miter/>
          </a:ln>
        </p:spPr>
      </p:cxnSp>
      <p:sp>
        <p:nvSpPr>
          <p:cNvPr id="119" name="10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56EB-481E-438A-B065-1E61C2B9BF9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1" name="110 Grupo"/>
          <p:cNvGrpSpPr/>
          <p:nvPr/>
        </p:nvGrpSpPr>
        <p:grpSpPr>
          <a:xfrm>
            <a:off x="3733920" y="762120"/>
            <a:ext cx="1600200" cy="1981080"/>
            <a:chOff x="3733920" y="762120"/>
            <a:chExt cx="1600200" cy="1981080"/>
          </a:xfrm>
        </p:grpSpPr>
        <p:sp>
          <p:nvSpPr>
            <p:cNvPr id="122" name="Line 5"/>
            <p:cNvSpPr/>
            <p:nvPr/>
          </p:nvSpPr>
          <p:spPr>
            <a:xfrm flipV="1">
              <a:off x="3733920" y="762120"/>
              <a:ext cx="1600200" cy="8380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733920" y="1981440"/>
              <a:ext cx="1600200" cy="76176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V="1">
              <a:off x="3733920" y="1371600"/>
              <a:ext cx="1600200" cy="3808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3733920" y="1828800"/>
              <a:ext cx="1600200" cy="22860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" name="111 Grupo"/>
          <p:cNvGrpSpPr/>
          <p:nvPr/>
        </p:nvGrpSpPr>
        <p:grpSpPr>
          <a:xfrm>
            <a:off x="3276720" y="4190760"/>
            <a:ext cx="685800" cy="1524240"/>
            <a:chOff x="3276720" y="4190760"/>
            <a:chExt cx="685800" cy="1524240"/>
          </a:xfrm>
        </p:grpSpPr>
        <p:sp>
          <p:nvSpPr>
            <p:cNvPr id="127" name="Line 9"/>
            <p:cNvSpPr/>
            <p:nvPr/>
          </p:nvSpPr>
          <p:spPr>
            <a:xfrm flipV="1">
              <a:off x="3276720" y="4190760"/>
              <a:ext cx="685800" cy="53316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276720" y="5181840"/>
              <a:ext cx="685800" cy="53316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9" name="Rectangle 11"/>
          <p:cNvSpPr/>
          <p:nvPr/>
        </p:nvSpPr>
        <p:spPr>
          <a:xfrm>
            <a:off x="5410080" y="533520"/>
            <a:ext cx="1676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ETALIC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410080" y="12193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O METALIC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410080" y="1981080"/>
            <a:ext cx="2971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NFIDOS 0 ANFOTER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5410080" y="2590920"/>
            <a:ext cx="289584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INERTIDOS O INERT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038480" y="4038480"/>
            <a:ext cx="13716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BINARI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962520" y="5562720"/>
            <a:ext cx="15238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TERNARI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5" name="112 Grupo"/>
          <p:cNvGrpSpPr/>
          <p:nvPr/>
        </p:nvGrpSpPr>
        <p:grpSpPr>
          <a:xfrm>
            <a:off x="5486400" y="3657600"/>
            <a:ext cx="533520" cy="1066680"/>
            <a:chOff x="5486400" y="3657600"/>
            <a:chExt cx="533520" cy="1066680"/>
          </a:xfrm>
        </p:grpSpPr>
        <p:sp>
          <p:nvSpPr>
            <p:cNvPr id="136" name="Line 23"/>
            <p:cNvSpPr/>
            <p:nvPr/>
          </p:nvSpPr>
          <p:spPr>
            <a:xfrm flipV="1">
              <a:off x="5486400" y="3657600"/>
              <a:ext cx="533520" cy="3808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>
              <a:off x="5486400" y="4190760"/>
              <a:ext cx="533520" cy="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486400" y="4343400"/>
              <a:ext cx="533520" cy="3808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9" name="113 Grupo"/>
          <p:cNvGrpSpPr/>
          <p:nvPr/>
        </p:nvGrpSpPr>
        <p:grpSpPr>
          <a:xfrm>
            <a:off x="5562720" y="5181480"/>
            <a:ext cx="533160" cy="1067040"/>
            <a:chOff x="5562720" y="5181480"/>
            <a:chExt cx="533160" cy="1067040"/>
          </a:xfrm>
        </p:grpSpPr>
        <p:sp>
          <p:nvSpPr>
            <p:cNvPr id="140" name="Line 26"/>
            <p:cNvSpPr/>
            <p:nvPr/>
          </p:nvSpPr>
          <p:spPr>
            <a:xfrm flipV="1">
              <a:off x="5562720" y="5181480"/>
              <a:ext cx="533160" cy="3808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5562720" y="5715000"/>
              <a:ext cx="533160" cy="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>
              <a:off x="5562720" y="5867640"/>
              <a:ext cx="533160" cy="380880"/>
            </a:xfrm>
            <a:prstGeom prst="line">
              <a:avLst/>
            </a:prstGeom>
            <a:ln w="5724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" name="Rectangle 29"/>
          <p:cNvSpPr/>
          <p:nvPr/>
        </p:nvSpPr>
        <p:spPr>
          <a:xfrm>
            <a:off x="6095880" y="3429000"/>
            <a:ext cx="990720" cy="30492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OXI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6095880" y="3886200"/>
            <a:ext cx="2057400" cy="53352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OMPUEST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HIDROGENA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6095880" y="4572000"/>
            <a:ext cx="838440" cy="30492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6172200" y="5029200"/>
            <a:ext cx="1676520" cy="30492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HIDROXI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37"/>
          <p:cNvSpPr/>
          <p:nvPr/>
        </p:nvSpPr>
        <p:spPr>
          <a:xfrm>
            <a:off x="6172200" y="5562720"/>
            <a:ext cx="1447920" cy="30456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OXACI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6172200" y="6095880"/>
            <a:ext cx="1447920" cy="304920"/>
          </a:xfrm>
          <a:prstGeom prst="rect">
            <a:avLst/>
          </a:prstGeom>
          <a:solidFill>
            <a:srgbClr val="cdffe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OXISAL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9" name="109 Grupo"/>
          <p:cNvGrpSpPr/>
          <p:nvPr/>
        </p:nvGrpSpPr>
        <p:grpSpPr>
          <a:xfrm>
            <a:off x="990720" y="1600200"/>
            <a:ext cx="2590560" cy="3581280"/>
            <a:chOff x="990720" y="1600200"/>
            <a:chExt cx="2590560" cy="3581280"/>
          </a:xfrm>
        </p:grpSpPr>
        <p:sp>
          <p:nvSpPr>
            <p:cNvPr id="150" name="Rectangle 2"/>
            <p:cNvSpPr/>
            <p:nvPr/>
          </p:nvSpPr>
          <p:spPr>
            <a:xfrm>
              <a:off x="1371600" y="1600200"/>
              <a:ext cx="2209680" cy="457200"/>
            </a:xfrm>
            <a:prstGeom prst="rect">
              <a:avLst/>
            </a:prstGeom>
            <a:solidFill>
              <a:srgbClr val="ffffb7"/>
            </a:solidFill>
            <a:ln w="9360">
              <a:solidFill>
                <a:srgbClr val="402000"/>
              </a:solidFill>
              <a:miter/>
            </a:ln>
            <a:effectLst>
              <a:outerShdw dist="171040" dir="13320847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2000"/>
                  </a:solidFill>
                  <a:latin typeface="Times New Roman"/>
                </a:rPr>
                <a:t>ELEMENTOS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990720" y="4724280"/>
              <a:ext cx="2209680" cy="457200"/>
            </a:xfrm>
            <a:prstGeom prst="rect">
              <a:avLst/>
            </a:prstGeom>
            <a:solidFill>
              <a:srgbClr val="ffddbb"/>
            </a:solidFill>
            <a:ln w="9360">
              <a:solidFill>
                <a:srgbClr val="402000"/>
              </a:solidFill>
              <a:miter/>
            </a:ln>
            <a:effectLst>
              <a:outerShdw dist="180599" dir="13160258" blurRad="0" rotWithShape="0">
                <a:srgbClr val="ff5b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2000"/>
                  </a:solidFill>
                  <a:latin typeface="Times New Roman"/>
                </a:rPr>
                <a:t>COMPUESTOS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52" name="Group 178"/>
            <p:cNvGrpSpPr/>
            <p:nvPr/>
          </p:nvGrpSpPr>
          <p:grpSpPr>
            <a:xfrm>
              <a:off x="1143360" y="2361960"/>
              <a:ext cx="1706040" cy="2057040"/>
              <a:chOff x="1143360" y="2361960"/>
              <a:chExt cx="1706040" cy="2057040"/>
            </a:xfrm>
          </p:grpSpPr>
          <p:sp>
            <p:nvSpPr>
              <p:cNvPr id="153" name="Freeform 99"/>
              <p:cNvSpPr/>
              <p:nvPr/>
            </p:nvSpPr>
            <p:spPr>
              <a:xfrm flipH="1">
                <a:off x="2626200" y="3123000"/>
                <a:ext cx="106200" cy="117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4" name="Freeform 100"/>
              <p:cNvSpPr/>
              <p:nvPr/>
            </p:nvSpPr>
            <p:spPr>
              <a:xfrm flipH="1">
                <a:off x="2637360" y="2909880"/>
                <a:ext cx="196560" cy="29700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5" name="Freeform 101"/>
              <p:cNvSpPr/>
              <p:nvPr/>
            </p:nvSpPr>
            <p:spPr>
              <a:xfrm flipH="1">
                <a:off x="2664360" y="2450880"/>
                <a:ext cx="184680" cy="708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6" name="Freeform 102"/>
              <p:cNvSpPr/>
              <p:nvPr/>
            </p:nvSpPr>
            <p:spPr>
              <a:xfrm flipH="1">
                <a:off x="2734200" y="3072240"/>
                <a:ext cx="81720" cy="561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Freeform 103"/>
              <p:cNvSpPr/>
              <p:nvPr/>
            </p:nvSpPr>
            <p:spPr>
              <a:xfrm flipH="1">
                <a:off x="2773080" y="3123000"/>
                <a:ext cx="6480" cy="489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8" name="Freeform 104"/>
              <p:cNvSpPr/>
              <p:nvPr/>
            </p:nvSpPr>
            <p:spPr>
              <a:xfrm flipH="1">
                <a:off x="2725560" y="3040920"/>
                <a:ext cx="62280" cy="5580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9" name="Line 105"/>
              <p:cNvSpPr/>
              <p:nvPr/>
            </p:nvSpPr>
            <p:spPr>
              <a:xfrm flipV="1">
                <a:off x="2741760" y="2450520"/>
                <a:ext cx="102600" cy="474840"/>
              </a:xfrm>
              <a:prstGeom prst="line">
                <a:avLst/>
              </a:prstGeom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0" name="Freeform 106"/>
              <p:cNvSpPr/>
              <p:nvPr/>
            </p:nvSpPr>
            <p:spPr>
              <a:xfrm flipH="1">
                <a:off x="1591200" y="3130200"/>
                <a:ext cx="1148040" cy="602280"/>
              </a:xfrm>
              <a:prstGeom prst="pie">
                <a:avLst/>
              </a:prstGeom>
              <a:solidFill>
                <a:srgbClr val="d0d0d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1" name="Freeform 107"/>
              <p:cNvSpPr/>
              <p:nvPr/>
            </p:nvSpPr>
            <p:spPr>
              <a:xfrm flipH="1">
                <a:off x="1834920" y="3178800"/>
                <a:ext cx="127080" cy="2811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2" name="Freeform 108"/>
              <p:cNvSpPr/>
              <p:nvPr/>
            </p:nvSpPr>
            <p:spPr>
              <a:xfrm flipH="1">
                <a:off x="1910160" y="3224520"/>
                <a:ext cx="12240" cy="23400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3" name="Freeform 109"/>
              <p:cNvSpPr/>
              <p:nvPr/>
            </p:nvSpPr>
            <p:spPr>
              <a:xfrm flipH="1">
                <a:off x="1898280" y="3241800"/>
                <a:ext cx="29520" cy="40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4" name="Freeform 110"/>
              <p:cNvSpPr/>
              <p:nvPr/>
            </p:nvSpPr>
            <p:spPr>
              <a:xfrm flipH="1">
                <a:off x="1906920" y="3376440"/>
                <a:ext cx="3096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5" name="Freeform 111"/>
              <p:cNvSpPr/>
              <p:nvPr/>
            </p:nvSpPr>
            <p:spPr>
              <a:xfrm flipH="1">
                <a:off x="1954800" y="3168720"/>
                <a:ext cx="137880" cy="3506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6" name="Freeform 112"/>
              <p:cNvSpPr/>
              <p:nvPr/>
            </p:nvSpPr>
            <p:spPr>
              <a:xfrm flipH="1">
                <a:off x="1737720" y="3168720"/>
                <a:ext cx="212400" cy="4100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7" name="Freeform 113"/>
              <p:cNvSpPr/>
              <p:nvPr/>
            </p:nvSpPr>
            <p:spPr>
              <a:xfrm flipH="1">
                <a:off x="1922040" y="3460320"/>
                <a:ext cx="32760" cy="2444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8" name="Freeform 114"/>
              <p:cNvSpPr/>
              <p:nvPr/>
            </p:nvSpPr>
            <p:spPr>
              <a:xfrm flipH="1">
                <a:off x="1875960" y="3552840"/>
                <a:ext cx="64080" cy="29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9" name="Freeform 115"/>
              <p:cNvSpPr/>
              <p:nvPr/>
            </p:nvSpPr>
            <p:spPr>
              <a:xfrm flipH="1">
                <a:off x="1877040" y="3600000"/>
                <a:ext cx="66240" cy="104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0" name="Freeform 116"/>
              <p:cNvSpPr/>
              <p:nvPr/>
            </p:nvSpPr>
            <p:spPr>
              <a:xfrm flipH="1">
                <a:off x="1922760" y="3664440"/>
                <a:ext cx="22320" cy="316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1" name="Freeform 117"/>
              <p:cNvSpPr/>
              <p:nvPr/>
            </p:nvSpPr>
            <p:spPr>
              <a:xfrm flipH="1">
                <a:off x="1713240" y="3389040"/>
                <a:ext cx="88560" cy="53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2" name="Freeform 118"/>
              <p:cNvSpPr/>
              <p:nvPr/>
            </p:nvSpPr>
            <p:spPr>
              <a:xfrm flipH="1">
                <a:off x="1724040" y="3400920"/>
                <a:ext cx="39600" cy="41760"/>
              </a:xfrm>
              <a:prstGeom prst="pie">
                <a:avLst/>
              </a:pr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3" name="Freeform 119"/>
              <p:cNvSpPr/>
              <p:nvPr/>
            </p:nvSpPr>
            <p:spPr>
              <a:xfrm flipH="1">
                <a:off x="1699200" y="3439080"/>
                <a:ext cx="114840" cy="141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4" name="Freeform 120"/>
              <p:cNvSpPr/>
              <p:nvPr/>
            </p:nvSpPr>
            <p:spPr>
              <a:xfrm flipH="1">
                <a:off x="1641600" y="3264480"/>
                <a:ext cx="45000" cy="41040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5" name="Freeform 121"/>
              <p:cNvSpPr/>
              <p:nvPr/>
            </p:nvSpPr>
            <p:spPr>
              <a:xfrm flipH="1">
                <a:off x="1625040" y="3371040"/>
                <a:ext cx="51840" cy="88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6" name="Freeform 122"/>
              <p:cNvSpPr/>
              <p:nvPr/>
            </p:nvSpPr>
            <p:spPr>
              <a:xfrm flipH="1">
                <a:off x="1618920" y="3430440"/>
                <a:ext cx="52200" cy="3492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7" name="Freeform 123"/>
              <p:cNvSpPr/>
              <p:nvPr/>
            </p:nvSpPr>
            <p:spPr>
              <a:xfrm flipH="1">
                <a:off x="2150640" y="3257640"/>
                <a:ext cx="540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8" name="Freeform 124"/>
              <p:cNvSpPr/>
              <p:nvPr/>
            </p:nvSpPr>
            <p:spPr>
              <a:xfrm flipH="1">
                <a:off x="2159640" y="3338280"/>
                <a:ext cx="76320" cy="327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9" name="Freeform 125"/>
              <p:cNvSpPr/>
              <p:nvPr/>
            </p:nvSpPr>
            <p:spPr>
              <a:xfrm flipH="1">
                <a:off x="2108520" y="3165120"/>
                <a:ext cx="27720" cy="2127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0" name="Freeform 126"/>
              <p:cNvSpPr/>
              <p:nvPr/>
            </p:nvSpPr>
            <p:spPr>
              <a:xfrm flipH="1">
                <a:off x="2654640" y="3245400"/>
                <a:ext cx="36000" cy="367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1" name="Freeform 127"/>
              <p:cNvSpPr/>
              <p:nvPr/>
            </p:nvSpPr>
            <p:spPr>
              <a:xfrm flipH="1">
                <a:off x="2610360" y="3296160"/>
                <a:ext cx="34920" cy="381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2" name="Freeform 128"/>
              <p:cNvSpPr/>
              <p:nvPr/>
            </p:nvSpPr>
            <p:spPr>
              <a:xfrm flipH="1">
                <a:off x="2338560" y="3421800"/>
                <a:ext cx="198360" cy="87480"/>
              </a:xfrm>
              <a:prstGeom prst="pie">
                <a:avLst/>
              </a:prstGeom>
              <a:solidFill>
                <a:srgbClr val="a25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3" name="Freeform 129"/>
              <p:cNvSpPr/>
              <p:nvPr/>
            </p:nvSpPr>
            <p:spPr>
              <a:xfrm flipH="1">
                <a:off x="2014560" y="2693160"/>
                <a:ext cx="57600" cy="17136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4" name="Freeform 130"/>
              <p:cNvSpPr/>
              <p:nvPr/>
            </p:nvSpPr>
            <p:spPr>
              <a:xfrm flipH="1">
                <a:off x="1593000" y="2696760"/>
                <a:ext cx="61200" cy="16776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5" name="Freeform 131"/>
              <p:cNvSpPr/>
              <p:nvPr/>
            </p:nvSpPr>
            <p:spPr>
              <a:xfrm flipH="1">
                <a:off x="1625760" y="2454120"/>
                <a:ext cx="405720" cy="70920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6" name="Freeform 132"/>
              <p:cNvSpPr/>
              <p:nvPr/>
            </p:nvSpPr>
            <p:spPr>
              <a:xfrm flipH="1">
                <a:off x="1736280" y="2913480"/>
                <a:ext cx="184320" cy="244080"/>
              </a:xfrm>
              <a:prstGeom prst="pie">
                <a:avLst/>
              </a:prstGeom>
              <a:solidFill>
                <a:srgbClr val="a25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Freeform 133"/>
              <p:cNvSpPr/>
              <p:nvPr/>
            </p:nvSpPr>
            <p:spPr>
              <a:xfrm flipH="1">
                <a:off x="1641960" y="2718000"/>
                <a:ext cx="378000" cy="1468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8" name="Freeform 134"/>
              <p:cNvSpPr/>
              <p:nvPr/>
            </p:nvSpPr>
            <p:spPr>
              <a:xfrm flipH="1">
                <a:off x="1875600" y="2738880"/>
                <a:ext cx="118080" cy="108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9" name="Freeform 135"/>
              <p:cNvSpPr/>
              <p:nvPr/>
            </p:nvSpPr>
            <p:spPr>
              <a:xfrm flipH="1">
                <a:off x="1665720" y="2735280"/>
                <a:ext cx="118440" cy="109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0" name="Line 136"/>
              <p:cNvSpPr/>
              <p:nvPr/>
            </p:nvSpPr>
            <p:spPr>
              <a:xfrm>
                <a:off x="1945440" y="2742480"/>
                <a:ext cx="39600" cy="57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1" name="Line 137"/>
              <p:cNvSpPr/>
              <p:nvPr/>
            </p:nvSpPr>
            <p:spPr>
              <a:xfrm>
                <a:off x="1927800" y="2746080"/>
                <a:ext cx="50400" cy="74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2" name="Line 138"/>
              <p:cNvSpPr/>
              <p:nvPr/>
            </p:nvSpPr>
            <p:spPr>
              <a:xfrm>
                <a:off x="1886040" y="2786040"/>
                <a:ext cx="34560" cy="55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3" name="Line 139"/>
              <p:cNvSpPr/>
              <p:nvPr/>
            </p:nvSpPr>
            <p:spPr>
              <a:xfrm>
                <a:off x="1911960" y="2805480"/>
                <a:ext cx="208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4" name="Line 140"/>
              <p:cNvSpPr/>
              <p:nvPr/>
            </p:nvSpPr>
            <p:spPr>
              <a:xfrm>
                <a:off x="1720440" y="2740680"/>
                <a:ext cx="46800" cy="76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5" name="Line 141"/>
              <p:cNvSpPr/>
              <p:nvPr/>
            </p:nvSpPr>
            <p:spPr>
              <a:xfrm>
                <a:off x="1748520" y="2751120"/>
                <a:ext cx="27360" cy="4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6" name="Line 142"/>
              <p:cNvSpPr/>
              <p:nvPr/>
            </p:nvSpPr>
            <p:spPr>
              <a:xfrm>
                <a:off x="1676880" y="2806920"/>
                <a:ext cx="1872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7" name="Line 143"/>
              <p:cNvSpPr/>
              <p:nvPr/>
            </p:nvSpPr>
            <p:spPr>
              <a:xfrm>
                <a:off x="1676880" y="2770560"/>
                <a:ext cx="34560" cy="60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8" name="Freeform 144"/>
              <p:cNvSpPr/>
              <p:nvPr/>
            </p:nvSpPr>
            <p:spPr>
              <a:xfrm flipH="1">
                <a:off x="1875240" y="2678040"/>
                <a:ext cx="99000" cy="29520"/>
              </a:xfrm>
              <a:prstGeom prst="pie">
                <a:avLst/>
              </a:prstGeom>
              <a:solidFill>
                <a:srgbClr val="a25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9" name="Freeform 145"/>
              <p:cNvSpPr/>
              <p:nvPr/>
            </p:nvSpPr>
            <p:spPr>
              <a:xfrm flipH="1">
                <a:off x="1681560" y="2662200"/>
                <a:ext cx="119880" cy="38160"/>
              </a:xfrm>
              <a:prstGeom prst="pie">
                <a:avLst/>
              </a:prstGeom>
              <a:solidFill>
                <a:srgbClr val="a25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0" name="Freeform 146"/>
              <p:cNvSpPr/>
              <p:nvPr/>
            </p:nvSpPr>
            <p:spPr>
              <a:xfrm flipH="1">
                <a:off x="1789920" y="2990520"/>
                <a:ext cx="73440" cy="36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1" name="Freeform 147"/>
              <p:cNvSpPr/>
              <p:nvPr/>
            </p:nvSpPr>
            <p:spPr>
              <a:xfrm flipH="1">
                <a:off x="1861560" y="2854080"/>
                <a:ext cx="25920" cy="6120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2" name="Freeform 148"/>
              <p:cNvSpPr/>
              <p:nvPr/>
            </p:nvSpPr>
            <p:spPr>
              <a:xfrm flipH="1">
                <a:off x="1769400" y="2856240"/>
                <a:ext cx="27360" cy="6084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3" name="Freeform 149"/>
              <p:cNvSpPr/>
              <p:nvPr/>
            </p:nvSpPr>
            <p:spPr>
              <a:xfrm flipH="1">
                <a:off x="1437840" y="2904840"/>
                <a:ext cx="376200" cy="134640"/>
              </a:xfrm>
              <a:prstGeom prst="pie">
                <a:avLst/>
              </a:prstGeom>
              <a:solidFill>
                <a:srgbClr val="604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4" name="Freeform 150"/>
              <p:cNvSpPr/>
              <p:nvPr/>
            </p:nvSpPr>
            <p:spPr>
              <a:xfrm flipH="1">
                <a:off x="1788480" y="2754720"/>
                <a:ext cx="79920" cy="23040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1"/>
              <p:cNvSpPr/>
              <p:nvPr/>
            </p:nvSpPr>
            <p:spPr>
              <a:xfrm flipH="1">
                <a:off x="1438200" y="2892600"/>
                <a:ext cx="154800" cy="25920"/>
              </a:xfrm>
              <a:prstGeom prst="pie">
                <a:avLst/>
              </a:prstGeom>
              <a:solidFill>
                <a:srgbClr val="000000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2"/>
              <p:cNvSpPr/>
              <p:nvPr/>
            </p:nvSpPr>
            <p:spPr>
              <a:xfrm flipH="1">
                <a:off x="1450440" y="2917080"/>
                <a:ext cx="38160" cy="1116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7" name="Freeform 153"/>
              <p:cNvSpPr/>
              <p:nvPr/>
            </p:nvSpPr>
            <p:spPr>
              <a:xfrm flipH="1">
                <a:off x="1545480" y="2917080"/>
                <a:ext cx="250920" cy="87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8" name="Freeform 154"/>
              <p:cNvSpPr/>
              <p:nvPr/>
            </p:nvSpPr>
            <p:spPr>
              <a:xfrm flipH="1">
                <a:off x="1143360" y="2361960"/>
                <a:ext cx="393840" cy="551520"/>
              </a:xfrm>
              <a:prstGeom prst="pie">
                <a:avLst/>
              </a:prstGeom>
              <a:solidFill>
                <a:srgbClr val="b0b0b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9" name="Freeform 155"/>
              <p:cNvSpPr/>
              <p:nvPr/>
            </p:nvSpPr>
            <p:spPr>
              <a:xfrm flipH="1">
                <a:off x="1779120" y="3123000"/>
                <a:ext cx="252360" cy="143280"/>
              </a:xfrm>
              <a:prstGeom prst="pie">
                <a:avLst/>
              </a:prstGeom>
              <a:solidFill>
                <a:srgbClr val="ff1c1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6"/>
              <p:cNvSpPr/>
              <p:nvPr/>
            </p:nvSpPr>
            <p:spPr>
              <a:xfrm flipH="1">
                <a:off x="1932840" y="3163320"/>
                <a:ext cx="5040" cy="572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1" name="Freeform 157"/>
              <p:cNvSpPr/>
              <p:nvPr/>
            </p:nvSpPr>
            <p:spPr>
              <a:xfrm flipH="1">
                <a:off x="1873440" y="3163320"/>
                <a:ext cx="8640" cy="572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58"/>
              <p:cNvSpPr/>
              <p:nvPr/>
            </p:nvSpPr>
            <p:spPr>
              <a:xfrm flipH="1">
                <a:off x="1546200" y="3790440"/>
                <a:ext cx="705600" cy="628560"/>
              </a:xfrm>
              <a:prstGeom prst="rect">
                <a:avLst/>
              </a:prstGeom>
              <a:solidFill>
                <a:srgbClr val="a25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3" name="Rectangle 159"/>
              <p:cNvSpPr/>
              <p:nvPr/>
            </p:nvSpPr>
            <p:spPr>
              <a:xfrm flipH="1">
                <a:off x="1546200" y="3790440"/>
                <a:ext cx="705600" cy="88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60"/>
              <p:cNvSpPr/>
              <p:nvPr/>
            </p:nvSpPr>
            <p:spPr>
              <a:xfrm flipH="1">
                <a:off x="1519560" y="3705120"/>
                <a:ext cx="762840" cy="109800"/>
              </a:xfrm>
              <a:prstGeom prst="rect">
                <a:avLst/>
              </a:prstGeom>
              <a:solidFill>
                <a:srgbClr val="604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5" name="Line 161"/>
              <p:cNvSpPr/>
              <p:nvPr/>
            </p:nvSpPr>
            <p:spPr>
              <a:xfrm flipH="1">
                <a:off x="2225880" y="3912480"/>
                <a:ext cx="1440" cy="491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6" name="Line 162"/>
              <p:cNvSpPr/>
              <p:nvPr/>
            </p:nvSpPr>
            <p:spPr>
              <a:xfrm flipH="1">
                <a:off x="2199600" y="3949200"/>
                <a:ext cx="1440" cy="4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7" name="Line 163"/>
              <p:cNvSpPr/>
              <p:nvPr/>
            </p:nvSpPr>
            <p:spPr>
              <a:xfrm flipH="1">
                <a:off x="1558440" y="3911040"/>
                <a:ext cx="1440" cy="490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8" name="Line 164"/>
              <p:cNvSpPr/>
              <p:nvPr/>
            </p:nvSpPr>
            <p:spPr>
              <a:xfrm flipH="1">
                <a:off x="1586520" y="3936960"/>
                <a:ext cx="1440" cy="4644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9" name="Line 165"/>
              <p:cNvSpPr/>
              <p:nvPr/>
            </p:nvSpPr>
            <p:spPr>
              <a:xfrm flipH="1">
                <a:off x="1621080" y="4014000"/>
                <a:ext cx="1440" cy="391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0" name="Line 166"/>
              <p:cNvSpPr/>
              <p:nvPr/>
            </p:nvSpPr>
            <p:spPr>
              <a:xfrm flipH="1">
                <a:off x="1601640" y="4010400"/>
                <a:ext cx="1800" cy="391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1" name="Line 167"/>
              <p:cNvSpPr/>
              <p:nvPr/>
            </p:nvSpPr>
            <p:spPr>
              <a:xfrm flipH="1">
                <a:off x="1652400" y="4197240"/>
                <a:ext cx="1800" cy="2149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2" name="Line 168"/>
              <p:cNvSpPr/>
              <p:nvPr/>
            </p:nvSpPr>
            <p:spPr>
              <a:xfrm flipH="1">
                <a:off x="2167920" y="4082040"/>
                <a:ext cx="1800" cy="321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69"/>
              <p:cNvSpPr/>
              <p:nvPr/>
            </p:nvSpPr>
            <p:spPr>
              <a:xfrm flipH="1">
                <a:off x="1718640" y="3868920"/>
                <a:ext cx="365760" cy="136080"/>
              </a:xfrm>
              <a:prstGeom prst="rect">
                <a:avLst/>
              </a:prstGeom>
              <a:solidFill>
                <a:srgbClr val="b0b0b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4" name="Line 170"/>
              <p:cNvSpPr/>
              <p:nvPr/>
            </p:nvSpPr>
            <p:spPr>
              <a:xfrm flipH="1">
                <a:off x="1724040" y="3876120"/>
                <a:ext cx="3535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5" name="Freeform 171"/>
              <p:cNvSpPr/>
              <p:nvPr/>
            </p:nvSpPr>
            <p:spPr>
              <a:xfrm flipH="1">
                <a:off x="2040840" y="3919680"/>
                <a:ext cx="33120" cy="331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6" name="Freeform 172"/>
              <p:cNvSpPr/>
              <p:nvPr/>
            </p:nvSpPr>
            <p:spPr>
              <a:xfrm flipH="1">
                <a:off x="1733760" y="3918240"/>
                <a:ext cx="31320" cy="327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7" name="Freeform 173"/>
              <p:cNvSpPr/>
              <p:nvPr/>
            </p:nvSpPr>
            <p:spPr>
              <a:xfrm flipH="1">
                <a:off x="1488600" y="3640320"/>
                <a:ext cx="320400" cy="179640"/>
              </a:xfrm>
              <a:prstGeom prst="pie">
                <a:avLst/>
              </a:prstGeom>
              <a:solidFill>
                <a:srgbClr val="efb87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8" name="Freeform 174"/>
              <p:cNvSpPr/>
              <p:nvPr/>
            </p:nvSpPr>
            <p:spPr>
              <a:xfrm flipH="1">
                <a:off x="1692720" y="3673440"/>
                <a:ext cx="38160" cy="1119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9" name="Freeform 175"/>
              <p:cNvSpPr/>
              <p:nvPr/>
            </p:nvSpPr>
            <p:spPr>
              <a:xfrm flipH="1">
                <a:off x="1647360" y="3682080"/>
                <a:ext cx="41760" cy="1083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0" name="Freeform 176"/>
              <p:cNvSpPr/>
              <p:nvPr/>
            </p:nvSpPr>
            <p:spPr>
              <a:xfrm flipH="1">
                <a:off x="1744560" y="3666600"/>
                <a:ext cx="20880" cy="363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1" name="Freeform 177"/>
              <p:cNvSpPr/>
              <p:nvPr/>
            </p:nvSpPr>
            <p:spPr>
              <a:xfrm flipH="1">
                <a:off x="1595160" y="3708360"/>
                <a:ext cx="13680" cy="2592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113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Marcador de número de diapositiva"/>
          <p:cNvSpPr/>
          <p:nvPr/>
        </p:nvSpPr>
        <p:spPr>
          <a:xfrm>
            <a:off x="685800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34D3-8C79-4A93-97AB-40E57E5B3D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990720" y="2976480"/>
            <a:ext cx="6642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Times New Roman"/>
              </a:rPr>
              <a:t>(s)</a:t>
            </a: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  +  </a:t>
            </a:r>
            <a:r>
              <a:rPr b="1" lang="es-ES_tradnl" sz="3200" spc="-1" strike="noStrike">
                <a:solidFill>
                  <a:srgbClr val="cd3333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Times New Roman"/>
              </a:rPr>
              <a:t>(l)</a:t>
            </a: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  ------&gt;   C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Times New Roman"/>
              </a:rPr>
              <a:t>(s)</a:t>
            </a: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   +    D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AutoShape 3"/>
          <p:cNvSpPr/>
          <p:nvPr/>
        </p:nvSpPr>
        <p:spPr>
          <a:xfrm rot="16200000">
            <a:off x="1676520" y="32050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 rot="16200000">
            <a:off x="5114160" y="2732760"/>
            <a:ext cx="457200" cy="2316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9400 h 2316240"/>
              <a:gd name="textAreaBottom" fmla="*/ 2256840 h 231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9"/>
                  <a:pt x="10800" y="1777"/>
                </a:cubicBezTo>
                <a:lnTo>
                  <a:pt x="10800" y="9023"/>
                </a:lnTo>
                <a:cubicBezTo>
                  <a:pt x="10800" y="9912"/>
                  <a:pt x="5400" y="10800"/>
                  <a:pt x="0" y="10800"/>
                </a:cubicBezTo>
                <a:cubicBezTo>
                  <a:pt x="5400" y="10800"/>
                  <a:pt x="10800" y="11689"/>
                  <a:pt x="10800" y="12577"/>
                </a:cubicBezTo>
                <a:lnTo>
                  <a:pt x="10800" y="19823"/>
                </a:lnTo>
                <a:cubicBezTo>
                  <a:pt x="10800" y="2071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 flipH="1" flipV="1">
            <a:off x="3636720" y="3519360"/>
            <a:ext cx="6120" cy="106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999800" y="2858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</a:rPr>
              <a:t>ECUACIÓN QUÍMIC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213640" y="4662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0000"/>
                </a:solidFill>
                <a:latin typeface="Times New Roman"/>
              </a:rPr>
              <a:t>SENTIDO DE LA REACCIÓ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993600" y="4119480"/>
            <a:ext cx="196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EACCIONANTES O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EACTANTE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02320" y="414324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PRODUCT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6529320" y="2671920"/>
            <a:ext cx="1928880" cy="3504960"/>
          </a:xfrm>
          <a:prstGeom prst="rect">
            <a:avLst/>
          </a:prstGeom>
          <a:ln w="0">
            <a:noFill/>
          </a:ln>
        </p:spPr>
      </p:pic>
      <p:sp>
        <p:nvSpPr>
          <p:cNvPr id="243" name="12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19 Grupo"/>
          <p:cNvGrpSpPr/>
          <p:nvPr/>
        </p:nvGrpSpPr>
        <p:grpSpPr>
          <a:xfrm>
            <a:off x="2222640" y="5448240"/>
            <a:ext cx="2293560" cy="1069560"/>
            <a:chOff x="2222640" y="5448240"/>
            <a:chExt cx="2293560" cy="1069560"/>
          </a:xfrm>
        </p:grpSpPr>
        <p:sp>
          <p:nvSpPr>
            <p:cNvPr id="245" name="16 CuadroTexto"/>
            <p:cNvSpPr/>
            <p:nvPr/>
          </p:nvSpPr>
          <p:spPr>
            <a:xfrm>
              <a:off x="2222640" y="573408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402000"/>
                  </a:solidFill>
                  <a:latin typeface="Times New Roman"/>
                </a:rPr>
                <a:t>Keq = ------------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17 CuadroTexto"/>
            <p:cNvSpPr/>
            <p:nvPr/>
          </p:nvSpPr>
          <p:spPr>
            <a:xfrm>
              <a:off x="3079440" y="544824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402000"/>
                  </a:solidFill>
                  <a:latin typeface="Times New Roman"/>
                </a:rPr>
                <a:t>[C] x [D]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18 CuadroTexto"/>
            <p:cNvSpPr/>
            <p:nvPr/>
          </p:nvSpPr>
          <p:spPr>
            <a:xfrm>
              <a:off x="3111480" y="6058080"/>
              <a:ext cx="14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402000"/>
                  </a:solidFill>
                  <a:latin typeface="Times New Roman"/>
                </a:rPr>
                <a:t>[A] x [B]</a:t>
              </a:r>
              <a:r>
                <a:rPr b="1" lang="es-CL" sz="24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8" name="Line 5"/>
          <p:cNvSpPr/>
          <p:nvPr/>
        </p:nvSpPr>
        <p:spPr>
          <a:xfrm>
            <a:off x="2311560" y="2448000"/>
            <a:ext cx="45720" cy="638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364040" y="209088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0000"/>
                </a:solidFill>
                <a:latin typeface="Times New Roman"/>
              </a:rPr>
              <a:t>Coeficiente Estequiométric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4929120" y="2662200"/>
            <a:ext cx="46080" cy="638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218840" y="22334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0000"/>
                </a:solidFill>
                <a:latin typeface="Times New Roman"/>
              </a:rPr>
              <a:t>Estado Físic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747720" y="993600"/>
            <a:ext cx="7948440" cy="947160"/>
            <a:chOff x="747720" y="993600"/>
            <a:chExt cx="7948440" cy="947160"/>
          </a:xfrm>
        </p:grpSpPr>
        <p:sp>
          <p:nvSpPr>
            <p:cNvPr id="253" name="Text Box 4"/>
            <p:cNvSpPr/>
            <p:nvPr/>
          </p:nvSpPr>
          <p:spPr>
            <a:xfrm>
              <a:off x="847440" y="9936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C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7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H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6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O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3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 + C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4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H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6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O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3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7030a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 C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9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H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8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O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4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 + HC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2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H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3</a:t>
              </a:r>
              <a:r>
                <a:rPr b="0" lang="en-US" sz="2800" spc="-1" strike="noStrike">
                  <a:solidFill>
                    <a:srgbClr val="7030a0"/>
                  </a:solidFill>
                  <a:latin typeface="Tahoma"/>
                </a:rPr>
                <a:t>O</a:t>
              </a:r>
              <a:r>
                <a:rPr b="0" lang="en-US" sz="2800" spc="-1" strike="noStrike" baseline="-25000">
                  <a:solidFill>
                    <a:srgbClr val="7030a0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747720" y="1603080"/>
              <a:ext cx="2057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ahoma"/>
                </a:rPr>
                <a:t>ácido salicílic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2652480" y="1603080"/>
              <a:ext cx="2438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ahoma"/>
                </a:rPr>
                <a:t>Anhidrido acétic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4448160" y="1585800"/>
              <a:ext cx="2438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ahoma"/>
                </a:rPr>
                <a:t>aspirin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6134040" y="1571400"/>
              <a:ext cx="2438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ahoma"/>
                </a:rPr>
                <a:t>ácido acétic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3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8FC-1504-49E0-AAF0-F083EC3A75BF}" type="slidenum">
              <a:rPr b="0" lang="es-ES" sz="11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611280" y="37861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2 moléculas de 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348000" y="3786120"/>
            <a:ext cx="25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1 molécula de O</a:t>
            </a:r>
            <a:r>
              <a:rPr b="1" lang="es-ES_tradnl" sz="1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624720" y="3801960"/>
            <a:ext cx="23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2 moléculas de CO</a:t>
            </a:r>
            <a:r>
              <a:rPr b="1" lang="es-ES_tradnl" sz="1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928800" y="2857680"/>
            <a:ext cx="7748280" cy="659880"/>
            <a:chOff x="928800" y="2857680"/>
            <a:chExt cx="7748280" cy="659880"/>
          </a:xfrm>
        </p:grpSpPr>
        <p:sp>
          <p:nvSpPr>
            <p:cNvPr id="263" name="Rectangle 17"/>
            <p:cNvSpPr/>
            <p:nvPr/>
          </p:nvSpPr>
          <p:spPr>
            <a:xfrm>
              <a:off x="928800" y="2857680"/>
              <a:ext cx="7748280" cy="65988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5585760" y="3143160"/>
              <a:ext cx="115416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1470960" y="2934360"/>
              <a:ext cx="885960" cy="3988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C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Text Box 20"/>
            <p:cNvSpPr/>
            <p:nvPr/>
          </p:nvSpPr>
          <p:spPr>
            <a:xfrm>
              <a:off x="3098160" y="2975400"/>
              <a:ext cx="309960" cy="3682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Text Box 21"/>
            <p:cNvSpPr/>
            <p:nvPr/>
          </p:nvSpPr>
          <p:spPr>
            <a:xfrm>
              <a:off x="4028040" y="2978640"/>
              <a:ext cx="542160" cy="4406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Text Box 22"/>
            <p:cNvSpPr/>
            <p:nvPr/>
          </p:nvSpPr>
          <p:spPr>
            <a:xfrm>
              <a:off x="7437240" y="2934360"/>
              <a:ext cx="1063800" cy="4406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9" name="Text Box 23"/>
          <p:cNvSpPr/>
          <p:nvPr/>
        </p:nvSpPr>
        <p:spPr>
          <a:xfrm>
            <a:off x="539640" y="43610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20 moléculas de 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3348000" y="4361040"/>
            <a:ext cx="24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10 molécula de O</a:t>
            </a:r>
            <a:r>
              <a:rPr b="1" lang="es-ES_tradnl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6588000" y="4376880"/>
            <a:ext cx="255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20 moléculas de CO</a:t>
            </a:r>
            <a:r>
              <a:rPr b="1" lang="es-ES_tradnl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71680" y="525780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2 · 6,02 · 10</a:t>
            </a:r>
            <a:r>
              <a:rPr b="1" lang="es-ES_tradnl" sz="1600" spc="-1" strike="noStrike" baseline="30000">
                <a:solidFill>
                  <a:srgbClr val="666699"/>
                </a:solidFill>
                <a:latin typeface="Arial"/>
              </a:rPr>
              <a:t>23</a:t>
            </a: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 moléculas de 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3379680" y="5288040"/>
            <a:ext cx="280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6,02 · 10</a:t>
            </a:r>
            <a:r>
              <a:rPr b="1" lang="es-ES_tradnl" sz="1600" spc="-1" strike="noStrike" baseline="30000">
                <a:solidFill>
                  <a:srgbClr val="666699"/>
                </a:solidFill>
                <a:latin typeface="Arial"/>
              </a:rPr>
              <a:t>23</a:t>
            </a: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 moléculas de O</a:t>
            </a:r>
            <a:r>
              <a:rPr b="1" lang="es-ES_tradnl" sz="16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6330960" y="5273640"/>
            <a:ext cx="2592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2 · 6,02 · 10</a:t>
            </a:r>
            <a:r>
              <a:rPr b="1" lang="es-ES_tradnl" sz="1600" spc="-1" strike="noStrike" baseline="30000">
                <a:solidFill>
                  <a:srgbClr val="666699"/>
                </a:solidFill>
                <a:latin typeface="Arial"/>
              </a:rPr>
              <a:t>23</a:t>
            </a:r>
            <a:r>
              <a:rPr b="1" lang="es-ES_tradnl" sz="1600" spc="-1" strike="noStrike">
                <a:solidFill>
                  <a:srgbClr val="666699"/>
                </a:solidFill>
                <a:latin typeface="Arial"/>
              </a:rPr>
              <a:t> moléculas de CO</a:t>
            </a:r>
            <a:r>
              <a:rPr b="1" lang="es-ES_tradnl" sz="16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900000" y="48308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moles de 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3348000" y="478620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1 mol de O</a:t>
            </a:r>
            <a:r>
              <a:rPr b="1" lang="es-ES_tradnl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6700680" y="480204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moles de CO</a:t>
            </a:r>
            <a:r>
              <a:rPr b="1" lang="es-ES_tradnl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857160" y="6019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56 g de 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3305160" y="597528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2 g de O</a:t>
            </a:r>
            <a:r>
              <a:rPr b="1" lang="es-ES_tradnl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6657840" y="599112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88 g de CO</a:t>
            </a:r>
            <a:r>
              <a:rPr b="1" lang="es-ES_tradnl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24 CuadroTexto"/>
          <p:cNvSpPr/>
          <p:nvPr/>
        </p:nvSpPr>
        <p:spPr>
          <a:xfrm>
            <a:off x="0" y="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28800" y="1708200"/>
            <a:ext cx="4357440" cy="1067400"/>
          </a:xfrm>
          <a:prstGeom prst="rect">
            <a:avLst/>
          </a:prstGeom>
          <a:solidFill>
            <a:srgbClr val="f9e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Arial"/>
              </a:rPr>
              <a:t>Si  en una ecuación química intervienen iones, deben ajustarse de forma que la carga neta sea la misma en los dos miembr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5467320" y="2136600"/>
            <a:ext cx="3247560" cy="370800"/>
            <a:chOff x="5467320" y="2136600"/>
            <a:chExt cx="3247560" cy="370800"/>
          </a:xfrm>
        </p:grpSpPr>
        <p:sp>
          <p:nvSpPr>
            <p:cNvPr id="284" name="Text Box 6"/>
            <p:cNvSpPr/>
            <p:nvPr/>
          </p:nvSpPr>
          <p:spPr>
            <a:xfrm>
              <a:off x="5467320" y="2136600"/>
              <a:ext cx="3247560" cy="37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2000"/>
                  </a:solidFill>
                  <a:latin typeface="Arial"/>
                </a:rPr>
                <a:t>Cu + 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402000"/>
                  </a:solidFill>
                  <a:latin typeface="Arial"/>
                </a:rPr>
                <a:t>Ag</a:t>
              </a:r>
              <a:r>
                <a:rPr b="1" lang="es-ES_tradnl" sz="1600" spc="-1" strike="noStrike" baseline="30000">
                  <a:solidFill>
                    <a:srgbClr val="402000"/>
                  </a:solidFill>
                  <a:latin typeface="Arial"/>
                </a:rPr>
                <a:t>+  </a:t>
              </a:r>
              <a:r>
                <a:rPr b="1" lang="es-ES_tradnl" sz="1600" spc="-1" strike="noStrike" baseline="-25000">
                  <a:solidFill>
                    <a:srgbClr val="402000"/>
                  </a:solidFill>
                  <a:latin typeface="Arial"/>
                </a:rPr>
                <a:t>          </a:t>
              </a:r>
              <a:r>
                <a:rPr b="1" lang="es-ES_tradnl" sz="1600" spc="-1" strike="noStrike">
                  <a:solidFill>
                    <a:srgbClr val="402000"/>
                  </a:solidFill>
                  <a:latin typeface="Arial"/>
                </a:rPr>
                <a:t>Cu</a:t>
              </a:r>
              <a:r>
                <a:rPr b="1" lang="es-ES_tradnl" sz="1600" spc="-1" strike="noStrike" baseline="30000">
                  <a:solidFill>
                    <a:srgbClr val="402000"/>
                  </a:solidFill>
                  <a:latin typeface="Arial"/>
                </a:rPr>
                <a:t>2+</a:t>
              </a:r>
              <a:r>
                <a:rPr b="1" lang="es-ES_tradnl" sz="1600" spc="-1" strike="noStrike">
                  <a:solidFill>
                    <a:srgbClr val="402000"/>
                  </a:solidFill>
                  <a:latin typeface="Arial"/>
                </a:rPr>
                <a:t> + 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402000"/>
                  </a:solidFill>
                  <a:latin typeface="Arial"/>
                </a:rPr>
                <a:t>Ag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>
              <a:off x="6910920" y="2332440"/>
              <a:ext cx="360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Text Box 53"/>
          <p:cNvSpPr/>
          <p:nvPr/>
        </p:nvSpPr>
        <p:spPr>
          <a:xfrm>
            <a:off x="928800" y="500040"/>
            <a:ext cx="781992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02000"/>
                </a:solidFill>
                <a:latin typeface="Arial"/>
              </a:rPr>
              <a:t>Los coeficientes estequiométricos de una ecuación química ajustada informan de la proporción entre átomos y moléculas de reactivos y producto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C80-484D-44C3-98C6-62E0F47D5F04}" type="slidenum">
              <a:rPr b="0" lang="es-ES" sz="11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8" name="Group 7"/>
          <p:cNvGrpSpPr/>
          <p:nvPr/>
        </p:nvGrpSpPr>
        <p:grpSpPr>
          <a:xfrm>
            <a:off x="971640" y="3857760"/>
            <a:ext cx="7458120" cy="1071360"/>
            <a:chOff x="971640" y="3857760"/>
            <a:chExt cx="7458120" cy="1071360"/>
          </a:xfrm>
        </p:grpSpPr>
        <p:pic>
          <p:nvPicPr>
            <p:cNvPr id="289" name="Picture 8" descr="03 039 RecipientesConGases_1"/>
            <p:cNvPicPr/>
            <p:nvPr/>
          </p:nvPicPr>
          <p:blipFill>
            <a:blip r:embed="rId1"/>
            <a:stretch/>
          </p:blipFill>
          <p:spPr>
            <a:xfrm>
              <a:off x="971640" y="3857760"/>
              <a:ext cx="74581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3390840" y="4296960"/>
              <a:ext cx="261360" cy="2764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5679000" y="4375440"/>
              <a:ext cx="523080" cy="11052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Line 11"/>
            <p:cNvSpPr/>
            <p:nvPr/>
          </p:nvSpPr>
          <p:spPr>
            <a:xfrm>
              <a:off x="5548320" y="4430880"/>
              <a:ext cx="64692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3" name="Text Box 12"/>
          <p:cNvSpPr/>
          <p:nvPr/>
        </p:nvSpPr>
        <p:spPr>
          <a:xfrm>
            <a:off x="969840" y="857160"/>
            <a:ext cx="7674120" cy="642600"/>
          </a:xfrm>
          <a:prstGeom prst="rect">
            <a:avLst/>
          </a:prstGeom>
          <a:solidFill>
            <a:srgbClr val="f0e9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Arial"/>
              </a:rPr>
              <a:t>Si en la reacción intervienen gases en c.n. de presión y temperatura, 1 mol de cualquiera de ellos ocupará un volumen de 22,4 litr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4" name="Group 14"/>
          <p:cNvGrpSpPr/>
          <p:nvPr/>
        </p:nvGrpSpPr>
        <p:grpSpPr>
          <a:xfrm>
            <a:off x="952560" y="1785960"/>
            <a:ext cx="7620120" cy="494640"/>
            <a:chOff x="952560" y="1785960"/>
            <a:chExt cx="7620120" cy="494640"/>
          </a:xfrm>
        </p:grpSpPr>
        <p:sp>
          <p:nvSpPr>
            <p:cNvPr id="295" name="Rectangle 15"/>
            <p:cNvSpPr/>
            <p:nvPr/>
          </p:nvSpPr>
          <p:spPr>
            <a:xfrm>
              <a:off x="952560" y="1785960"/>
              <a:ext cx="7620120" cy="466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5532480" y="2065680"/>
              <a:ext cx="7542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1409760" y="1839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3009960" y="1839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381560" y="18399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24760" y="1839960"/>
              <a:ext cx="94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402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402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1" name="Text Box 24"/>
          <p:cNvSpPr/>
          <p:nvPr/>
        </p:nvSpPr>
        <p:spPr>
          <a:xfrm>
            <a:off x="3635280" y="2505240"/>
            <a:ext cx="182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1 mol de O</a:t>
            </a:r>
            <a:r>
              <a:rPr b="1" lang="es-ES_tradnl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378480" y="250524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2 moles de 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739800" y="250524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2 moles de H</a:t>
            </a:r>
            <a:r>
              <a:rPr b="1" lang="es-ES_tradnl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635280" y="3166920"/>
            <a:ext cx="20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Arial"/>
              </a:rPr>
              <a:t>22,4 litros de O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6215040" y="3166920"/>
            <a:ext cx="24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Arial"/>
              </a:rPr>
              <a:t>2 · 22,4 litros de H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402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892080" y="3166920"/>
            <a:ext cx="225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Arial"/>
              </a:rPr>
              <a:t>2 · 22,4 litros de H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21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5"/>
          <p:cNvSpPr/>
          <p:nvPr/>
        </p:nvSpPr>
        <p:spPr>
          <a:xfrm>
            <a:off x="1733760" y="35712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Leyes que rigen las reacciones Quím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071720" y="1857240"/>
            <a:ext cx="7696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1.- Ley de conservación de la masa (Lavoisier, 1795):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En cualquier reacción química la materia no se crea ni se destruye, sólo se transforma”. </a:t>
            </a:r>
            <a:r>
              <a:rPr b="0" i="1" lang="es-MX" sz="2000" spc="-1" strike="noStrike">
                <a:solidFill>
                  <a:srgbClr val="402000"/>
                </a:solidFill>
                <a:latin typeface="Arial"/>
              </a:rPr>
              <a:t>Podemos asentar como axioma incontrovertible que, en todas las operaciones del arte y de la naturaleza, nada se crea; existe una cantidad igual de materia tanto antes como después del experime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2.- Ley de las proporciones definidas (Proust, 1797)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En cualquier compuesto puro, sin importar su origen, se encuentran siempre los mismos elementos en la misma proporción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3.- Ley de las proporciones múltiples (Dalton, 1803)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Si un par de elementos forman más de un compuesto, la masa de uno de ellos que reacciona con una masa fija del otro, está en relación sencilla de números enteros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7215120" y="285840"/>
            <a:ext cx="1278000" cy="1447560"/>
          </a:xfrm>
          <a:prstGeom prst="rect">
            <a:avLst/>
          </a:prstGeom>
          <a:ln w="0">
            <a:noFill/>
          </a:ln>
        </p:spPr>
      </p:pic>
      <p:sp>
        <p:nvSpPr>
          <p:cNvPr id="311" name="10 Marcador de número de diapositiva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992-2195-410B-BC5D-05B81962E63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8 CuadroTexto"/>
          <p:cNvSpPr/>
          <p:nvPr/>
        </p:nvSpPr>
        <p:spPr>
          <a:xfrm>
            <a:off x="0" y="-475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100" spc="-1" strike="noStrike">
                <a:solidFill>
                  <a:srgbClr val="fdfcee"/>
                </a:solidFill>
                <a:latin typeface="Arial Narrow"/>
              </a:rPr>
              <a:t>Bases moleculares, celulares y genéticas  de la organización de los sistemas vivos </a:t>
            </a:r>
            <a:r>
              <a:rPr b="1" i="1" lang="es-CL" sz="1000" spc="-1" strike="noStrike">
                <a:solidFill>
                  <a:srgbClr val="fdfcee"/>
                </a:solidFill>
                <a:latin typeface="Arial Narrow"/>
              </a:rPr>
              <a:t>: UNIDAD DE </a:t>
            </a:r>
            <a:r>
              <a:rPr b="1" i="1" lang="es-ES_tradnl" sz="1000" spc="-1" strike="noStrike">
                <a:solidFill>
                  <a:srgbClr val="fdfcee"/>
                </a:solidFill>
                <a:latin typeface="Arial Narrow"/>
              </a:rPr>
              <a:t>QUIMICA REMEDIAL, Facultad de Medicina, Universidad de Chil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11:04:39Z</dcterms:created>
  <dc:creator>URANO</dc:creator>
  <dc:description/>
  <dc:language>en-US</dc:language>
  <cp:lastModifiedBy>Luis</cp:lastModifiedBy>
  <dcterms:modified xsi:type="dcterms:W3CDTF">2011-03-08T14:12:14Z</dcterms:modified>
  <cp:revision>59</cp:revision>
  <dc:subject/>
  <dc:title>Sin título de diapositiva</dc:title>
</cp:coreProperties>
</file>