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63A92-E510-42EC-92F3-74CCEFA9A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B2F56-CC68-4003-9BC5-EF36CD37F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6DCD3-4E18-491D-946C-C1584011A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49A1C-D610-4DC3-9618-4F6B98743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6335F-A479-4C5A-9A68-F4ABB28BA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B2592-4F36-4970-B212-EF409600F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1E079-E7AF-4B4D-B019-D8DD2CD72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D152F-E332-4910-882A-F3B57ACF3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904BF-F99A-421F-AD03-9D4655409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15103-3A94-424E-851F-140C6F121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28F4C-9448-4872-92CC-763FAB54B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F04FB-C62C-47D0-9DE5-41F0D387F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5B12A-796A-4341-BE84-408C0D157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63673-2BBC-44CD-844D-3C27F5863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C4E49-35CE-408C-860B-16DCBD146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02459-3918-4893-A1D7-A3ED294FC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3ADB4-2AE5-4340-BD32-463296425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823C7-0BDF-41B6-8F28-048E53581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520EC-282A-4B4C-A11D-78B9AA41A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79CD6-A456-4065-8382-7FB4E4A82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CAA1C-4787-4A23-8091-2333B7C6F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0BBAC-583D-460A-B0A9-68E90EAB0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E055C-1A82-445E-8F8E-48D9E093E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44089-FE44-49CC-843B-CE80D0660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>
              <a:gd name="textAreaLeft" fmla="*/ 0 w 7958160"/>
              <a:gd name="textAreaRight" fmla="*/ 7958520 w 795816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7FDC0-086A-4414-95FE-A467B6D47994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>
              <a:gd name="textAreaLeft" fmla="*/ 0 w 7772400"/>
              <a:gd name="textAreaRight" fmla="*/ 7772760 w 7772400"/>
              <a:gd name="textAreaTop" fmla="*/ 0 h 109440"/>
              <a:gd name="textAreaBottom" fmla="*/ 109800 h 10944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4D893-C76C-4C6B-BEDD-BB476D09065C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../postgrado/Swriting/scientific%20writing%20course%201-2011/Session%201/NATURE_LETTERS_ABSTRACT_MODEL.doc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Verdana"/>
              </a:rPr>
              <a:t>Abstract writing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Prof. Claudia Trajtember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April 18, 2011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Verdana"/>
              </a:rPr>
              <a:t>Abstracts: their func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3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Verdana"/>
              </a:rPr>
              <a:t>They are part-genres but …(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enre is a name  for a type of text or discourse designed to achieve certain communicative purposes. The research article is a genre and the abstract is  a part-genre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Verdana"/>
              </a:rPr>
              <a:t>They function as stand-alone mini-texts (short version of the contents of the complete article)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Verdana"/>
              </a:rPr>
              <a:t>Screening devices (read or not to read this article?)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Verdana"/>
              </a:rPr>
              <a:t>Previews (a road-map of the article)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Verdana"/>
              </a:rPr>
              <a:t>They should call the reader’s attention and trigger interest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Verdana"/>
              </a:rPr>
              <a:t>Provide reviewers with an immedite oversight of the paper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1900" spc="-1" strike="noStrike">
                <a:solidFill>
                  <a:srgbClr val="000000"/>
                </a:solidFill>
                <a:latin typeface="Verdana"/>
              </a:rPr>
              <a:t>(Swales, J. and Feak, C. 2009. </a:t>
            </a:r>
            <a:r>
              <a:rPr b="0" i="1" lang="es-ES" sz="1900" spc="-1" strike="noStrike">
                <a:solidFill>
                  <a:srgbClr val="000000"/>
                </a:solidFill>
                <a:latin typeface="Verdana"/>
              </a:rPr>
              <a:t>Abstracts and the Writing of Abstracts.</a:t>
            </a:r>
            <a:r>
              <a:rPr b="0" lang="es-ES" sz="1900" spc="-1" strike="noStrike">
                <a:solidFill>
                  <a:srgbClr val="000000"/>
                </a:solidFill>
                <a:latin typeface="Verdana"/>
              </a:rPr>
              <a:t> The Michigan Series in English for Academic and Professional Purposes)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336699"/>
                </a:solidFill>
                <a:uFillTx/>
                <a:latin typeface="Verdana"/>
                <a:hlinkClick r:id="rId1"/>
              </a:rPr>
              <a:t>NATURE_LETTERS_ABSTRACT_MODEL.doc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Verdana"/>
              </a:rPr>
              <a:t>Write an outline first (at home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07920" indent="-436320"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Provide some background information (what do you know about the topic, why is it important to your future professional, academic lif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Purpose (what is this study, work, etc about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ethods/materials/subjects/procedures (how was it done, if you are writing about the work of a theoritician, then talk about what she did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esults/findings (was what discovered, what did that particular theoritician discover)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onclusions/implications for further research (what do the findings mean, how has the work of XXX person impacted your field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400" spc="-1" strike="noStrike">
                <a:solidFill>
                  <a:srgbClr val="000000"/>
                </a:solidFill>
                <a:latin typeface="Verdana"/>
              </a:rPr>
              <a:t>Writing an abstract (next lab sess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Verdana"/>
              </a:rPr>
              <a:t>Write a 250-word-long summary  describing your research/study/subject/what a key person in your area has done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100" spc="-1" strike="noStrike">
                <a:solidFill>
                  <a:srgbClr val="000000"/>
                </a:solidFill>
                <a:latin typeface="Verdana"/>
              </a:rPr>
              <a:t>Pay attention to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Background inform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Purpose of your research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ethods/materials/subjects/procedur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esults/finding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iscuss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onclusions/implications for further research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Paragraphs/topic sentence, verb tenses, agreement between subject and verb, spelling, etc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5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500"/>
                            </p:stCondLst>
                            <p:childTnLst>
                              <p:par>
                                <p:cTn id="6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5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000"/>
                            </p:stCondLst>
                            <p:childTnLst>
                              <p:par>
                                <p:cTn id="7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500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500"/>
                            </p:stCondLst>
                            <p:childTnLst>
                              <p:par>
                                <p:cTn id="7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2000"/>
                            </p:stCondLst>
                            <p:childTnLst>
                              <p:par>
                                <p:cTn id="8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500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500"/>
                            </p:stCondLst>
                            <p:childTnLst>
                              <p:par>
                                <p:cTn id="8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500"/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5T19:19:29Z</dcterms:created>
  <dc:creator>Claudia</dc:creator>
  <dc:description/>
  <dc:language>en-US</dc:language>
  <cp:lastModifiedBy>alumnosc12</cp:lastModifiedBy>
  <dcterms:modified xsi:type="dcterms:W3CDTF">2011-04-26T12:17:29Z</dcterms:modified>
  <cp:revision>24</cp:revision>
  <dc:subject/>
  <dc:title>Scientific Writing  and Speaking in English Problems and challenges</dc:title>
</cp:coreProperties>
</file>