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26B-4370-413B-A92D-E648F15E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383-AEF7-40CA-BC93-85AA28EC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6DA-4DD7-414C-96B1-D5BE88BA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AC7-4E9B-4090-9F63-5CCBA616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94F0-1063-4577-AD7A-A58202EF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87C-AEA6-465D-A9AD-4B714EC2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8EC7-4919-47D2-BD66-623CFD55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A6F-67E8-45F4-BFAB-9E161A21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7EF-A13F-4631-AF02-BA0914CC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7AF5-7E48-42B9-B2C0-C0DE73CB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C26-7D09-44E1-B983-C694D585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DA7-2188-4403-B059-34A667B8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790C-196F-449B-B674-201D11E05A0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LECTURA DE FUENTES ACADÉMIC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NTENIDOS DE LA CL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aracterísticas de las fuentes académic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notación de la refer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l “foco de lectura” y la fi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ingüística Aplic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lan DHaC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. Peñaloza 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LECTURA DE FUENTES ACADÉMIC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74800" y="272520"/>
            <a:ext cx="5111640" cy="18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S FUENTES ACADÉM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ibros disciplin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Paper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o artículos científ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ocumentos especializ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aracterísticas de las fuentes académic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notación de la refer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l “foco de lectura” y la fi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4 CuadroTexto"/>
          <p:cNvSpPr/>
          <p:nvPr/>
        </p:nvSpPr>
        <p:spPr>
          <a:xfrm>
            <a:off x="3780000" y="2421000"/>
            <a:ext cx="49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aracterísticas gener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ciben al lector como u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p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ienden a un uso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objetiv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l lengu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entan una gran densidad léxica, con alto uso de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tecnol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n altamente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intertextu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LECTURA DE FUENTES ACADÉMIC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74800" y="272880"/>
            <a:ext cx="511164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paper, fuente de la información actualiz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300816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aracterísticas de las fuentes académic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notación de la refer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l “foco de lectura” y la fi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3708360" y="2448000"/>
            <a:ext cx="2087640" cy="6840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SimSun"/>
              </a:rPr>
              <a:t>¿Qué problem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SimSun"/>
              </a:rPr>
              <a:t>se estudió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3708360" y="3284640"/>
            <a:ext cx="2087640" cy="68400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SimSun"/>
              </a:rPr>
              <a:t>¿Cómo se estudi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SimSun"/>
              </a:rPr>
              <a:t>el problem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3708360" y="4103640"/>
            <a:ext cx="2087640" cy="684360"/>
          </a:xfrm>
          <a:prstGeom prst="roundRect">
            <a:avLst>
              <a:gd name="adj" fmla="val 16667"/>
            </a:avLst>
          </a:prstGeom>
          <a:solidFill>
            <a:srgbClr val="86a6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SimSun"/>
              </a:rPr>
              <a:t>¿Cuáles fuer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SimSun"/>
              </a:rPr>
              <a:t>los hallazgo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3708360" y="4968720"/>
            <a:ext cx="2087640" cy="68436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SimSun"/>
              </a:rPr>
              <a:t>¿Qué signific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SimSun"/>
              </a:rPr>
              <a:t>los resultado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8"/>
          <p:cNvSpPr/>
          <p:nvPr/>
        </p:nvSpPr>
        <p:spPr>
          <a:xfrm>
            <a:off x="5965920" y="2771640"/>
            <a:ext cx="263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9"/>
          <p:cNvSpPr/>
          <p:nvPr/>
        </p:nvSpPr>
        <p:spPr>
          <a:xfrm>
            <a:off x="5965920" y="3608280"/>
            <a:ext cx="263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5965920" y="5113440"/>
            <a:ext cx="26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5965920" y="442908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516720" y="2421000"/>
            <a:ext cx="2016000" cy="6840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SimSun"/>
              </a:rPr>
              <a:t>1. INTRODUC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6516720" y="3257640"/>
            <a:ext cx="2016000" cy="68400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SimSun"/>
              </a:rPr>
              <a:t>2. METOD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6516720" y="4076640"/>
            <a:ext cx="2016000" cy="684360"/>
          </a:xfrm>
          <a:prstGeom prst="roundRect">
            <a:avLst>
              <a:gd name="adj" fmla="val 16667"/>
            </a:avLst>
          </a:prstGeom>
          <a:solidFill>
            <a:srgbClr val="86a6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SimSun"/>
              </a:rPr>
              <a:t>3. RESULT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15"/>
          <p:cNvSpPr/>
          <p:nvPr/>
        </p:nvSpPr>
        <p:spPr>
          <a:xfrm>
            <a:off x="6516720" y="4941720"/>
            <a:ext cx="2016000" cy="682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SimSun"/>
              </a:rPr>
              <a:t>4. DISCUS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708360" y="5732640"/>
            <a:ext cx="4824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>
              <a:lnSpc>
                <a:spcPct val="92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SimSun"/>
              </a:rPr>
              <a:t>MOREIRA-MUÑOZ, T. (2008). Te acompaño mientras escribes: guía para producir, revisar y mejorar un texto. Desde la comunicación hacia la norma. Santiago: Ediciones Universidad Catól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LECTURA DE FUENTES ACADÉMIC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74800" y="272880"/>
            <a:ext cx="511164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paper, fuente de la información actualiz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300816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aracterísticas de las fuentes académic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notación de la refer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l “foco de lectura” y la fi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6516720" y="2421000"/>
            <a:ext cx="2016000" cy="6840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SimSun"/>
              </a:rPr>
              <a:t>1. INTRODUC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6516720" y="3257640"/>
            <a:ext cx="2016000" cy="68400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SimSun"/>
              </a:rPr>
              <a:t>2. METOD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6516720" y="4076640"/>
            <a:ext cx="2016000" cy="684360"/>
          </a:xfrm>
          <a:prstGeom prst="roundRect">
            <a:avLst>
              <a:gd name="adj" fmla="val 16667"/>
            </a:avLst>
          </a:prstGeom>
          <a:solidFill>
            <a:srgbClr val="86a6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SimSun"/>
              </a:rPr>
              <a:t>3. RESULT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6516720" y="4941720"/>
            <a:ext cx="2016000" cy="682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SimSun"/>
              </a:rPr>
              <a:t>4. DISCUS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6516720" y="1557360"/>
            <a:ext cx="2016000" cy="684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SimSun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19 CuadroTexto"/>
          <p:cNvSpPr/>
          <p:nvPr/>
        </p:nvSpPr>
        <p:spPr>
          <a:xfrm>
            <a:off x="3780000" y="155736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ectura explorato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20 CuadroTexto"/>
          <p:cNvSpPr/>
          <p:nvPr/>
        </p:nvSpPr>
        <p:spPr>
          <a:xfrm>
            <a:off x="3780000" y="249228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ectura bibliográfica, nivel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21 CuadroTexto"/>
          <p:cNvSpPr/>
          <p:nvPr/>
        </p:nvSpPr>
        <p:spPr>
          <a:xfrm>
            <a:off x="3780000" y="371628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ectura bibliográfica, nivel específ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23 Conector recto de flecha"/>
          <p:cNvCxnSpPr>
            <a:stCxn id="72" idx="3"/>
            <a:endCxn id="71" idx="1"/>
          </p:cNvCxnSpPr>
          <p:nvPr/>
        </p:nvCxnSpPr>
        <p:spPr>
          <a:xfrm flipV="1">
            <a:off x="5435280" y="1897920"/>
            <a:ext cx="1081800" cy="13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6" name="26 Conector recto de flecha"/>
          <p:cNvCxnSpPr>
            <a:stCxn id="73" idx="3"/>
            <a:endCxn id="67" idx="1"/>
          </p:cNvCxnSpPr>
          <p:nvPr/>
        </p:nvCxnSpPr>
        <p:spPr>
          <a:xfrm flipV="1">
            <a:off x="5435280" y="2761560"/>
            <a:ext cx="1081800" cy="238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" name="28 Conector recto de flecha"/>
          <p:cNvCxnSpPr>
            <a:stCxn id="73" idx="3"/>
            <a:endCxn id="70" idx="1"/>
          </p:cNvCxnSpPr>
          <p:nvPr/>
        </p:nvCxnSpPr>
        <p:spPr>
          <a:xfrm>
            <a:off x="5435280" y="3000240"/>
            <a:ext cx="1081800" cy="228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8" name="30 Conector recto de flecha"/>
          <p:cNvCxnSpPr>
            <a:stCxn id="73" idx="3"/>
            <a:endCxn id="69" idx="1"/>
          </p:cNvCxnSpPr>
          <p:nvPr/>
        </p:nvCxnSpPr>
        <p:spPr>
          <a:xfrm>
            <a:off x="5435280" y="2999880"/>
            <a:ext cx="1081800" cy="1420200"/>
          </a:xfrm>
          <a:prstGeom prst="straightConnector1">
            <a:avLst/>
          </a:prstGeom>
          <a:ln w="19080">
            <a:solidFill>
              <a:srgbClr val="ff0000"/>
            </a:solidFill>
            <a:prstDash val="dashDot"/>
            <a:miter/>
            <a:tailEnd len="med" type="arrow" w="med"/>
          </a:ln>
        </p:spPr>
      </p:cxnSp>
      <p:cxnSp>
        <p:nvCxnSpPr>
          <p:cNvPr id="79" name="32 Conector recto de flecha"/>
          <p:cNvCxnSpPr>
            <a:stCxn id="74" idx="3"/>
            <a:endCxn id="68" idx="1"/>
          </p:cNvCxnSpPr>
          <p:nvPr/>
        </p:nvCxnSpPr>
        <p:spPr>
          <a:xfrm flipV="1">
            <a:off x="5435280" y="3598200"/>
            <a:ext cx="1081800" cy="7801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0" name="38 Conector recto de flecha"/>
          <p:cNvCxnSpPr>
            <a:endCxn id="69" idx="1"/>
          </p:cNvCxnSpPr>
          <p:nvPr/>
        </p:nvCxnSpPr>
        <p:spPr>
          <a:xfrm>
            <a:off x="5435280" y="4376520"/>
            <a:ext cx="1081800" cy="435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LECTURA DE FUENTES ACADÉMIC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300816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aracterísticas de las fuentes académic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notación de la refer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l “foco de lectura” y la fi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24 CuadroTexto"/>
          <p:cNvSpPr/>
          <p:nvPr/>
        </p:nvSpPr>
        <p:spPr>
          <a:xfrm>
            <a:off x="3635280" y="260280"/>
            <a:ext cx="511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ferencia bibliográfic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el enunciado que entrega toda la información necesaria para saber de dónde proviene la fuente utiliz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xisten varios modelos para ordenar las referencias. Nosotros utilizaremos el modelo de la AP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LECTURA DE FUENTES ACADÉMIC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300816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aracterísticas de las fuentes académic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notación de la refer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“foco de lectura” y la fi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24 CuadroTexto"/>
          <p:cNvSpPr/>
          <p:nvPr/>
        </p:nvSpPr>
        <p:spPr>
          <a:xfrm>
            <a:off x="3635280" y="260280"/>
            <a:ext cx="511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etapa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ectura exploratori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mite saber, en términos generales, sobre un 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ocimiento fund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plitud de fenómenos estudi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incipales modelos, escuelas, aut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incipales problemáticas consideradas aún por resol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lección inicial de fu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LECTURA DE FUENTES ACADÉMIC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300816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aracterísticas de las fuentes académic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notación de la refer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“foco de lectura” y la fi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24 CuadroTexto"/>
          <p:cNvSpPr/>
          <p:nvPr/>
        </p:nvSpPr>
        <p:spPr>
          <a:xfrm>
            <a:off x="3635280" y="260280"/>
            <a:ext cx="5113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siguiente etapa es una etapa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ectura para la escri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l tema se acota con un 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foco de lec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 realiza una selección de fuentes según el foco de lec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umenta el registro de lectura en una 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ficha de lec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fer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xtractos del texto que puedan utilizarse como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i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osición del autor frente al tema (si es pertinent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gistro de otros autores o textos mencionados en la fu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sumen del texto (entre 80 y 100 palabr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porte / valoración del texto según foco de lec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LECTURA DE FUENTES ACADÉMIC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3008160" cy="4691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aracterísticas de las fuentes académic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notación de la refer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“foco de lectura” y la fi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24 CuadroTexto"/>
          <p:cNvSpPr/>
          <p:nvPr/>
        </p:nvSpPr>
        <p:spPr>
          <a:xfrm>
            <a:off x="3635280" y="260280"/>
            <a:ext cx="511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AREAS PARA EL PRÓXIMO LU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finir u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co de lectur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gún el tema por trabaj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er Manual APA para construir una lista de referenc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raer las referencias de al menos dos textos seleccion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raer la ficha de lectura de uno de los textos seleccion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20:02:29Z</dcterms:created>
  <dc:creator>medicina</dc:creator>
  <dc:description/>
  <dc:language>en-US</dc:language>
  <cp:lastModifiedBy>medicina</cp:lastModifiedBy>
  <dcterms:modified xsi:type="dcterms:W3CDTF">2011-03-21T19:53:32Z</dcterms:modified>
  <cp:revision>58</cp:revision>
  <dc:subject/>
  <dc:title>EL NIVEL MORFOSINTÁCTICO</dc:title>
</cp:coreProperties>
</file>