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6A2-434A-4DD8-8195-E03BECF2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0DC-3D1E-486D-9DB5-07635F70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243-DA22-4A68-A252-B7228C1F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F87-8276-4C12-B235-4B121F4E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DC30-E275-447F-9A65-0D8B4020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6F4D-188D-4713-9C77-9E380026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1219-B348-493E-B462-15CBE03B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742E-E553-45AC-B0FD-117E7DDF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FD23-2FEB-4587-9A37-C656D7EF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1DB6-4E33-4BF1-90D8-D932281F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1256-E120-47ED-B96B-C20F4FE3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AE1-A3E4-4B33-B11C-7F2CBC25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9D1C-75FB-459D-93C6-31D1AE7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E6AC-D7B5-4C21-9DD4-E9884D42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B88F-A98A-41F2-B9E0-8C767835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CF65-9561-41B7-98E9-B5466A6E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F277-C960-46A0-B0FF-E3818F64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95B-AEA1-4759-8291-325397F3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DB5-F766-4C6B-96FB-FFC0B99C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21D-5480-4229-8E88-F966412A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79C-8569-4F3D-82B7-F32DFD4C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871-4C19-43A7-A953-729115C9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276-F6C0-4F60-B72F-A9841284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25A-F212-4EB4-BE64-C43DD99B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7339-0661-4211-BFF0-88C31ACB8F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6B37-D9C1-4DE3-99E9-983CD6454E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arco Lógico para el Diseño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Mª Elena Riveros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paso Ráp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 la lista que aparece abajo, señale cuá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firmaciones considera VERDADERAS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ción al SML y la M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)__ La MML se utiliza sólo al principio del proyecto y no cambia a medida que se ejecuta 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)__ La MML  deber ser modificada y mejorada repetidamente a lo largo de las etapas de preparación y ejecución de un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)__ El SML ofrece herramientas para la conceptualización, diseño, ejecución, seguimiento de desempeño y evaluación de proy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)__ La participación de involucrados en la preparación de la MML ocurre sólo al final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1628640"/>
            <a:ext cx="1224000" cy="100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43120" y="1700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3480" y="3232080"/>
            <a:ext cx="801216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general, los proyectos son desarrollados para dar respuesta a un problema u  obstáculo a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chas veces existe consenso de que la situ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ante es insatisfactoria y se requiere un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situación insatisfactoria se denomina SITUACIÓN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1773360"/>
            <a:ext cx="136836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1773360"/>
            <a:ext cx="1295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19120" y="20606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43120" y="191628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1844640"/>
            <a:ext cx="1728720" cy="1152720"/>
          </a:xfrm>
          <a:prstGeom prst="rightArrow">
            <a:avLst>
              <a:gd name="adj1" fmla="val 50000"/>
              <a:gd name="adj2" fmla="val 37492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206064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yecto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3480" y="3232080"/>
            <a:ext cx="801216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o la situación actual es insatisfactoria, se presume que existe una situación futura deseada que resultará de la intervención diseñada para abordar todos o algunos de los problemas asociados a la situación a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a intervención se denomina PROYECTO o PROGRAMA,  es de corto o mediano plazo, y es diseñada para obtener un cambio a mediano o largo plazo requerido para el logro de la situación futura dese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1773360"/>
            <a:ext cx="136836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1844640"/>
            <a:ext cx="1728720" cy="1152720"/>
          </a:xfrm>
          <a:prstGeom prst="rightArrow">
            <a:avLst>
              <a:gd name="adj1" fmla="val 50000"/>
              <a:gd name="adj2" fmla="val 37492"/>
            </a:avLst>
          </a:prstGeom>
          <a:solidFill>
            <a:srgbClr val="99ff66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1773360"/>
            <a:ext cx="1295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19120" y="20606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206064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yecto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3120" y="191628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480" y="3232080"/>
            <a:ext cx="801216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sten 2 herramientas de análisis para diagnosticar  la situación actual de la manera más objetiva pos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Involuc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emás se usan 2 herramientas adicionales para especificar la situación futura dese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jercicio Grupal Nº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omando algún caso o situación de su PI, identifiquen la situación actual sobre la que se quiere interv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Objetivo de Aprendiz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Después de finalizar esta sección Ud. ser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apaz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Reconocer cómo aplicar el análisis de involucrados para hacer un diagnóstico preliminar de un determinado problema de desarrollo (problema centr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la 1ª herramienta en el SML para diagnosticar la situación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usa tanto en el diseño, como en la ejecución, para aclarar cuáles grupos están directa o indirectamente involucrados en un problema específico de desarrollo, así como para considerar sus intereses, potencial y limi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usa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eriguar cuáles grupos apoyarían una determinada estrategia para abordar un problema considerado cent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eriguar cuáles grupos serían oposi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diseño incluye medios para maximizar el apoyo y minimizar la resis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 mayor objetividad al proceso de planificación, al considerar diversos puntos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menta sentido de pertenencia en beneficiarios y prestatarios, al incluirlos desde el comienzo en el proceso de plan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usa el análisis de involucrados para aclar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uáles grupos están directa o indirectamente involucrados en el problema central seleccio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intereses respectivos en relación a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s percepciones de los problemas que causan, o que resultan de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mandatos de las organizaciones de involucrados, es decir, la autoridad legal o estatutaria que tiene una organización para utilizar sus recursos para solucionar el problema central (u obstaculizar una solución del mismo); y los recursos con los que cada grupo puede contribuir a una solución (o para obstaculizar una solución determinada) a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¿Qué es el SM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SML es “una manera de estructurar los principales elementos de un proyecto, subrayando los lazos lógicos entre insumos previstos, las actividades planeadas y los resultados esperad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SML es actualmente el sistema más utilizado para el diseño ejecución, seguimiento del desempeño y evaluación de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tal incluir ambos grupos de involuc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bien el grupo de involucrados  a favor del proyecto puede aportar recursos, el grupo que se opone puede utilizar estos recursos para obstaculizar o impedir 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4038480" cy="4530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 que apoyan la solución propue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 que se oponen a la solución propue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579640" y="1628640"/>
            <a:ext cx="26607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inicia el análisis de involucrados con la preparación de un cuadro con 4 columnas y 1 fila para cada grupo específico (no se consideran individuos, sólo grup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1628640"/>
          <a:ext cx="4751280" cy="4530960"/>
        </p:xfrm>
        <a:graphic>
          <a:graphicData uri="http://schemas.openxmlformats.org/drawingml/2006/table">
            <a:tbl>
              <a:tblPr/>
              <a:tblGrid>
                <a:gridCol w="1009440"/>
                <a:gridCol w="1113120"/>
                <a:gridCol w="1244520"/>
                <a:gridCol w="1384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e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bl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cib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cursos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Gru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quellos directa o indirectamente involucrados o afectados por el problema central y su(s) posible(s) solución(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na manera para identificar los grupos es usar una tip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or ejemplo, se podrían considerar grupos a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rupos de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del sector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del sector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de la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religi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Grup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rganizaciones exter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24000" y="1628640"/>
          <a:ext cx="4751280" cy="4530960"/>
        </p:xfrm>
        <a:graphic>
          <a:graphicData uri="http://schemas.openxmlformats.org/drawingml/2006/table">
            <a:tbl>
              <a:tblPr/>
              <a:tblGrid>
                <a:gridCol w="1009440"/>
                <a:gridCol w="1113120"/>
                <a:gridCol w="1244520"/>
                <a:gridCol w="1384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e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bl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cib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cursos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n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rupo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84820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1628640"/>
            <a:ext cx="2881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la 1ª columna del cuadro de involucrados se incluyen los nombres de los diferentes grupos de involucrados ident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ocamos cada grupo en 1 fila dife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e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 la 2ª columna del cuadro de involucrados colocamos los intereses de cada grupo en relación a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 se refiere a todos los intereses que pueda tener un determinado grupo, sino aquellos que tienen relación directa con el problema seleccio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intereses también pueden reflejar soluciones sugeridas por cada grupo que esté perjudicado por el problema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blemas Percib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la 3ª columna colocamos los problemas específicos o situaciones negativas, de la manera que son percibidas por el grupo de involucrados en relación con el problema central, en la fila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importante enfatizar que los problemas percibidos deben ser planteados de la manera más negativa posible; no deben constituir soluciones “encubiert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emás las frases deben ser claras, no ambigu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amos el siguiente eje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48320" y="1600200"/>
          <a:ext cx="4038480" cy="2189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In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tenemos taller de manteni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s vehículos están mal manten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8320" y="3941640"/>
          <a:ext cx="4038480" cy="2189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In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cesos burocráticos para aprobación de proyec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rebuchet MS"/>
                        </a:rPr>
                        <a:t>Correct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rgas demoras para aprobación de proyect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hora pruebe Ud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¿Cuál de los siguientes problemas percibidos  están bien redact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__ Largas filas de espera en consulto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__ Falta personal para cubrir demanda de at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)__ No hay pesti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)__ La cosecha se está perdiendo debido a las pla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00" y="1816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ursos y Man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la 4ª columna del cuadro de involucrados se incluyen los recursos y mandatos de cada involuc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urs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quellos que un grupo puede poner a disposición para contribuir a la solución del problema central (o para bloquear una solución propue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ueden ser financieros y no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 frecuencia los segundos (opinión pública; huelgas, influencias, votación) son más importantes que los prim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s organizaciones formales normalmente tiene recursos financieros (su presupuesto) y no financieros, en particular recursos humanos que pueden solucionar el problema de desarrollo (o bloquear la solución propue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s grupos de población normalmente no tiene recursos financieros. Sin embargo, pueden tener recursos no financieros importantes para contribuir a la solución del problema central (o bloquear la solución propuesta). 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ano de o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fl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rupos de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ión política por medio de vo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Anteced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 SML fue desarrollado por la Agencia para el Desarrollo Internacional de Estados Unidos (USAID)  a fines de los años 60 y principios de los 70 y luego a principio de los años 80 en Alem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rece herramientas para l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guimiento de Desempeño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 un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leccione VERDADERA o FALSA respecto a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guiente afi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ursos son aquellos que un grupo puede facilitar para contribuir a una solución (o bloquear una solución propuesta) al problema central. Los recursos pueden ser financieros y no financier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)__ Verda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__ Fa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n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toridad formal que tiene un grupo de involucrados para dar un servicio o cumplir una función 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eneralmente corresponden a organizaciones formalmente constituidas y se encuentran en documentos oficiales como estatutos que describen los objetivos o la misión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general, los grupos de población no tienen mandatos debido a que no se encuentran formalmente organizados (ejemplos: grupos de mujeres; grupos de discapacitados; grupos de auto ayuda; grupos de tercera edad, otr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Involuc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modo de co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análisis de involucrados es importante no sólo en el proceso de identificación y diseño del proyecto, sino también es una fuente indispensable de información para la ejecución, seguimiento de desempeño y evaluación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r ello es fundamental mantener esta cuadro actualizado, así como entender bien el papel que juega cada involucrado en la ejecución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bjetivo de Aprendiz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pués de finalizar esta sección Ud. ser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paz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base a los problemas percibidos por los involucrados, reconocer cómo aplicar el análisis de problemas para hacer un diagnó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l análisis de problemas es una buena herramienta para entender el problem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 realiza mediante el desarrollo de un diagrama conocido como árbol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 la 2ª herramienta del ML para diagnosticar la situación ac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 usa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alizar la situación actual en el contexto del problema seleccio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dentificar los problemas principales en torno al problema de desarrollo y sus relaciones de causalidad (causa – efecto)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sualizar las relaciones de causalidad e interrelaciones en un diagrama (Árbol de Problem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e desarrollado en base al análisis de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 consideran las condiciones negativas percibidas por los involucrados en relación con el problema seleccio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través de la colocación de los problemas principales de acuerdo con sus relaciones de causa – efecto, así como sus interrelaciones, el árbol de problemas nos ayuda a establecer el “modelo lógico” en el cual estará basado 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¿Cuál es la contribución del árbol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bl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definición correcta de las relaciones de causalidad de los problemas permite mejorar el diseño de proyectos, porque es el fundamento del “modelo lógico” en el que se basa la M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¿Cómo hacer el análisis de problem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Tome el problema central, escríbalo en una tarjeta y péguelo en la parte superior de la superficie de trabajo (pizarrón u otr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Identifique otros problemas, percibidos por los involucrados, que son causas directas del problema central (el cual se convierte en efecto de esas caus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Siga colocando otros problemas percibidos que son causa del problema central hasta que llegue a las causas que son raí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etermine si algunos problemas percibidos por los involucrados son efectos del problema central y colóquelos en la superficie de trabajo que está por encima del problema cent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Trace líneas con flechas que apunten desde cada problema que es una causa al(los) problema(s) que representan efectos y asegúrese que el diagrama tiene sent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¿Por qué se creó el SM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n parte de los proyectos carecían de la precisión requerida, incorporando múltiples objetivos no directamente relacionados entre sí, ni con la finalidad última que había dado origen a los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s proyectos no estaban siendo ejecutados exitosamente y no quedaba claro el alcance del organismo ejecutor de dicho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había una idea clara de cómo determinar si un proyecto había sido exitoso y tampoco había una base objetiva para comparar lo planeado con lo ejec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ntes de analizar paso a paso el árbol de problemas de nue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studio de caso, repasemos lo que hemos vis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leccione el paso que aparece abajo que NO es parte del proce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sarrollo del árbol de problemas. Sólo hay 1 respuesta correc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)__ Escriba el problema central  y péguelo en la parte superior de la superficie de tr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b)__ Identifique otros problemas, percibidos por los involucrados, que son causas directas del problema central y colóquelos debajo del problema cent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)__ Elimine los problemas que no percibe Ud. o con los cuales no está de acuer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)__ Determine si algunos problemas percibidos por los involucrados son efectos del problema central y colóquelos en la superficie de trabajo que está por encima del problema central, hasta que tenga un diagrama razon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tudio de caso 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arrollo del árbol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2637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nque el árbol de problemas es 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rramienta poderosa y fácil de utiliz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iene algunas limit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s causas no tienen ponderaciones de acuerdo con la importancia de su contribución a los efectos percib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Diagnóstico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pa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leccione VERDADERO o FALSO en relación a la siguiente afi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diante la colocación de los problemas principales de acuerdo con sus relaciones de causa-efecto y sus interrelaciones, el árbol de problemas nos ayuda a establecer el “modelo lógico” en el cual estará basado el proyect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)__ Fal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)__ Verdad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pas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lene los espacios en blanco, en forma secuencial, que hacen qu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firmación siguiente sea VERDADERA. Marque sólo 1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ante la colocación de los ____ principales de acuerdo con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aciones de ____ así como sus interrelaciones, el ____ nos ayud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clarecer los problemas en que debería estar enfocado el proyect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rupo; causa-efecto; cuadro de involuc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as; medios-fines; árbol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eses, dependencia; cuadro de involuc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as; causa-efecto; árbol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Identific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tivo de Aprendiz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pués de finalizar esta sección Ud. se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paz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onocer la importancia de las herramientas de identificación en el S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1773360"/>
            <a:ext cx="136836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1844640"/>
            <a:ext cx="1728720" cy="1152720"/>
          </a:xfrm>
          <a:prstGeom prst="rightArrow">
            <a:avLst>
              <a:gd name="adj1" fmla="val 50000"/>
              <a:gd name="adj2" fmla="val 3749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1773360"/>
            <a:ext cx="1295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19120" y="20606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060640"/>
            <a:ext cx="154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yecto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3120" y="191628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3573360"/>
            <a:ext cx="801216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sten 2 herramientas de análisis para diagnosticar  la situación actual de la manera más objetiva pos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Involuc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emás se usan 2 herramientas adicionales para especificar la situación futura dese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álisis de 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13604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ecord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rramientas de Diagnóst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san como punto de partida para la identificación del proyecto, una vez que se ha diagnosticado un problem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álisis de Objetiv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álisis de Alternativ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tivo de Aprendiz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pués de finalizar esta sección Ud. se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paz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 base al análisis de problemas, reconocer cómo aplicar la herramienta de análisis de objetivos como punto de partida de la identificación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 el análisis de objetivos convertimos los problemas que aparecen en el árbol de problemas en objetivos o soluciones a dichos problemas, como parte del paso inicial para especificar la Situación Futura “Deseada”, es decir, para identificar un proyect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Ventajas del enfoque de M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egura planteamiento de preguntas fundamentales y análisis de debilidades, otorgando a los/as tomadores de decisiones una información mejor y más perti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uía el análisis sistemático y lógico de elementos claves interrelacionados que constituyen un proyecto bien diseñ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jora la planificación al resaltar los vínculos entre elementos del proyecto y supuestos para su log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 usa par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scribir una situación que podría existir después de resolver los proble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dentificar las relaciones de tipo medio-fin entre 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Visualizar estas relaciones medio-fin en un diagrama (árbol de objetiv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n lugar de tener las relaciones causa-efecto (árbol de problemas), el diagrama resultante, llamado árbol de objetivos, refleja las relaciones medio-f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ebuchet MS"/>
              </a:rPr>
              <a:t>Pasos a segui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a identificar el Fin tome el problema que aparece en el nivel más alto del árbol de problemas y conviértalo en un objetivo (que es una manera de abordar el problem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spués, trabaje hacia abajo del árbol de problemas, para identificar objetivos para cada problema, que se convierten en medios para abordar el problema cent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1773360"/>
            <a:ext cx="151128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61000" y="1916280"/>
            <a:ext cx="15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ript MT Bol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773360"/>
            <a:ext cx="1511280" cy="115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4960" y="1773360"/>
            <a:ext cx="171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cript MT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227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5480" y="3357720"/>
            <a:ext cx="9051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a vez que haya reformulado todas las condiciones negativas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Árbol de Problemas a condiciones positivas (objetivos) que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eables y factibles en la realidad, complete la revisión del dia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que muestre las relaciones medio-fin en la forma de un árbol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 es necesario Ud. 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formula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gregar nuevos objetivos (medios) si considera que son pertin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 necesarios para lograr un objetivo (fin) en el nivel inmedi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erior; y eliminar objetivos innecesarios o no real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rramientas de Identificació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nálisis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tudio de caso 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sarrollo del árbol de obje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68360" y="2349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Ventajas del enfoque de M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cilita una mejor comunicación entre tomadores de decisiones, responsables del proyecto y demás partes involucradas en el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a administración y gerencia se benefician de procedimientos normalizados para recoger información y evalu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egura, junto con el seguimiento sistemático, la continuidad del enfoque cuando cambia el personal original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tivos del enfoque </a:t>
            </a: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de M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 objetivo es darle estructura al proceso de planificación y comunicar la información esencial sobre un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 sínt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 ML está orientado a lograr una definición realista y clara de los objetivos en una perspectiva a largo plazo, mejorar la comunicación entre el proyecto y distintos grupos involucrados, definir el área de responsabilidad del equipo del proyecto y establecer indicadores para el seguimiento y evaluación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omentos Enfoque de M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rende 2 momentos o F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Trebuchet MS"/>
              </a:rPr>
              <a:t>Analítico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nálisis de una realidad compleja, pero que a través de una serie de técnicas  se vuelve perceptible y posible de ser tra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Trebuchet MS"/>
              </a:rPr>
              <a:t>Matriz de Planificación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igue a la fase anterior. Comprende una serie de pasos que en conjunto constituyen la estructura integral de un proyecto lógico y fact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MML deber ser desarrollada con la participación de los principales involucrados desde el inicio del pro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be ser modificada y mejorada repetidamente, tanto durante el diseño, como en la ejec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0:01:03Z</dcterms:created>
  <dc:creator>mele</dc:creator>
  <dc:description/>
  <dc:language>en-US</dc:language>
  <cp:lastModifiedBy>Ministerio</cp:lastModifiedBy>
  <dcterms:modified xsi:type="dcterms:W3CDTF">2011-12-13T13:10:46Z</dcterms:modified>
  <cp:revision>78</cp:revision>
  <dc:subject/>
  <dc:title>Marco Lógico para el Diseño de Proyectos</dc:title>
</cp:coreProperties>
</file>