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AE98-BCD6-45AF-AD02-C6981B758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BF9D-D63A-40F3-BBE9-D123D594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37E1-7518-420A-92AF-616354CB3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1B85-8A72-44AF-B397-2C63839A6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AC10-A774-4BEA-A323-FD29592A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A190-C4D7-4448-AE6C-99C40837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C883-9BA8-484A-AC3D-F23E9DDE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87B4-52A5-436F-A157-7D256286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B3E3-C5EF-4C28-B767-69DF4DDB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CAB6-E05A-4514-A11A-2AA64182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94E1-FFA2-4FE4-8252-CAF85BD7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E5DF-9A1F-4BEC-8CDB-7B3F0AAD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41C8-2B3C-4D4D-8CBE-1332EA8D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795B-F3A2-4775-B2CD-15735498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AECD-D5C8-4216-88AA-FA753EA2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80E6-C823-4FB9-9815-0E11084CA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2F83-7BCC-458B-82FB-0DE9E179E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6506-CFE6-4722-A505-896500EC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D02E-FB8D-4A2A-A318-ED6E2BA1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004C-138D-45D8-BFD2-5A0FA54C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65A4-8947-4D56-8D84-EFD81F65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84AA-F55E-4E59-9E89-230684D2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905A-40EC-4290-A94D-54CA0D30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6E76-264E-48F4-814D-A59D1E3A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DDC6-5A43-4F7E-91A6-4BAD480DD4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0091-E68F-4925-A774-3BC78F8ED0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Marco Lógico para el Diseño de Proyec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Mª Elena Riveros 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Repaso Rápi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 la lista que aparece abajo, señale cuá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firmaciones considera VERDADERAS 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lación al SML y la MM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)__ La MML se utiliza sólo al principio del proyecto y no cambia a medida que se ejecuta el proye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)__ La MML  deber ser modificada y mejorada repetidamente a lo largo de las etapas de preparación y ejecución de un proye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)__ El SML ofrece herramientas para la conceptualización, diseño, ejecución, seguimiento de desempeño y evaluación de proyec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)__ La participación de involucrados en la preparación de la MML ocurre sólo al final del pro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Herramientas de Diagnóstic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64000" y="1628640"/>
            <a:ext cx="1224000" cy="1008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43120" y="1700280"/>
            <a:ext cx="134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tu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c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3480" y="3232080"/>
            <a:ext cx="801216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 general, los proyectos son desarrollados para dar respuesta a un problema u  obstáculo al desarro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uchas veces existe consenso de que la situ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ultante es insatisfactoria y se requiere un camb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 situación insatisfactoria se denomina SITUACIÓN ACT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Herramientas de Diagnóstic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1773360"/>
            <a:ext cx="1368360" cy="1295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92720" y="1773360"/>
            <a:ext cx="1295280" cy="1295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19120" y="2060640"/>
            <a:ext cx="134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tu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c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43120" y="1916280"/>
            <a:ext cx="1342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tu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u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se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35280" y="1844640"/>
            <a:ext cx="1728720" cy="1152720"/>
          </a:xfrm>
          <a:prstGeom prst="rightArrow">
            <a:avLst>
              <a:gd name="adj1" fmla="val 50000"/>
              <a:gd name="adj2" fmla="val 37492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08360" y="2060640"/>
            <a:ext cx="154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yecto 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3480" y="3232080"/>
            <a:ext cx="801216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mo la situación actual es insatisfactoria, se presume que existe una situación futura deseada que resultará de la intervención diseñada para abordar todos o algunos de los problemas asociados a la situación act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sta intervención se denomina PROYECTO o PROGRAMA,  es de corto o mediano plazo, y es diseñada para obtener un cambio a mediano o largo plazo requerido para el logro de la situación futura dese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Herramientas de Diagnóstic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40000" y="1773360"/>
            <a:ext cx="1368360" cy="1295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35280" y="1844640"/>
            <a:ext cx="1728720" cy="1152720"/>
          </a:xfrm>
          <a:prstGeom prst="rightArrow">
            <a:avLst>
              <a:gd name="adj1" fmla="val 50000"/>
              <a:gd name="adj2" fmla="val 37492"/>
            </a:avLst>
          </a:prstGeom>
          <a:solidFill>
            <a:srgbClr val="99ff66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92720" y="1773360"/>
            <a:ext cx="1295280" cy="1295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19120" y="2060640"/>
            <a:ext cx="134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tu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c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08360" y="2060640"/>
            <a:ext cx="154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yecto 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43120" y="1916280"/>
            <a:ext cx="1342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tu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u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se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480" y="3232080"/>
            <a:ext cx="801216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isten 2 herramientas de análisis para diagnosticar  la situación actual de la manera más objetiva posib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nálisis de Involuc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nálisis de Probl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demás se usan 2 herramientas adicionales para especificar la situación futura desea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nálisis de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nálisis de Altern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Herramientas de Diagnóstic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jercicio Grupal Nº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omando algún caso o situación de su PI, identifiquen la situación actual sobre la que se quiere interven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Involuc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Objetivo de Aprendiza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Después de finalizar esta sección Ud. ser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capaz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Reconocer cómo aplicar el análisis de involucrados para hacer un diagnóstico preliminar de un determinado problema de desarrollo (problema centra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Involuc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 la 1ª herramienta en el SML para diagnosticar la situación act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 usa tanto en el diseño, como en la ejecución, para aclarar cuáles grupos están directa o indirectamente involucrados en un problema específico de desarrollo, así como para considerar sus intereses, potencial y limit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Involuc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 usa p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veriguar cuáles grupos apoyarían una determinada estrategia para abordar un problema considerado cent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veriguar cuáles grupos serían oposit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l diseño incluye medios para maximizar el apoyo y minimizar la resist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Involuc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a mayor objetividad al proceso de planificación, al considerar diversos puntos de v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menta sentido de pertenencia en beneficiarios y prestatarios, al incluirlos desde el comienzo en el proceso de planif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Involuc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 usa el análisis de involucrados para aclar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uáles grupos están directa o indirectamente involucrados en el problema central seleccion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os intereses respectivos en relación al problema cent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s percepciones de los problemas que causan, o que resultan del problema cent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os mandatos de las organizaciones de involucrados, es decir, la autoridad legal o estatutaria que tiene una organización para utilizar sus recursos para solucionar el problema central (u obstaculizar una solución del mismo); y los recursos con los que cada grupo puede contribuir a una solución (o para obstaculizar una solución determinada) al problema cent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¿Qué es el SML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l SML es “una manera de estructurar los principales elementos de un proyecto, subrayando los lazos lógicos entre insumos previstos, las actividades planeadas y los resultados esperado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l SML es actualmente el sistema más utilizado para el diseño ejecución, seguimiento del desempeño y evaluación de proyec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Involuc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tal incluir ambos grupos de involucr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 bien el grupo de involucrados  a favor del proyecto puede aportar recursos, el grupo que se opone puede utilizar estos recursos para obstaculizar o impedir el proye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1600200"/>
          <a:ext cx="4038480" cy="45306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22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rupos que apoyan la solución propues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rupos que se oponen a la solución propues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Involuc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579640" y="1628640"/>
            <a:ext cx="26607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 inicia el análisis de involucrados con la preparación de un cuadro con 4 columnas y 1 fila para cada grupo específico (no se consideran individuos, sólo grup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24000" y="1628640"/>
          <a:ext cx="4751280" cy="4530960"/>
        </p:xfrm>
        <a:graphic>
          <a:graphicData uri="http://schemas.openxmlformats.org/drawingml/2006/table">
            <a:tbl>
              <a:tblPr/>
              <a:tblGrid>
                <a:gridCol w="1009440"/>
                <a:gridCol w="1113120"/>
                <a:gridCol w="1244520"/>
                <a:gridCol w="1384200"/>
              </a:tblGrid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rup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tere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bl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ercibi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ecursos 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nda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Involuc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Grup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Aquellos directa o indirectamente involucrados o afectados por el problema central y su(s) posible(s) solución(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Una manera para identificar los grupos es usar una tipolog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Por ejemplo, se podrían considerar grupos a las siguientes categorí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Grupos de pob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Organizaciones del sector 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Organizaciones del sector priv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Organizaciones de la sociedad civ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Organizaciones religio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Grupos polí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Organizaciones exter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324000" y="1628640"/>
          <a:ext cx="4751280" cy="4530960"/>
        </p:xfrm>
        <a:graphic>
          <a:graphicData uri="http://schemas.openxmlformats.org/drawingml/2006/table">
            <a:tbl>
              <a:tblPr/>
              <a:tblGrid>
                <a:gridCol w="1009440"/>
                <a:gridCol w="1113120"/>
                <a:gridCol w="1244520"/>
                <a:gridCol w="1384200"/>
              </a:tblGrid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rup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tere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bl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ercibi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ecursos 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nda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rupo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rupo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rupo 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584820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1628640"/>
            <a:ext cx="288144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 la 1ª columna del cuadro de involucrados se incluyen los nombres de los diferentes grupos de involucrados identific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locamos cada grupo en 1 fila difer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Involuc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Involuc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tere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n la 2ª columna del cuadro de involucrados colocamos los intereses de cada grupo en relación al problema cent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o se refiere a todos los intereses que pueda tener un determinado grupo, sino aquellos que tienen relación directa con el problema seleccion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os intereses también pueden reflejar soluciones sugeridas por cada grupo que esté perjudicado por el problema cent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Involuc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oblemas Percibi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n la 3ª columna colocamos los problemas específicos o situaciones negativas, de la manera que son percibidas por el grupo de involucrados en relación con el problema central, en la fila correspond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Involuc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 importante enfatizar que los problemas percibidos deben ser planteados de la manera más negativa posible; no deben constituir soluciones “encubierta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emás las frases deben ser claras, no ambigu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eamos el siguiente ejemp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648320" y="1600200"/>
          <a:ext cx="4038480" cy="21891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21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</a:rPr>
                        <a:t>Incorrecto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 tenemos taller de mantenimien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</a:rPr>
                        <a:t>Correcto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os vehículos están mal mantenid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4648320" y="3941640"/>
          <a:ext cx="4038480" cy="21891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21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</a:rPr>
                        <a:t>Incorrecto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cesos burocráticos para aprobación de proyect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</a:rPr>
                        <a:t>Correcto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rgas demoras para aprobación de proyecto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Involuc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hora pruebe Ud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¿Cuál de los siguientes problemas percibidos  están bien redactad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)__ Largas filas de espera en consulto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)__ Falta personal para cubrir demanda de aten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)__ No hay pestici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)__ La cosecha se está perdiendo debido a las plag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Involuc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73200" y="1816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cursos y Manda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n la 4ª columna del cuadro de involucrados se incluyen los recursos y mandatos de cada involucr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curs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quellos que un grupo puede poner a disposición para contribuir a la solución del problema central (o para bloquear una solución propuest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ueden ser financieros y no financie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 frecuencia los segundos (opinión pública; huelgas, influencias, votación) son más importantes que los prime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Involuc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as organizaciones formales normalmente tiene recursos financieros (su presupuesto) y no financieros, en particular recursos humanos que pueden solucionar el problema de desarrollo (o bloquear la solución propuest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os grupos de población normalmente no tiene recursos financieros. Sin embargo, pueden tener recursos no financieros importantes para contribuir a la solución del problema central (o bloquear la solución propuesta). Incluy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ano de o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nfl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Grupos de 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resión política por medio de vot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Antecedent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l SML fue desarrollado por la Agencia para el Desarrollo Internacional de Estados Unidos (USAID)  a fines de los años 60 y principios de los 70 y luego a principio de los años 80 en Alema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frece herramientas para l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ceptu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jec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guimiento de Desempeño,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 un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Involuc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leccione VERDADERA o FALSA respecto a 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guiente afirm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cursos son aquellos que un grupo puede facilitar para contribuir a una solución (o bloquear una solución propuesta) al problema central. Los recursos pueden ser financieros y no financiero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)__ Verdad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)__ Fal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Involuc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anda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utoridad formal que tiene un grupo de involucrados para dar un servicio o cumplir una función determin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Generalmente corresponden a organizaciones formalmente constituidas y se encuentran en documentos oficiales como estatutos que describen los objetivos o la misión de la organiz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Involuc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n general, los grupos de población no tienen mandatos debido a que no se encuentran formalmente organizados (ejemplos: grupos de mujeres; grupos de discapacitados; grupos de auto ayuda; grupos de tercera edad, otr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Involuc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 modo de conclus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l análisis de involucrados es importante no sólo en el proceso de identificación y diseño del proyecto, sino también es una fuente indispensable de información para la ejecución, seguimiento de desempeño y evaluación del proy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r ello es fundamental mantener esta cuadro actualizado, así como entender bien el papel que juega cada involucrado en la ejecución del proy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Proble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bjetivo de Aprendiza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spués de finalizar esta sección Ud. ser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apaz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n base a los problemas percibidos por los involucrados, reconocer cómo aplicar el análisis de problemas para hacer un diagnós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Proble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l análisis de problemas es una buena herramienta para entender el problema cent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 realiza mediante el desarrollo de un diagrama conocido como árbol de proble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s la 2ª herramienta del ML para diagnosticar la situación act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Proble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 usa p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nalizar la situación actual en el contexto del problema seleccion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dentificar los problemas principales en torno al problema de desarrollo y sus relaciones de causalidad (causa – efecto);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Visualizar las relaciones de causalidad e interrelaciones en un diagrama (Árbol de Problema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Problema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ue desarrollado en base al análisis de sist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 consideran las condiciones negativas percibidas por los involucrados en relación con el problema seleccion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 través de la colocación de los problemas principales de acuerdo con sus relaciones de causa – efecto, así como sus interrelaciones, el árbol de problemas nos ayuda a establecer el “modelo lógico” en el cual estará basado el proy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Proble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¿Cuál es la contribución del árbol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oblem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a definición correcta de las relaciones de causalidad de los problemas permite mejorar el diseño de proyectos, porque es el fundamento del “modelo lógico” en el que se basa la MM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Proble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¿Cómo hacer el análisis de problem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Tome el problema central, escríbalo en una tarjeta y péguelo en la parte superior de la superficie de trabajo (pizarrón u otr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Identifique otros problemas, percibidos por los involucrados, que son causas directas del problema central (el cual se convierte en efecto de esas causa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Siga colocando otros problemas percibidos que son causa del problema central hasta que llegue a las causas que son raí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Determine si algunos problemas percibidos por los involucrados son efectos del problema central y colóquelos en la superficie de trabajo que está por encima del problema centr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Trace líneas con flechas que apunten desde cada problema que es una causa al(los) problema(s) que representan efectos y asegúrese que el diagrama tiene senti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¿Por qué se creó el SML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ran parte de los proyectos carecían de la precisión requerida, incorporando múltiples objetivos no directamente relacionados entre sí, ni con la finalidad última que había dado origen a los mis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s proyectos no estaban siendo ejecutados exitosamente y no quedaba claro el alcance del organismo ejecutor de dichos proye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o había una idea clara de cómo determinar si un proyecto había sido exitoso y tampoco había una base objetiva para comparar lo planeado con lo ejecu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Proble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ntes de analizar paso a paso el árbol de problemas de nues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estudio de caso, repasemos lo que hemos vis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leccione el paso que aparece abajo que NO es parte del proceso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esarrollo del árbol de problemas. Sólo hay 1 respuesta correct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)__ Escriba el problema central  y péguelo en la parte superior de la superficie de trabaj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b)__ Identifique otros problemas, percibidos por los involucrados, que son causas directas del problema central y colóquelos debajo del problema centr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)__ Elimine los problemas que no percibe Ud. o con los cuales no está de acuer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)__ Determine si algunos problemas percibidos por los involucrados son efectos del problema central y colóquelos en la superficie de trabajo que está por encima del problema central, hasta que tenga un diagrama razon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Proble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studio de caso 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esarrollo del árbol de proble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843280" y="2637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Proble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unque el árbol de problemas es u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erramienta poderosa y fácil de utiliz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iene algunas limitac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as causas no tienen ponderaciones de acuerdo con la importancia de su contribución a los efectos percib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Proble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epas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leccione VERDADERO o FALSO en relación a la siguiente afirm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ediante la colocación de los problemas principales de acuerdo con sus relaciones de causa-efecto y sus interrelaciones, el árbol de problemas nos ayuda a establecer el “modelo lógico” en el cual estará basado el proyecto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)__ Fal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)__ Verdade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Repas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lene los espacios en blanco, en forma secuencial, que hacen que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firmación siguiente sea VERDADERA. Marque sólo 1 respue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ediante la colocación de los ____ principales de acuerdo con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laciones de ____ así como sus interrelaciones, el ____ nos ayuda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sclarecer los problemas en que debería estar enfocado el proyecto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rupo; causa-efecto; cuadro de involucr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blemas; medios-fines; árbol de proble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tereses, dependencia; cuadro de involucr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blemas; causa-efecto; árbol de proble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Herramientas de Identificació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bjetivo de Aprendiza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espués de finalizar esta sección Ud. ser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apaz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conocer la importancia de las herramientas de identificación en el S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Herramientas de Diagnóstic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340000" y="1773360"/>
            <a:ext cx="1368360" cy="1295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635280" y="1844640"/>
            <a:ext cx="1728720" cy="1152720"/>
          </a:xfrm>
          <a:prstGeom prst="rightArrow">
            <a:avLst>
              <a:gd name="adj1" fmla="val 50000"/>
              <a:gd name="adj2" fmla="val 3749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92720" y="1773360"/>
            <a:ext cx="1295280" cy="1295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19120" y="2060640"/>
            <a:ext cx="134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tu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c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2060640"/>
            <a:ext cx="154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yecto 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43120" y="1916280"/>
            <a:ext cx="1342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tu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u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se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9640" y="3573360"/>
            <a:ext cx="8012160" cy="32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isten 2 herramientas de análisis para diagnosticar  la situación actual de la manera más objetiva posib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nálisis de Involuc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nálisis de probl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demás se usan 2 herramientas adicionales para especificar la situación futura desea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nálisis de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nálisis de Altern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38080" y="136044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Recordem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Herramientas de Diagnóstic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usan como punto de partida para la identificación del proyecto, una vez que se ha diagnosticado un problema cent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nd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álisis de Objetiv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álisis de Alternativ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Identificación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Obje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bjetivo de Aprendiza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espués de finalizar esta sección Ud. ser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apaz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n base al análisis de problemas, reconocer cómo aplicar la herramienta de análisis de objetivos como punto de partida de la identificación del proye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Identificación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Obje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n el análisis de objetivos convertimos los problemas que aparecen en el árbol de problemas en objetivos o soluciones a dichos problemas, como parte del paso inicial para especificar la Situación Futura “Deseada”, es decir, para identificar un proyecto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Ventajas del enfoque de M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segura planteamiento de preguntas fundamentales y análisis de debilidades, otorgando a los/as tomadores de decisiones una información mejor y más pertin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Guía el análisis sistemático y lógico de elementos claves interrelacionados que constituyen un proyecto bien diseñ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ejora la planificación al resaltar los vínculos entre elementos del proyecto y supuestos para su log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Identificación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Obje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 usa par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Describir una situación que podría existir después de resolver los proble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dentificar las relaciones de tipo medio-fin entre objetiv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Visualizar estas relaciones medio-fin en un diagrama (árbol de objetiv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Identificación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Obje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n lugar de tener las relaciones causa-efecto (árbol de problemas), el diagrama resultante, llamado árbol de objetivos, refleja las relaciones medio-f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rebuchet MS"/>
              </a:rPr>
              <a:t>Pasos a seguir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ara identificar el Fin tome el problema que aparece en el nivel más alto del árbol de problemas y conviértalo en un objetivo (que es una manera de abordar el problema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espués, trabaje hacia abajo del árbol de problemas, para identificar objetivos para cada problema, que se convierten en medios para abordar el problema centr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Identificación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Obje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651640" y="1773360"/>
            <a:ext cx="1511280" cy="115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661000" y="1916280"/>
            <a:ext cx="153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cript MT Bold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76360" y="1773360"/>
            <a:ext cx="1511280" cy="115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44960" y="1773360"/>
            <a:ext cx="1716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cript MT Bold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1280" y="2276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95480" y="3357720"/>
            <a:ext cx="90518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na vez que haya reformulado todas las condiciones negativas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Árbol de Problemas a condiciones positivas (objetivos) que 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seables y factibles en la realidad, complete la revisión del diagra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que muestre las relaciones medio-fin en la forma de un árbol de obje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 es necesario Ud. deb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formular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gregar nuevos objetivos (medios) si considera que son pertinen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y necesarios para lograr un objetivo (fin) en el nivel inmedia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erior; y eliminar objetivos innecesarios o no realis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Identificación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Obje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studio de caso 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esarrollo del árbol de obje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68360" y="234936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rebuchet MS"/>
              </a:rPr>
              <a:t>Ventajas del enfoque de M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acilita una mejor comunicación entre tomadores de decisiones, responsables del proyecto y demás partes involucradas en el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a administración y gerencia se benefician de procedimientos normalizados para recoger información y evaluar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segura, junto con el seguimiento sistemático, la continuidad del enfoque cuando cambia el personal original del proye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bjetivos del enfoque </a:t>
            </a: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de M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u objetivo es darle estructura al proceso de planificación y comunicar la información esencial sobre un proy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 sínte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l ML está orientado a lograr una definición realista y clara de los objetivos en una perspectiva a largo plazo, mejorar la comunicación entre el proyecto y distintos grupos involucrados, definir el área de responsabilidad del equipo del proyecto y establecer indicadores para el seguimiento y evaluación del m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Momentos Enfoque de M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mprende 2 momentos o F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Trebuchet MS"/>
              </a:rPr>
              <a:t>Analítico: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análisis de una realidad compleja, pero que a través de una serie de técnicas  se vuelve perceptible y posible de ser trat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Trebuchet MS"/>
              </a:rPr>
              <a:t>Matriz de Planificación: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sigue a la fase anterior. Comprende una serie de pasos que en conjunto constituyen la estructura integral de un proyecto lógico y facti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M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a MML deber ser desarrollada con la participación de los principales involucrados desde el inicio del proce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ebe ser modificada y mejorada repetidamente, tanto durante el diseño, como en la ejecu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0:01:03Z</dcterms:created>
  <dc:creator>mele</dc:creator>
  <dc:description/>
  <dc:language>en-US</dc:language>
  <cp:lastModifiedBy>Ministerio</cp:lastModifiedBy>
  <dcterms:modified xsi:type="dcterms:W3CDTF">2011-12-13T13:10:46Z</dcterms:modified>
  <cp:revision>78</cp:revision>
  <dc:subject/>
  <dc:title>Marco Lógico para el Diseño de Proyectos</dc:title>
</cp:coreProperties>
</file>