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E11-0EC2-4D8C-848F-DB0D099B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1EA-D7A1-467B-B757-707CB2F3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2FB7-5C19-4D99-98EE-0E4D2AF3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583-C21C-4096-9A62-9DDE7F88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9CA-8641-43DC-9306-6D89B6E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BBA4-3F70-4DC5-B1FF-7304D057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886-CE85-4750-AF6F-103954B8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80A-4B61-4027-BD49-2DDDE60F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1F85-88E3-4D47-87B3-F4596417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59F-F9B9-4380-B72A-E35CD5F9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D5D-E730-4160-8B75-A0461744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A3F-F607-475C-9302-804A077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08D2-5BD6-4327-91D0-D2F7940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DA2B-E7BE-472F-9452-197B7B5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675-76EF-4CA5-92DD-2D8EE068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B807-C9BA-4179-BD5E-E53EC484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73C8-B29F-4639-B481-74464729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F3E-6347-41FC-A660-F580DACE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6FD-26BE-48E7-A09A-95421C6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5A5-3648-43EB-9245-641CDF9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485-E091-4151-AD7C-383FFB48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7B4-C746-46A5-A3E4-6DB142B3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97A-8C89-41B8-9921-4DFC5F42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186-DF28-4C6D-AF25-7E0F6B0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1027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1029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1030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1032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1033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34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035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036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037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038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039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040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041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042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CFC6-169D-4D03-BDA1-975307C299EE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3057-4495-4A8B-8B49-F277EA638C2F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Sistematización de Prácticas Profesional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Momentos del Proceso Metodológic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Unificación de criter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 abordan las CONCEPCIONES de sistematización, y los INTERESES del equipo sistematizador, como también lo que se espera LOGRAR CON EL PROCESO. Es el poner en común lo que se va a realizar, las implicaciones que ello conlleva y los productos y utilidades de la misma sistematización de prácticas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Momentos del Proceso Metodológic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finición de la imagen – objeto de la sistematiza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finición de QUE SE VA A SISTEMATIZAR, implica un primer ordenamiento de la información. Se obtiene DISEÑO DEL PROYECTO DE SISTEMATIZACIÓN, para lo cual es importante identificar fuentes de información y precisar la pregunta eje del proceso. El proyecto focaliza en tanto define objetivos, plantea acuerdos metodológicos y con el plan operativo define recursos y compromisos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Momentos del Proceso Metodológic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onstrucción de la experie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nstituye una segunda mirada a la practica, es donde se DESCRIBE ORDENADAMENTE lo sucedido en la practica pero desde el eje de conocimiento definido, desde la pregunta orientadora de la sistematización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Momentos del Proceso Metodológic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e interpretación de lo sucedido en la experiencia para comprenderl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mplica LA PRODUCCIÓN DE CONOCIMIENTO a partir de la experiencia, exige descomponer y recomponer los elementos de la practica y sus relaciones para comprender la totalidad de la experiencia. “la sistematización produce lecciones y aprendizajes desde y para la practica”.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Momentos del Proceso Metodológic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unicación de nuevos Conocimientos producid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mplica DAR A CONOCER LA SISTEMATIZACIÓN, presentarla a otras personas para que la valoran o la comenten; lo usual es un texto escrito que se puede complementa con videos, cartillas entre otros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Guía Metodológica de sistematización 10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Primer Niv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uperar el proceso ( registros, Documento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terpretar el proceso ( problemas, objetivos y estrategia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aracterizar las etapas de proces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evantamiento de pregunt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aborar un documento de reconstruc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Segundo Niv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limitar el objeto de sistematizació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finir Objetivos / problema a aborda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denar y seleccionar preguntas.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ceptuar problemas, sujetos, intervenciones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Formular pregunta ej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finir periodo de tiempo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Se formula de manera escrita el objeto de sistematizació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496080" indent="-496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ocumento escrito del proceso</a:t>
            </a:r>
            <a:r>
              <a:rPr b="0" lang="es-E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Segundo Niv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2. Reconstrucción de la experiencia desde el obje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3. Análisis de la experie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Periodización de la experie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Hipótesis de acció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Qué sucedió y por qué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Síntesis en un Documento escrito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Segundo Nive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4. Informe Fin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es y nuevas propuest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5. Difusió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resentar los resultados de la sistematizació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Qué es la Sistematización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... Proceso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uperación, tematización y apropiación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de una práctica formativa determinada, que a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lacionar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sistémica e históricamente su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ponentes teórico-práctico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permite a los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sujetos comprender y  explicar los contextos, sentido, fundamentos, lógicas y aspectos problemáticos que presenta la experiencia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con el fin de transformar y cualificar la comprensión, experimentación y expresión de las intervenciones profesiona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Algunas consideraciones sobre la Sistematizac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2362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 toda sistematización le antecede una práct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odo sujeto es sujeto de conocimiento y posee percepciones y saber acumulad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que enriquece la práctic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Algunas consideraciones sobre la Sistematizac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l proceso de sistematización es un proceso de interlocución entre sujetos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donde se negocian discursos, teorías y construcciones cultural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En un proceso de sistematización interesa tanto el proceso como el producto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Las diversas formas de asumir la sistematizac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Sistematización como una recuperación de la experiencia en la práctic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Sistematización como producción de conocimiento (investigación social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 Sistematización como forma de empoderar los sujetos sociales de la práctic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Para qué sistematizar la práctica profesional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ualifica el conocimiento que tengo de la práctica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enera conocimiento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artir del proceso de sistematizació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ualifica la propia práct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en tanto la reinforma permite vivenciarla mejor y mejorar sus resultados. Se retroalimenta desde dos cualidades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ar información o datos sobre la práctica y problematizándol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desde una visión sistémica orientada desde una pregun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Para qué sistematizar la práctica profesional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mpodera a los sujetos que realizan la sistematización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 ahí la opción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orque sean los propios actores de la práctica quienes realicen el proceso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ener una comprensión más profunda de las experiencias que realizamo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 el fin de mejorar nuestra propia práctic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17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  <a:ea typeface="Arial"/>
              </a:rPr>
              <a:t>Para qué sistematizar la práctica profesional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mpartir con otras practicas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similares las enseñanzas surgidas de la  experienci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portar a la reflexión teórica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y en general a la construcción de teoría)</a:t>
            </a:r>
            <a:r>
              <a:rPr b="0" lang="es-E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ocimientos surgidos de practicas sociales concreta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 Narrow"/>
              </a:rPr>
              <a:t>Proceso de la Sistematizació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1. Describi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2. Problematiz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3. Traduci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4. Interpreta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5. Comprend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6. Proponer las accione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7. Actuar</a:t>
            </a: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3:25:31Z</dcterms:created>
  <dc:creator>lopema01</dc:creator>
  <dc:description/>
  <dc:language>en-US</dc:language>
  <cp:lastModifiedBy>Alejandro</cp:lastModifiedBy>
  <dcterms:modified xsi:type="dcterms:W3CDTF">2011-06-02T17:52:50Z</dcterms:modified>
  <cp:revision>14</cp:revision>
  <dc:subject/>
  <dc:title>Sistematización de Prácticas Profesionales</dc:title>
</cp:coreProperties>
</file>