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8287-4F95-442E-A6EC-3EBA2338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3867-86F9-4D23-B5E2-6528AAED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CABF-44C4-4E5E-A75D-90D84B7F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F4BD-622F-41E3-BCF7-70AABC4C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C489-AAF6-4CEA-9F1B-5376D106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6AA3-E0BE-4AD3-A65A-D3056E72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76F1-3E17-4512-B68A-A5695026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9475-15C7-49F4-BF06-DF77815B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82CC-8567-4B1A-A23B-44541D3C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5BC3-C3E3-4B90-9630-66269167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3493-173A-4950-B8D2-F4C40322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396D-9F06-4E3F-A5CC-3D56508F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B408-254C-4329-B080-9D93A586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02EF-1660-4EF3-8875-BDFE6C68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7F74-DB68-4270-AD21-390372A5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60FD-B140-4192-8588-DF18DA30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637C-63A9-4C71-A30A-93A63EB3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6364-2F03-4EB8-9729-C6C23657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7A1-4242-4CB3-9893-2B87E8FA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7A22-AD53-44FC-8D01-BDD4CB13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0687-BFF1-45B4-B5A4-873B7506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524A-B47E-4D50-AF4A-6EE83B26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4DBC-3761-405D-BDF1-EEE92F63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67B-A0CF-4B72-8939-4C97C79F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320B-C883-4558-8062-C2DFC0F70A3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-360 h 2357640"/>
                  <a:gd name="textAreaBottom" fmla="*/ 2357640 h 23576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A28F-47A6-429F-B336-D0930BA80B33}" type="slidenum">
              <a:rPr b="0" lang="es-E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66"/>
                </a:solidFill>
                <a:latin typeface="Trebuchet MS"/>
              </a:rPr>
              <a:t>Sistematización</a:t>
            </a:r>
            <a:br>
              <a:rPr sz="4400"/>
            </a:br>
            <a:r>
              <a:rPr b="1" i="1" lang="es-ES" sz="3600" spc="-1" strike="noStrike">
                <a:solidFill>
                  <a:srgbClr val="006666"/>
                </a:solidFill>
                <a:latin typeface="Trebuchet MS"/>
              </a:rPr>
              <a:t>en el trabajo comunitario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99"/>
                </a:solidFill>
                <a:latin typeface="Trebuchet MS"/>
              </a:rPr>
              <a:t>Mª Elena Rivero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¿Qué sistematizamos?</a:t>
            </a:r>
            <a:br>
              <a:rPr sz="2800"/>
            </a:br>
            <a:r>
              <a:rPr b="0" i="1" lang="es-ES" sz="2800" spc="-1" strike="noStrike">
                <a:solidFill>
                  <a:srgbClr val="006666"/>
                </a:solidFill>
                <a:latin typeface="Trebuchet MS"/>
              </a:rPr>
              <a:t>(nuestro objeto de sistematización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La globalidad de una experienci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Uno o más aspectos de una experienci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La respuesta a una pregunta inicial o a una hipótesis de la intervenció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¿Qué sistematizamos?</a:t>
            </a:r>
            <a:br>
              <a:rPr sz="2800"/>
            </a:br>
            <a:r>
              <a:rPr b="0" i="1" lang="es-ES" sz="2800" spc="-1" strike="noStrike">
                <a:solidFill>
                  <a:srgbClr val="006666"/>
                </a:solidFill>
                <a:latin typeface="Trebuchet MS"/>
              </a:rPr>
              <a:t>(nuestro objeto de sistematización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Trebuchet MS"/>
              </a:rPr>
              <a:t>Contexto:</a:t>
            </a: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 ¿cuándo y en qué condiciones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Trebuchet MS"/>
              </a:rPr>
              <a:t>Marco conceptual:</a:t>
            </a: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 conjunto mínimo de conceptos que plantean el enfoque de trabajo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Trebuchet MS"/>
              </a:rPr>
              <a:t>Propósito:</a:t>
            </a: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 ¿por qué?; ¿para quiénes?; ¿dónde?; ¿para qué vamos a intervenir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Trebuchet MS"/>
              </a:rPr>
              <a:t>Metodología:</a:t>
            </a: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 ¿cómo lo hicimos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3200" spc="-1" strike="noStrike">
                <a:solidFill>
                  <a:srgbClr val="ff0066"/>
                </a:solidFill>
                <a:latin typeface="Trebuchet MS"/>
              </a:rPr>
              <a:t>¿Qué sistematizamos?</a:t>
            </a:r>
            <a:br>
              <a:rPr sz="3200"/>
            </a:br>
            <a:r>
              <a:rPr b="0" i="1" lang="es-ES" sz="3200" spc="-1" strike="noStrike">
                <a:solidFill>
                  <a:srgbClr val="006666"/>
                </a:solidFill>
                <a:latin typeface="Trebuchet MS"/>
              </a:rPr>
              <a:t>(nuestro objeto de sistematización)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Actividades:</a:t>
            </a:r>
            <a:r>
              <a:rPr b="0" lang="es-ES" sz="3200" spc="-1" strike="noStrike">
                <a:solidFill>
                  <a:srgbClr val="006699"/>
                </a:solidFill>
                <a:latin typeface="Trebuchet MS"/>
              </a:rPr>
              <a:t> planificadas y ejecutada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Tiempo:</a:t>
            </a:r>
            <a:r>
              <a:rPr b="0" lang="es-ES" sz="3200" spc="-1" strike="noStrike">
                <a:solidFill>
                  <a:srgbClr val="006699"/>
                </a:solidFill>
                <a:latin typeface="Trebuchet MS"/>
              </a:rPr>
              <a:t> planificado y real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Evaluación y monitoreo:</a:t>
            </a:r>
            <a:r>
              <a:rPr b="0" lang="es-ES" sz="3200" spc="-1" strike="noStrike">
                <a:solidFill>
                  <a:srgbClr val="006699"/>
                </a:solidFill>
                <a:latin typeface="Trebuchet MS"/>
              </a:rPr>
              <a:t> lo que ayuda a responder a la pregunta de cuánto se ha logrado alcanzar de lo propuesto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¿Qué se requiere para sistematizar?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Trebuchet MS"/>
              </a:rPr>
              <a:t>Un cierto tramo del camino recorrido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Trebuchet MS"/>
              </a:rPr>
              <a:t>Acumulación de inquietudes e intereses por profundizar y un ambiente que lo favorezca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Trebuchet MS"/>
              </a:rPr>
              <a:t>Un diagnóstico o cierta precisión, profundización, acerca del problema en el que se interviene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Trebuchet MS"/>
              </a:rPr>
              <a:t>Objetivos claros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Trebuchet MS"/>
              </a:rPr>
              <a:t>Una metodología definida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Trebuchet MS"/>
              </a:rPr>
              <a:t>Algunos resultados preliminares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Trebuchet MS"/>
              </a:rPr>
              <a:t>Un registro de lo realizado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los 3 momentos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971640" y="1557360"/>
            <a:ext cx="247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Punto de Partid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1763640" y="1773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635280" y="2276640"/>
            <a:ext cx="2479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66"/>
                </a:solidFill>
                <a:latin typeface="Webdings"/>
                <a:ea typeface="Webdings"/>
              </a:rPr>
              <a:t>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Dónde Estamo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(camino recorrido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372360" y="4076640"/>
            <a:ext cx="24796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66"/>
                </a:solidFill>
                <a:latin typeface="Webdings"/>
                <a:ea typeface="Webdings"/>
              </a:rPr>
              <a:t>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Las Leccion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Aprendida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los 3 momentos</a:t>
            </a:r>
            <a:br>
              <a:rPr sz="2800"/>
            </a:br>
            <a:r>
              <a:rPr b="0" i="1" lang="es-ES" sz="2800" spc="-1" strike="noStrike">
                <a:solidFill>
                  <a:srgbClr val="006666"/>
                </a:solidFill>
                <a:latin typeface="Trebuchet MS"/>
              </a:rPr>
              <a:t>(lo que se analiza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Trebuchet MS"/>
              </a:rPr>
              <a:t>Primer momento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Condiciones inicial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Cambios propuesto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Forma en que se lograrán dichos cambio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3492360" y="162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los 3 momentos</a:t>
            </a:r>
            <a:br>
              <a:rPr sz="2800"/>
            </a:br>
            <a:r>
              <a:rPr b="0" i="1" lang="es-ES" sz="2800" spc="-1" strike="noStrike">
                <a:solidFill>
                  <a:srgbClr val="006666"/>
                </a:solidFill>
                <a:latin typeface="Trebuchet MS"/>
              </a:rPr>
              <a:t>(lo que se analiza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Trebuchet MS"/>
              </a:rPr>
              <a:t>Segundo momento: </a:t>
            </a:r>
            <a:r>
              <a:rPr b="0" lang="es-ES" sz="3200" spc="-1" strike="noStrike">
                <a:solidFill>
                  <a:srgbClr val="ff0066"/>
                </a:solidFill>
                <a:latin typeface="Webdings"/>
                <a:ea typeface="Webdings"/>
              </a:rPr>
              <a:t>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Las actividades realizada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Las condiciones para su realizació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Verificación de cambio de las condicion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Problemas enfrentado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Lecciones aprendida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los 3 momentos</a:t>
            </a:r>
            <a:br>
              <a:rPr sz="2800"/>
            </a:br>
            <a:r>
              <a:rPr b="0" i="1" lang="es-ES" sz="2800" spc="-1" strike="noStrike">
                <a:solidFill>
                  <a:srgbClr val="006666"/>
                </a:solidFill>
                <a:latin typeface="Trebuchet MS"/>
              </a:rPr>
              <a:t>(lo que se analiza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Trebuchet MS"/>
              </a:rPr>
              <a:t>Segundo momento: </a:t>
            </a:r>
            <a:r>
              <a:rPr b="0" lang="es-ES" sz="2800" spc="-1" strike="noStrike">
                <a:solidFill>
                  <a:srgbClr val="ff0066"/>
                </a:solidFill>
                <a:latin typeface="Webdings"/>
                <a:ea typeface="Webdings"/>
              </a:rPr>
              <a:t>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El camino recorrido por la experienci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Trebuchet MS"/>
              </a:rPr>
              <a:t>Se señalan los hitos y hechos más importantes que se dieron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Trebuchet MS"/>
              </a:rPr>
              <a:t>Se describen estos hitos y hecho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Trebuchet MS"/>
              </a:rPr>
              <a:t>Se describe el contexto en el que se dieron (coyuntura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Trebuchet MS"/>
              </a:rPr>
              <a:t>Se describen personas e instituciones involucrada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Trebuchet MS"/>
              </a:rPr>
              <a:t>Se describe la capacidad de reaccionar ante los hecho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Trebuchet MS"/>
              </a:rPr>
              <a:t>Se identifican nuevas actividades ejecutadas y se hace una representación gráfica de ésta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400" spc="-1" strike="noStrike">
                <a:solidFill>
                  <a:srgbClr val="ff0066"/>
                </a:solidFill>
                <a:latin typeface="Trebuchet MS"/>
              </a:rPr>
              <a:t>los 3 momentos</a:t>
            </a:r>
            <a:br>
              <a:rPr sz="2400"/>
            </a:br>
            <a:r>
              <a:rPr b="0" i="1" lang="es-ES" sz="2400" spc="-1" strike="noStrike">
                <a:solidFill>
                  <a:srgbClr val="006666"/>
                </a:solidFill>
                <a:latin typeface="Trebuchet MS"/>
              </a:rPr>
              <a:t>(lo que se analiza)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Trebuchet MS"/>
              </a:rPr>
              <a:t>Tercer momento: </a:t>
            </a:r>
            <a:r>
              <a:rPr b="0" lang="es-ES" sz="3200" spc="-1" strike="noStrike">
                <a:solidFill>
                  <a:srgbClr val="ff0066"/>
                </a:solidFill>
                <a:latin typeface="Webdings"/>
                <a:ea typeface="Webdings"/>
              </a:rPr>
              <a:t>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Coherencia entre las actividades realizada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Contradicciones encontrada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Correspondencia entre acciones iniciales y acciones realizada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Pertinencia y eficacia de los contenidos y métodos aplicado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¿Cómo se construye?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Se describe la experiencia en forma globa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Se distinguen los componentes de la experiencia y su interacción (mapa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Cada componente es un campo de informació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Se recuperan dudas, inquietudes, interrogantes y reflexiones relativas a los componentes o a la globalidad a las que nos interesa dar respuest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¿Qué es?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Es construir nuevo conocimiento a partir de la recuperación de una experienci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Es hacer una reflexión teniendo como punto de partida la propia práctic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Es realizar un análisis organizado de la propia experienci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Es comunicar o dar cuenta lo realizado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¿Cómo se construye?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Se confronta la realidad con el marco conceptual escogido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Se considera la experiencia como una pregunta a la que se irá dando respuesta con el desarrollo de la experiencia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Se trata de una guía con pasos a seguir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¿Cómo se construye?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No existe una sola manera o método para sistematizar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La ETOUCh ha adoptado una metodologí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Estructura sugerid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Verdana"/>
              </a:rPr>
              <a:t>Formal:</a:t>
            </a: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 Tapa e Índic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Verdana"/>
              </a:rPr>
              <a:t>Introducción</a:t>
            </a: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 (breve reseña de la experiencia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Verdana"/>
              </a:rPr>
              <a:t>Antecedentes</a:t>
            </a: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 de la experiencia (contexto en que se desarrolla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Verdana"/>
              </a:rPr>
              <a:t>Descripción</a:t>
            </a: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 de situación problem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Verdana"/>
              </a:rPr>
              <a:t>Solución propuesta</a:t>
            </a: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 (descripción de diseño global; incluye marco conceptual o teórico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Verdana"/>
              </a:rPr>
              <a:t>Objetivos</a:t>
            </a: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 de la intervención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Estructura sugerid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Actividade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Carta Gantt o cronograma (cuando se requiera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Resultados – impacto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Análisis de la experiencia (sus resultados, sustentabilidad, logros, obstáculos, facilitadores, etc.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Reflexiones – conclusiones – síntesi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Anexos (información que se considera valiosa o complementaria, pero no imprescindible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3200" spc="-1" strike="noStrike">
                <a:solidFill>
                  <a:srgbClr val="ff0066"/>
                </a:solidFill>
                <a:latin typeface="Trebuchet MS"/>
              </a:rPr>
              <a:t>otra estructura sugerida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El gran resumen de nuestra experienci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Se construye una matriz integradora que conteng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Trebuchet MS"/>
              </a:rPr>
              <a:t>Aspectos a sistematizar y los momentos de la mism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Trebuchet MS"/>
              </a:rPr>
              <a:t>El futuro: qué deseamos para nuestra experiencia, señalando metas y estrategia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369720" y="289080"/>
            <a:ext cx="8404560" cy="62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Resultado, el documento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Verdana"/>
              </a:rPr>
              <a:t>El documento puede ser escrito, audiovisual u otro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Verdana"/>
              </a:rPr>
              <a:t>Dirigido a un público específico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Brev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Natura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Contundent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De fácil lectur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De fácil comprensió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Atractivo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¿Qué es?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Es una forma de aprender de nuestra experiencia en forma ordenada y metódic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Implica investigar para interpretar los hechos que forman parte de la experiencia que estamos sistematizando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Es un proceso riguroso, basado en el método científico. Usa procedimientos o técnicas propias de la investigación, tales como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4" marL="1913040" indent="-21240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Trebuchet MS"/>
              </a:rPr>
              <a:t>Entrevista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4" marL="1913040" indent="-21240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Trebuchet MS"/>
              </a:rPr>
              <a:t>Recopilación y ordenamiento de dato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4" marL="1913040" indent="-21240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Trebuchet MS"/>
              </a:rPr>
              <a:t>Otro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Articula la descripción, con el análisis de situación y la evaluació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¿Qué es?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6666"/>
                </a:solidFill>
                <a:latin typeface="Trebuchet MS"/>
              </a:rPr>
              <a:t>La sistematización es una invitación a aprovechar mejor la riqueza de nuestras experiencia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¿Para qué?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Para comunicar una experienci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Para tomar conciencia de lo realizado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Para comprender mejor los factores involucrados en una experiencia (sociales, económicos, políticos, otros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Para mejorar la propia práctic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¿Para qué?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Para evitar que una experiencia se pierd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Como “antídoto” frente al “activismo”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Con el fin de ser un aporte a experiencias similare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Para producir conocimiento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Para dar un marco a futuras acciones que sean sustentables en el tiempo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¿Para qué?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Para responder a interrogantes sobre el grado de efectividad de las acciones ejecutada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En momentos claves, ayuda a identificar dificultades y aprovechar las ventaja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Favorece la comprensión de los fundamentos implícitos y explícitos que guían la experienci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Dos aproximacione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Trebuchet MS"/>
              </a:rPr>
              <a:t>Oscar Jar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Tener una comprensión más profunda de lo que se hac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Compartir con otros prácticas similares y enseñanzas obtenida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Aportar a la reflexión teórica aquellos conocimientos derivados de las experiencias vivida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Dos aproximacione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Trebuchet MS"/>
              </a:rPr>
              <a:t>Carlos Brenes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Importancia de valorar y colaborar en el crecimiento de la autoestima de las personas protagonistas de la experiencia vivida, que muchas veces no es visibl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Importancia de cultivar y reforzar las propias capacidades de las personas protagonistas para la acción - reflexión que conduce a la transformació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8T18:55:57Z</dcterms:created>
  <dc:creator>mele</dc:creator>
  <dc:description/>
  <dc:language>en-US</dc:language>
  <cp:lastModifiedBy>Alejandro</cp:lastModifiedBy>
  <dcterms:modified xsi:type="dcterms:W3CDTF">2011-06-02T17:53:19Z</dcterms:modified>
  <cp:revision>26</cp:revision>
  <dc:subject/>
  <dc:title>Sistematización</dc:title>
</cp:coreProperties>
</file>