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123-D561-4DB4-9B3D-1C171B3C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2A3-F763-476E-903A-BA28F187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985-315E-4E50-BF40-93432B4D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06-C2DF-454A-9164-0557090D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494-CB16-42C8-8650-1D225355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55D-682A-4F13-A080-AA0D2F1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4137-EFD5-4BA7-A4B2-27E81CC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6433-76E2-42DC-B5C9-9E7420A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C47-5C8D-4EC6-B1F9-4384741B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5108-B324-47A5-B139-CAFF9CE6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97E-A09B-4C57-BDB5-775129CF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36E-A30A-47C3-A0F4-4D3D170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D82-02AA-4B47-8516-15ED981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8D9-296B-411C-8001-1D2A293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A1CE-AFCA-4662-9D00-3481E7C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21E8-16AC-471D-A27B-530ABCCA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0722-DADF-422F-85C5-41C91E1B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E57-CD29-4C39-850F-582CCDF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8D0-0EA2-40D5-84B7-7C481824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B3C-9965-4A78-BB8D-E49C57F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B9C-7D53-44CE-90DB-59F6CAC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CDD-D95B-4570-BB8D-F52CC6C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447-4CEA-4F5B-AE2F-A738692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C71-A15B-4229-83AE-E2BBE2D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3D1-4754-4198-9236-9FFD3E8790F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A72B-3D17-4365-B6EB-9A824FEDA7D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Bases para la formulación de un Plan Estratég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lementos de un 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tedec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criben los propósitos de un determinado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virán como criterio para la selección de curso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ueden referirse a situaciones deseadas o valores que se desea implan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os y Preci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ducentes a un plan de acción v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Objetiv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ueden ser Generales o Específ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demos encontr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Producto: Bien o servicio entregado a la comunidad. N° de consultas, sesiones educativa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Efectos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bio de conducta esperado o inesperado como consecuencia de la utilización de los productos. Bajo consumo de grasas saturadas, realización de actividad física moderada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Proceso: Orientados a mejorar el proceso de gestión de las acciones en march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O. de Impacto: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dificación en la condición biológica y/o socioeconómica de la población,  como consecuencia de los efectos. Disminución de prevalencia de Obesi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que se pretende logr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medidas especificas de log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ienen periodo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enerales o especif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producto, efecto e imp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Formulación de Meta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laras y Precis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presadas en una dimensión tempor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valu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alis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41680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comuna de Providencia, al año 2009, una de sus prioridades de intervención fue las Enfermedades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2492280"/>
          <a:ext cx="8798040" cy="3702240"/>
        </p:xfrm>
        <a:graphic>
          <a:graphicData uri="http://schemas.openxmlformats.org/drawingml/2006/table">
            <a:tbl>
              <a:tblPr/>
              <a:tblGrid>
                <a:gridCol w="781200"/>
                <a:gridCol w="3540240"/>
                <a:gridCol w="44766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321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A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los pacientes HT bajo control adecuen su ingesta de sodio a la recomendación entregada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a los pacientes HT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la prevalencia de HTA descompensada en un 5%, en un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que al menos un 10% de los pacientes HT bajo control adecuen su ingesta de sodio a la recomendación entregada, entre un control y otro. 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er la cobertura de los controles nutricionales en el 85%, durante el año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voy a realizar para lograr mis objetivos y m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sulta nutricional con consejer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trol S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pervisión PNAC Y PA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un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quien lo va a hacer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hrs/ s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0 hr/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sponde a la pregunta ¿con qué lo va a hac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expresa en cant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calcula para cada a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ulta Nutricional </a:t>
            </a:r>
            <a:r>
              <a:rPr b="0" lang="es-CL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 Box equip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144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1981080"/>
            <a:ext cx="2133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PROGNOS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3429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OBJETIVOS</a:t>
            </a: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PECIF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2971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ATEG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3434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LITIC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43434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OGRAM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4864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Y 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5840" y="260280"/>
            <a:ext cx="451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METOD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213336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038480"/>
            <a:ext cx="21337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ALISI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OHERENCI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3504960" y="1371240"/>
            <a:ext cx="3810600" cy="610200"/>
          </a:xfrm>
          <a:prstGeom prst="curvedConnector2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1" idx="2"/>
          </p:cNvCxnSpPr>
          <p:nvPr/>
        </p:nvCxnSpPr>
        <p:spPr>
          <a:xfrm>
            <a:off x="4419360" y="2361960"/>
            <a:ext cx="1905480" cy="24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endCxn id="93" idx="3"/>
          </p:cNvCxnSpPr>
          <p:nvPr/>
        </p:nvCxnSpPr>
        <p:spPr>
          <a:xfrm>
            <a:off x="3505320" y="3184560"/>
            <a:ext cx="3056400" cy="32400"/>
          </a:xfrm>
          <a:prstGeom prst="curvedConnector5">
            <a:avLst>
              <a:gd name="adj1" fmla="val 44881"/>
              <a:gd name="adj2" fmla="val 744943"/>
              <a:gd name="adj3" fmla="val 44881"/>
            </a:avLst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657240" y="5638320"/>
            <a:ext cx="3810600" cy="45792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8" idx="3"/>
          </p:cNvCxnSpPr>
          <p:nvPr/>
        </p:nvCxnSpPr>
        <p:spPr>
          <a:xfrm rot="5400000">
            <a:off x="3237480" y="5371920"/>
            <a:ext cx="91512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 rot="16200000">
            <a:off x="989640" y="5333760"/>
            <a:ext cx="838800" cy="2293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161520" y="3543120"/>
            <a:ext cx="457920" cy="114372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5400000">
            <a:off x="1599480" y="3581280"/>
            <a:ext cx="457920" cy="1067760"/>
          </a:xfrm>
          <a:prstGeom prst="bentConnector3">
            <a:avLst>
              <a:gd name="adj1" fmla="val 4996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2590920" y="388584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1" idx="3"/>
            <a:endCxn id="96" idx="2"/>
          </p:cNvCxnSpPr>
          <p:nvPr/>
        </p:nvCxnSpPr>
        <p:spPr>
          <a:xfrm flipV="1" rot="16200000">
            <a:off x="3996360" y="2631960"/>
            <a:ext cx="244800" cy="5037840"/>
          </a:xfrm>
          <a:prstGeom prst="curvedConnector5">
            <a:avLst>
              <a:gd name="adj1" fmla="val -48011"/>
              <a:gd name="adj2" fmla="val 49996"/>
              <a:gd name="adj3" fmla="val -48011"/>
            </a:avLst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590920" y="1828800"/>
            <a:ext cx="0" cy="304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2590920"/>
            <a:ext cx="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95" idx="3"/>
            <a:endCxn id="101" idx="0"/>
          </p:cNvCxnSpPr>
          <p:nvPr/>
        </p:nvCxnSpPr>
        <p:spPr>
          <a:xfrm>
            <a:off x="3504960" y="3428640"/>
            <a:ext cx="3886920" cy="610200"/>
          </a:xfrm>
          <a:prstGeom prst="curvedConnector2">
            <a:avLst/>
          </a:prstGeom>
          <a:ln w="9360">
            <a:solidFill>
              <a:srgbClr val="336666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707880" y="624852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257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1.POLITICAS NACIONA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32416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2.ANALISIS DE 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STRUCTURA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UNCIONAMIENT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L SISTEM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38156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6.METOD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44824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5.INSTRUMENT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SPON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8156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4.CURSOS D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CC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OSIB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40048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3.DEMANDAS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SPIRACI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09960"/>
            <a:ext cx="25146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7" idx="1"/>
            <a:endCxn id="118" idx="0"/>
          </p:cNvCxnSpPr>
          <p:nvPr/>
        </p:nvCxnSpPr>
        <p:spPr>
          <a:xfrm flipV="1" rot="10800000">
            <a:off x="2171160" y="1599120"/>
            <a:ext cx="1028880" cy="72468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3"/>
            <a:endCxn id="122" idx="0"/>
          </p:cNvCxnSpPr>
          <p:nvPr/>
        </p:nvCxnSpPr>
        <p:spPr>
          <a:xfrm>
            <a:off x="6705360" y="1599840"/>
            <a:ext cx="267120" cy="80100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2"/>
          </p:cNvCxnSpPr>
          <p:nvPr/>
        </p:nvCxnSpPr>
        <p:spPr>
          <a:xfrm rot="10800000">
            <a:off x="2056680" y="5371560"/>
            <a:ext cx="991440" cy="5720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0" idx="3"/>
          </p:cNvCxnSpPr>
          <p:nvPr/>
        </p:nvCxnSpPr>
        <p:spPr>
          <a:xfrm rot="5400000">
            <a:off x="5828760" y="5105160"/>
            <a:ext cx="572040" cy="110556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2"/>
            <a:endCxn id="121" idx="1"/>
          </p:cNvCxnSpPr>
          <p:nvPr/>
        </p:nvCxnSpPr>
        <p:spPr>
          <a:xfrm flipH="1" rot="16200000">
            <a:off x="3238560" y="2400120"/>
            <a:ext cx="1410480" cy="3543840"/>
          </a:xfrm>
          <a:prstGeom prst="curved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2"/>
            <a:endCxn id="121" idx="0"/>
          </p:cNvCxnSpPr>
          <p:nvPr/>
        </p:nvCxnSpPr>
        <p:spPr>
          <a:xfrm rot="5400000">
            <a:off x="6361920" y="377172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1"/>
            <a:endCxn id="118" idx="1"/>
          </p:cNvCxnSpPr>
          <p:nvPr/>
        </p:nvCxnSpPr>
        <p:spPr>
          <a:xfrm flipH="1" rot="10800000">
            <a:off x="914040" y="289476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336666"/>
            </a:solidFill>
            <a:prstDash val="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707880" y="6172200"/>
            <a:ext cx="2158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imes New Roman"/>
              </a:rPr>
              <a:t>MIDEPLAN -1995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79200" y="298440"/>
            <a:ext cx="458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Verdana"/>
              </a:rPr>
              <a:t>PROCESO DE PLANIFICACIO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230480"/>
            <a:ext cx="3505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iagnostico Alimentari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Nutricion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86064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cursos de ac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515772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Imagen Objeti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Definición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prioridad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2133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Análisis d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Facti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205000"/>
            <a:ext cx="22860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Seguimiento y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66"/>
                </a:solidFill>
                <a:latin typeface="Verdana"/>
              </a:rPr>
              <a:t>evalu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6100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Objetivo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61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Formulación de Metas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97360"/>
            <a:ext cx="5867280" cy="410364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66"/>
                </a:solidFill>
                <a:latin typeface="Verdana"/>
              </a:rPr>
              <a:t>Plan de trabaj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ocumento que materializa el proceso de Planific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fine el futuro deseado por la institución y las acciones necesarias para lograr ese futu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ermite establecer acuerdos y compromisos institucionales, en torno a determinados resultados espe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rdena las iniciativas del equipo planific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biera considerar iniciativas orientadas a lograra una mayor efectividad en la disminución de problemas nutri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discute en t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or qué se va a actu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Para qu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é se va 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en esta dirig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ómo se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Quien lo va ha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on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Cuándo y don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y necesidades de la población son ilimitadas y los recursos esca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problemas de salud prevalentes van cambiando en 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acciones de salud son por naturaleza complej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o con l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odelo de Salud Integral con enfoque familiar y comunitario se debe expresar en todos los momentos de la planificación, de modo que lo que se proponga realizar el equipo local considere a las personas, familias y comunidad como recursos para la mantención y recuperación de la salu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5:15:41Z</dcterms:created>
  <dc:creator>Usuario</dc:creator>
  <dc:description/>
  <dc:language>en-US</dc:language>
  <cp:lastModifiedBy>Usuario</cp:lastModifiedBy>
  <dcterms:modified xsi:type="dcterms:W3CDTF">2011-03-10T12:53:24Z</dcterms:modified>
  <cp:revision>20</cp:revision>
  <dc:subject/>
  <dc:title>Bases para la formulación de un Plan Estratégico</dc:title>
</cp:coreProperties>
</file>